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394-A305-4EE8-80DF-34DEF4F5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9D5-77A4-4DF4-9DB0-AD20591B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9948-A42A-456B-8A19-E8B265EB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242-96BB-4B5C-9C9A-C16BBA3D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892C1-8943-45A5-833A-2907E3C5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5E0DC-8B9A-4C72-85A9-1A7AB236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86413-1E9A-42AB-BBC0-7DB81754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1F17E-BDF0-4BDB-BF78-021DD798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5F0CF-9C34-4B1B-B68D-9A8D3145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C248F-3679-4165-8071-C15D11A8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2DF35-5C81-498D-860B-222B98BC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DCF-4A72-42EF-A170-91656680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E96F7-93F5-4CC6-8C91-5C36DD24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B6979-8AD9-4741-AB2E-81B361F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C545E-302D-45BB-8519-0BCC7708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AF153-CD74-4DFE-8197-3101C0C7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FBC95-6263-40D8-9AF6-2C8F9CAB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889-D7AA-41A2-85E9-9F0843F3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761-1953-4F47-BCFA-B5D8A1C0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271-B34C-4BD8-92AB-93151C96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5CE-3C6D-4848-8B38-699A3163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BCC-2915-4008-BD4A-7E3DA97B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7AF-30B4-4E84-AA8D-2E62AF5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072-8498-405F-80EA-10D53481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E0BA-BB36-4BCF-AFE0-4665B64DDF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59E1-92D0-4698-9878-84DBD2DAC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pener: Get a packet and scantron for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 the triangle described on the dire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identify and describe the parts of a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Circl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s the set of all points in a plane that are the same distance from a point called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en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adiu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r) is the distance from the center to any point on the circl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iamete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d) is the distance across the circle through its center. (diameter is twice the radi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5638680"/>
            <a:ext cx="75960" cy="76320"/>
          </a:xfrm>
          <a:prstGeom prst="ellipse">
            <a:avLst/>
          </a:prstGeom>
          <a:solidFill>
            <a:srgbClr val="33cccc">
              <a:alpha val="31000"/>
            </a:srgbClr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276720" y="4800600"/>
            <a:ext cx="1904760" cy="1676520"/>
            <a:chOff x="3276720" y="4800600"/>
            <a:chExt cx="1904760" cy="1676520"/>
          </a:xfrm>
        </p:grpSpPr>
        <p:sp>
          <p:nvSpPr>
            <p:cNvPr id="91" name=""/>
            <p:cNvSpPr/>
            <p:nvPr/>
          </p:nvSpPr>
          <p:spPr>
            <a:xfrm>
              <a:off x="3276720" y="4800600"/>
              <a:ext cx="190476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267080" y="5181480"/>
              <a:ext cx="762120" cy="457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78160" y="4800600"/>
            <a:ext cx="76320" cy="16765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2920" y="4911840"/>
            <a:ext cx="1276200" cy="1438200"/>
          </a:xfrm>
          <a:custGeom>
            <a:avLst/>
            <a:gdLst/>
            <a:ahLst/>
            <a:rect l="l" t="t" r="r" b="b"/>
            <a:pathLst>
              <a:path w="3548" h="3994">
                <a:moveTo>
                  <a:pt x="11757" y="15701"/>
                </a:moveTo>
                <a:cubicBezTo>
                  <a:pt x="11694" y="15701"/>
                  <a:pt x="11714" y="15730"/>
                  <a:pt x="11683" y="15751"/>
                </a:cubicBezTo>
                <a:cubicBezTo>
                  <a:pt x="11637" y="15781"/>
                  <a:pt x="11633" y="15825"/>
                  <a:pt x="11708" y="15801"/>
                </a:cubicBezTo>
                <a:cubicBezTo>
                  <a:pt x="11708" y="15739"/>
                  <a:pt x="11722" y="15726"/>
                  <a:pt x="11658" y="15726"/>
                </a:cubicBezTo>
                <a:cubicBezTo>
                  <a:pt x="11646" y="15729"/>
                  <a:pt x="11567" y="15784"/>
                  <a:pt x="11609" y="15801"/>
                </a:cubicBezTo>
                <a:cubicBezTo>
                  <a:pt x="11683" y="15831"/>
                  <a:pt x="11717" y="15790"/>
                  <a:pt x="11733" y="15726"/>
                </a:cubicBezTo>
                <a:cubicBezTo>
                  <a:pt x="11741" y="15693"/>
                  <a:pt x="11667" y="15607"/>
                  <a:pt x="11633" y="15627"/>
                </a:cubicBezTo>
                <a:cubicBezTo>
                  <a:pt x="11597" y="15648"/>
                  <a:pt x="11610" y="15722"/>
                  <a:pt x="11633" y="15751"/>
                </a:cubicBezTo>
                <a:cubicBezTo>
                  <a:pt x="11667" y="15794"/>
                  <a:pt x="11674" y="15776"/>
                  <a:pt x="11708" y="15751"/>
                </a:cubicBezTo>
                <a:cubicBezTo>
                  <a:pt x="11742" y="15717"/>
                  <a:pt x="11713" y="15701"/>
                  <a:pt x="11658" y="15701"/>
                </a:cubicBezTo>
                <a:cubicBezTo>
                  <a:pt x="11633" y="15701"/>
                  <a:pt x="11625" y="15701"/>
                  <a:pt x="11633" y="15726"/>
                </a:cubicBezTo>
                <a:cubicBezTo>
                  <a:pt x="11645" y="15776"/>
                  <a:pt x="11657" y="15776"/>
                  <a:pt x="11708" y="15776"/>
                </a:cubicBezTo>
                <a:cubicBezTo>
                  <a:pt x="11724" y="15776"/>
                  <a:pt x="11741" y="15776"/>
                  <a:pt x="11757" y="15776"/>
                </a:cubicBezTo>
                <a:cubicBezTo>
                  <a:pt x="11757" y="15737"/>
                  <a:pt x="11704" y="15683"/>
                  <a:pt x="11683" y="15726"/>
                </a:cubicBezTo>
                <a:cubicBezTo>
                  <a:pt x="11658" y="15777"/>
                  <a:pt x="11708" y="15801"/>
                  <a:pt x="11708" y="15726"/>
                </a:cubicBezTo>
                <a:cubicBezTo>
                  <a:pt x="11708" y="15653"/>
                  <a:pt x="11674" y="15793"/>
                  <a:pt x="11708" y="15776"/>
                </a:cubicBezTo>
                <a:cubicBezTo>
                  <a:pt x="11709" y="15775"/>
                  <a:pt x="11708" y="15678"/>
                  <a:pt x="11708" y="15751"/>
                </a:cubicBezTo>
              </a:path>
              <a:path w="3548" h="3994">
                <a:moveTo>
                  <a:pt x="10319" y="16173"/>
                </a:moveTo>
                <a:cubicBezTo>
                  <a:pt x="10319" y="16137"/>
                  <a:pt x="10314" y="16086"/>
                  <a:pt x="10269" y="16073"/>
                </a:cubicBezTo>
                <a:cubicBezTo>
                  <a:pt x="10198" y="16052"/>
                  <a:pt x="10154" y="16073"/>
                  <a:pt x="10145" y="16148"/>
                </a:cubicBezTo>
                <a:cubicBezTo>
                  <a:pt x="10133" y="16249"/>
                  <a:pt x="10097" y="16508"/>
                  <a:pt x="10244" y="16520"/>
                </a:cubicBezTo>
                <a:cubicBezTo>
                  <a:pt x="10322" y="16494"/>
                  <a:pt x="10350" y="16484"/>
                  <a:pt x="10393" y="16446"/>
                </a:cubicBezTo>
              </a:path>
              <a:path w="3548" h="3994">
                <a:moveTo>
                  <a:pt x="10468" y="16173"/>
                </a:moveTo>
                <a:cubicBezTo>
                  <a:pt x="10502" y="16129"/>
                  <a:pt x="10527" y="16088"/>
                  <a:pt x="10567" y="16049"/>
                </a:cubicBezTo>
                <a:cubicBezTo>
                  <a:pt x="10502" y="16096"/>
                  <a:pt x="10496" y="16101"/>
                  <a:pt x="10492" y="16197"/>
                </a:cubicBezTo>
                <a:cubicBezTo>
                  <a:pt x="10492" y="16265"/>
                  <a:pt x="10489" y="16284"/>
                  <a:pt x="10517" y="16321"/>
                </a:cubicBezTo>
                <a:cubicBezTo>
                  <a:pt x="10648" y="16300"/>
                  <a:pt x="10593" y="16302"/>
                  <a:pt x="10666" y="16173"/>
                </a:cubicBezTo>
              </a:path>
              <a:path w="3548" h="3994">
                <a:moveTo>
                  <a:pt x="10666" y="16098"/>
                </a:moveTo>
                <a:cubicBezTo>
                  <a:pt x="10688" y="16142"/>
                  <a:pt x="10691" y="16154"/>
                  <a:pt x="10716" y="16173"/>
                </a:cubicBezTo>
                <a:cubicBezTo>
                  <a:pt x="10701" y="16084"/>
                  <a:pt x="10679" y="16054"/>
                  <a:pt x="10691" y="15974"/>
                </a:cubicBezTo>
                <a:cubicBezTo>
                  <a:pt x="10691" y="15966"/>
                  <a:pt x="10691" y="15957"/>
                  <a:pt x="10691" y="15949"/>
                </a:cubicBezTo>
                <a:cubicBezTo>
                  <a:pt x="10778" y="15997"/>
                  <a:pt x="10815" y="16035"/>
                  <a:pt x="10864" y="16123"/>
                </a:cubicBezTo>
              </a:path>
              <a:path w="3548" h="3994">
                <a:moveTo>
                  <a:pt x="10864" y="15677"/>
                </a:moveTo>
                <a:cubicBezTo>
                  <a:pt x="10928" y="15782"/>
                  <a:pt x="10987" y="15901"/>
                  <a:pt x="11063" y="15999"/>
                </a:cubicBezTo>
                <a:cubicBezTo>
                  <a:pt x="11079" y="16016"/>
                  <a:pt x="11096" y="16032"/>
                  <a:pt x="11112" y="16049"/>
                </a:cubicBezTo>
              </a:path>
              <a:path w="3548" h="3994">
                <a:moveTo>
                  <a:pt x="10939" y="15974"/>
                </a:moveTo>
                <a:cubicBezTo>
                  <a:pt x="11021" y="15947"/>
                  <a:pt x="11104" y="15888"/>
                  <a:pt x="11187" y="15850"/>
                </a:cubicBezTo>
                <a:cubicBezTo>
                  <a:pt x="11247" y="15822"/>
                  <a:pt x="11237" y="15829"/>
                  <a:pt x="11237" y="15776"/>
                </a:cubicBezTo>
                <a:cubicBezTo>
                  <a:pt x="11217" y="15769"/>
                  <a:pt x="11157" y="15739"/>
                  <a:pt x="11162" y="15825"/>
                </a:cubicBezTo>
                <a:cubicBezTo>
                  <a:pt x="11167" y="15909"/>
                  <a:pt x="11299" y="15971"/>
                  <a:pt x="11361" y="15900"/>
                </a:cubicBezTo>
                <a:cubicBezTo>
                  <a:pt x="11400" y="15856"/>
                  <a:pt x="11385" y="15753"/>
                  <a:pt x="11385" y="15701"/>
                </a:cubicBezTo>
                <a:cubicBezTo>
                  <a:pt x="11415" y="15821"/>
                  <a:pt x="11404" y="15662"/>
                  <a:pt x="11410" y="15627"/>
                </a:cubicBezTo>
                <a:cubicBezTo>
                  <a:pt x="11430" y="15567"/>
                  <a:pt x="11429" y="15552"/>
                  <a:pt x="11460" y="15528"/>
                </a:cubicBezTo>
              </a:path>
              <a:path w="3548" h="3994">
                <a:moveTo>
                  <a:pt x="12303" y="15007"/>
                </a:moveTo>
                <a:cubicBezTo>
                  <a:pt x="12266" y="15080"/>
                  <a:pt x="12341" y="15186"/>
                  <a:pt x="12378" y="15280"/>
                </a:cubicBezTo>
                <a:cubicBezTo>
                  <a:pt x="12378" y="15288"/>
                  <a:pt x="12378" y="15296"/>
                  <a:pt x="12378" y="15304"/>
                </a:cubicBezTo>
              </a:path>
              <a:path w="3548" h="3994">
                <a:moveTo>
                  <a:pt x="11931" y="15255"/>
                </a:moveTo>
                <a:cubicBezTo>
                  <a:pt x="11961" y="15135"/>
                  <a:pt x="12052" y="14997"/>
                  <a:pt x="12179" y="14932"/>
                </a:cubicBezTo>
                <a:cubicBezTo>
                  <a:pt x="12280" y="14880"/>
                  <a:pt x="12436" y="14881"/>
                  <a:pt x="12452" y="15007"/>
                </a:cubicBezTo>
                <a:cubicBezTo>
                  <a:pt x="12464" y="15101"/>
                  <a:pt x="12435" y="15172"/>
                  <a:pt x="12353" y="15205"/>
                </a:cubicBezTo>
                <a:cubicBezTo>
                  <a:pt x="12368" y="15120"/>
                  <a:pt x="12438" y="15129"/>
                  <a:pt x="12526" y="15156"/>
                </a:cubicBezTo>
                <a:cubicBezTo>
                  <a:pt x="12574" y="15179"/>
                  <a:pt x="12591" y="15185"/>
                  <a:pt x="12576" y="15230"/>
                </a:cubicBezTo>
              </a:path>
              <a:path w="3548" h="3994">
                <a:moveTo>
                  <a:pt x="12750" y="14883"/>
                </a:moveTo>
                <a:cubicBezTo>
                  <a:pt x="12738" y="14846"/>
                  <a:pt x="12698" y="14843"/>
                  <a:pt x="12650" y="14833"/>
                </a:cubicBezTo>
                <a:cubicBezTo>
                  <a:pt x="12630" y="14894"/>
                  <a:pt x="12590" y="15005"/>
                  <a:pt x="12650" y="15056"/>
                </a:cubicBezTo>
                <a:cubicBezTo>
                  <a:pt x="12667" y="15064"/>
                  <a:pt x="12683" y="15073"/>
                  <a:pt x="12700" y="15081"/>
                </a:cubicBezTo>
                <a:cubicBezTo>
                  <a:pt x="12768" y="14999"/>
                  <a:pt x="12774" y="14961"/>
                  <a:pt x="12774" y="14858"/>
                </a:cubicBezTo>
                <a:cubicBezTo>
                  <a:pt x="12782" y="14889"/>
                  <a:pt x="12822" y="14994"/>
                  <a:pt x="12874" y="14982"/>
                </a:cubicBezTo>
                <a:cubicBezTo>
                  <a:pt x="12899" y="14965"/>
                  <a:pt x="12923" y="14949"/>
                  <a:pt x="12948" y="14932"/>
                </a:cubicBezTo>
              </a:path>
              <a:path w="3548" h="3994">
                <a:moveTo>
                  <a:pt x="13072" y="14635"/>
                </a:moveTo>
                <a:cubicBezTo>
                  <a:pt x="12979" y="14635"/>
                  <a:pt x="12948" y="14652"/>
                  <a:pt x="12923" y="14759"/>
                </a:cubicBezTo>
                <a:cubicBezTo>
                  <a:pt x="12923" y="14827"/>
                  <a:pt x="12920" y="14846"/>
                  <a:pt x="12948" y="14883"/>
                </a:cubicBezTo>
                <a:cubicBezTo>
                  <a:pt x="13010" y="14870"/>
                  <a:pt x="13023" y="14852"/>
                  <a:pt x="13072" y="14808"/>
                </a:cubicBezTo>
              </a:path>
              <a:path w="3548" h="3994">
                <a:moveTo>
                  <a:pt x="12948" y="14412"/>
                </a:moveTo>
                <a:cubicBezTo>
                  <a:pt x="12983" y="14514"/>
                  <a:pt x="13033" y="14628"/>
                  <a:pt x="13072" y="14734"/>
                </a:cubicBezTo>
                <a:cubicBezTo>
                  <a:pt x="13092" y="14774"/>
                  <a:pt x="13101" y="14781"/>
                  <a:pt x="13097" y="14808"/>
                </a:cubicBezTo>
              </a:path>
              <a:path w="3548" h="3994">
                <a:moveTo>
                  <a:pt x="13171" y="14486"/>
                </a:moveTo>
                <a:cubicBezTo>
                  <a:pt x="13189" y="14531"/>
                  <a:pt x="13232" y="14645"/>
                  <a:pt x="13271" y="14684"/>
                </a:cubicBezTo>
                <a:cubicBezTo>
                  <a:pt x="13299" y="14684"/>
                  <a:pt x="13309" y="14687"/>
                  <a:pt x="13320" y="14709"/>
                </a:cubicBezTo>
                <a:cubicBezTo>
                  <a:pt x="13374" y="14642"/>
                  <a:pt x="13394" y="14549"/>
                  <a:pt x="13370" y="14461"/>
                </a:cubicBezTo>
                <a:cubicBezTo>
                  <a:pt x="13348" y="14439"/>
                  <a:pt x="13339" y="14434"/>
                  <a:pt x="13345" y="14412"/>
                </a:cubicBezTo>
                <a:cubicBezTo>
                  <a:pt x="13359" y="14480"/>
                  <a:pt x="13395" y="14511"/>
                  <a:pt x="13444" y="14560"/>
                </a:cubicBezTo>
              </a:path>
              <a:path w="3548" h="3994">
                <a:moveTo>
                  <a:pt x="13519" y="14188"/>
                </a:moveTo>
                <a:cubicBezTo>
                  <a:pt x="13505" y="14273"/>
                  <a:pt x="13485" y="14233"/>
                  <a:pt x="13568" y="14263"/>
                </a:cubicBezTo>
                <a:cubicBezTo>
                  <a:pt x="13621" y="14282"/>
                  <a:pt x="13685" y="14332"/>
                  <a:pt x="13692" y="14387"/>
                </a:cubicBezTo>
                <a:cubicBezTo>
                  <a:pt x="13704" y="14480"/>
                  <a:pt x="13635" y="14461"/>
                  <a:pt x="13568" y="14461"/>
                </a:cubicBezTo>
              </a:path>
              <a:path w="3548" h="3994">
                <a:moveTo>
                  <a:pt x="13171" y="14808"/>
                </a:moveTo>
                <a:cubicBezTo>
                  <a:pt x="13158" y="14771"/>
                  <a:pt x="13146" y="14787"/>
                  <a:pt x="13146" y="14734"/>
                </a:cubicBezTo>
                <a:cubicBezTo>
                  <a:pt x="13146" y="14701"/>
                  <a:pt x="13146" y="14668"/>
                  <a:pt x="13146" y="14635"/>
                </a:cubicBezTo>
                <a:cubicBezTo>
                  <a:pt x="13146" y="14698"/>
                  <a:pt x="13168" y="14743"/>
                  <a:pt x="13171" y="14808"/>
                </a:cubicBezTo>
                <a:cubicBezTo>
                  <a:pt x="13171" y="14850"/>
                  <a:pt x="13171" y="14875"/>
                  <a:pt x="13171" y="14833"/>
                </a:cubicBezTo>
              </a:path>
              <a:path w="3548" h="3994">
                <a:moveTo>
                  <a:pt x="13072" y="14288"/>
                </a:moveTo>
                <a:cubicBezTo>
                  <a:pt x="13064" y="14288"/>
                  <a:pt x="13055" y="14288"/>
                  <a:pt x="13047" y="14288"/>
                </a:cubicBezTo>
              </a:path>
              <a:path w="3548" h="3994">
                <a:moveTo>
                  <a:pt x="12998" y="13643"/>
                </a:moveTo>
                <a:cubicBezTo>
                  <a:pt x="12998" y="13651"/>
                  <a:pt x="12998" y="13659"/>
                  <a:pt x="12998" y="13667"/>
                </a:cubicBezTo>
                <a:cubicBezTo>
                  <a:pt x="12971" y="13674"/>
                  <a:pt x="12969" y="13676"/>
                  <a:pt x="12948" y="13692"/>
                </a:cubicBezTo>
                <a:cubicBezTo>
                  <a:pt x="12936" y="13740"/>
                  <a:pt x="12943" y="13716"/>
                  <a:pt x="12923" y="13742"/>
                </a:cubicBezTo>
                <a:cubicBezTo>
                  <a:pt x="12916" y="13769"/>
                  <a:pt x="12914" y="13771"/>
                  <a:pt x="12898" y="13791"/>
                </a:cubicBezTo>
                <a:cubicBezTo>
                  <a:pt x="12872" y="13798"/>
                  <a:pt x="12869" y="13801"/>
                  <a:pt x="12849" y="13816"/>
                </a:cubicBezTo>
                <a:cubicBezTo>
                  <a:pt x="12842" y="13843"/>
                  <a:pt x="12840" y="13845"/>
                  <a:pt x="12824" y="13866"/>
                </a:cubicBezTo>
                <a:cubicBezTo>
                  <a:pt x="12787" y="13884"/>
                  <a:pt x="12795" y="13884"/>
                  <a:pt x="12774" y="13915"/>
                </a:cubicBezTo>
                <a:cubicBezTo>
                  <a:pt x="12748" y="13922"/>
                  <a:pt x="12745" y="13925"/>
                  <a:pt x="12725" y="13940"/>
                </a:cubicBezTo>
                <a:cubicBezTo>
                  <a:pt x="12703" y="13974"/>
                  <a:pt x="12679" y="13998"/>
                  <a:pt x="12650" y="14039"/>
                </a:cubicBezTo>
                <a:cubicBezTo>
                  <a:pt x="12628" y="14062"/>
                  <a:pt x="12620" y="14067"/>
                  <a:pt x="12626" y="14089"/>
                </a:cubicBezTo>
                <a:cubicBezTo>
                  <a:pt x="12602" y="14105"/>
                  <a:pt x="12575" y="14123"/>
                  <a:pt x="12551" y="14139"/>
                </a:cubicBezTo>
                <a:cubicBezTo>
                  <a:pt x="12539" y="14174"/>
                  <a:pt x="12542" y="14205"/>
                  <a:pt x="12526" y="14238"/>
                </a:cubicBezTo>
                <a:cubicBezTo>
                  <a:pt x="12514" y="14262"/>
                  <a:pt x="12480" y="14306"/>
                  <a:pt x="12477" y="14312"/>
                </a:cubicBezTo>
                <a:cubicBezTo>
                  <a:pt x="12468" y="14378"/>
                  <a:pt x="12476" y="14348"/>
                  <a:pt x="12452" y="14387"/>
                </a:cubicBezTo>
                <a:cubicBezTo>
                  <a:pt x="12431" y="14410"/>
                  <a:pt x="12403" y="14427"/>
                  <a:pt x="12378" y="14461"/>
                </a:cubicBezTo>
                <a:cubicBezTo>
                  <a:pt x="12355" y="14484"/>
                  <a:pt x="12347" y="14488"/>
                  <a:pt x="12353" y="14511"/>
                </a:cubicBezTo>
                <a:cubicBezTo>
                  <a:pt x="12345" y="14524"/>
                  <a:pt x="12320" y="14582"/>
                  <a:pt x="12303" y="14610"/>
                </a:cubicBezTo>
                <a:cubicBezTo>
                  <a:pt x="12279" y="14651"/>
                  <a:pt x="12223" y="14692"/>
                  <a:pt x="12204" y="14734"/>
                </a:cubicBezTo>
                <a:cubicBezTo>
                  <a:pt x="12190" y="14765"/>
                  <a:pt x="12192" y="14802"/>
                  <a:pt x="12179" y="14833"/>
                </a:cubicBezTo>
                <a:cubicBezTo>
                  <a:pt x="12156" y="14856"/>
                  <a:pt x="12148" y="14860"/>
                  <a:pt x="12154" y="14883"/>
                </a:cubicBezTo>
                <a:cubicBezTo>
                  <a:pt x="12147" y="14893"/>
                  <a:pt x="12119" y="14935"/>
                  <a:pt x="12105" y="14957"/>
                </a:cubicBezTo>
                <a:cubicBezTo>
                  <a:pt x="12098" y="14967"/>
                  <a:pt x="12069" y="15012"/>
                  <a:pt x="12055" y="15032"/>
                </a:cubicBezTo>
                <a:cubicBezTo>
                  <a:pt x="12019" y="15082"/>
                  <a:pt x="12008" y="15111"/>
                  <a:pt x="11981" y="15156"/>
                </a:cubicBezTo>
                <a:cubicBezTo>
                  <a:pt x="11957" y="15168"/>
                  <a:pt x="11941" y="15190"/>
                  <a:pt x="11931" y="15205"/>
                </a:cubicBezTo>
                <a:cubicBezTo>
                  <a:pt x="11914" y="15238"/>
                  <a:pt x="11899" y="15300"/>
                  <a:pt x="11881" y="15329"/>
                </a:cubicBezTo>
                <a:cubicBezTo>
                  <a:pt x="11857" y="15368"/>
                  <a:pt x="11830" y="15392"/>
                  <a:pt x="11807" y="15429"/>
                </a:cubicBezTo>
                <a:cubicBezTo>
                  <a:pt x="11784" y="15451"/>
                  <a:pt x="11776" y="15456"/>
                  <a:pt x="11782" y="15478"/>
                </a:cubicBezTo>
                <a:cubicBezTo>
                  <a:pt x="11758" y="15490"/>
                  <a:pt x="11743" y="15513"/>
                  <a:pt x="11733" y="15528"/>
                </a:cubicBezTo>
                <a:cubicBezTo>
                  <a:pt x="11712" y="15561"/>
                  <a:pt x="11687" y="15617"/>
                  <a:pt x="11658" y="15652"/>
                </a:cubicBezTo>
                <a:cubicBezTo>
                  <a:pt x="11638" y="15692"/>
                  <a:pt x="11640" y="15708"/>
                  <a:pt x="11609" y="15701"/>
                </a:cubicBezTo>
                <a:cubicBezTo>
                  <a:pt x="11599" y="15741"/>
                  <a:pt x="11589" y="15722"/>
                  <a:pt x="11584" y="15776"/>
                </a:cubicBezTo>
                <a:cubicBezTo>
                  <a:pt x="11584" y="15784"/>
                  <a:pt x="11584" y="15793"/>
                  <a:pt x="11584" y="15801"/>
                </a:cubicBezTo>
                <a:cubicBezTo>
                  <a:pt x="11556" y="15831"/>
                  <a:pt x="11514" y="15890"/>
                  <a:pt x="11485" y="15925"/>
                </a:cubicBezTo>
                <a:cubicBezTo>
                  <a:pt x="11455" y="15962"/>
                  <a:pt x="11430" y="16027"/>
                  <a:pt x="11410" y="16049"/>
                </a:cubicBezTo>
                <a:cubicBezTo>
                  <a:pt x="11379" y="16083"/>
                  <a:pt x="11342" y="16081"/>
                  <a:pt x="11311" y="16123"/>
                </a:cubicBezTo>
                <a:cubicBezTo>
                  <a:pt x="11288" y="16155"/>
                  <a:pt x="11281" y="16193"/>
                  <a:pt x="11261" y="16222"/>
                </a:cubicBezTo>
                <a:cubicBezTo>
                  <a:pt x="11250" y="16240"/>
                  <a:pt x="11204" y="16288"/>
                  <a:pt x="11187" y="16321"/>
                </a:cubicBezTo>
                <a:cubicBezTo>
                  <a:pt x="11167" y="16358"/>
                  <a:pt x="11132" y="16405"/>
                  <a:pt x="11112" y="16446"/>
                </a:cubicBezTo>
                <a:cubicBezTo>
                  <a:pt x="11112" y="16454"/>
                  <a:pt x="11112" y="16462"/>
                  <a:pt x="11112" y="16470"/>
                </a:cubicBezTo>
                <a:cubicBezTo>
                  <a:pt x="11101" y="16486"/>
                  <a:pt x="11058" y="16533"/>
                  <a:pt x="11038" y="16570"/>
                </a:cubicBezTo>
                <a:cubicBezTo>
                  <a:pt x="11009" y="16624"/>
                  <a:pt x="10981" y="16668"/>
                  <a:pt x="10939" y="16718"/>
                </a:cubicBezTo>
                <a:cubicBezTo>
                  <a:pt x="10905" y="16759"/>
                  <a:pt x="10868" y="16768"/>
                  <a:pt x="10840" y="16793"/>
                </a:cubicBezTo>
                <a:cubicBezTo>
                  <a:pt x="10819" y="16819"/>
                  <a:pt x="10818" y="16841"/>
                  <a:pt x="10790" y="16867"/>
                </a:cubicBezTo>
                <a:cubicBezTo>
                  <a:pt x="10764" y="16890"/>
                  <a:pt x="10738" y="16902"/>
                  <a:pt x="10716" y="16917"/>
                </a:cubicBezTo>
                <a:cubicBezTo>
                  <a:pt x="10694" y="16949"/>
                  <a:pt x="10671" y="17007"/>
                  <a:pt x="10641" y="17041"/>
                </a:cubicBezTo>
                <a:cubicBezTo>
                  <a:pt x="10616" y="17070"/>
                  <a:pt x="10573" y="17122"/>
                  <a:pt x="10542" y="17165"/>
                </a:cubicBezTo>
                <a:cubicBezTo>
                  <a:pt x="10505" y="17218"/>
                  <a:pt x="10471" y="17261"/>
                  <a:pt x="10443" y="17314"/>
                </a:cubicBezTo>
                <a:cubicBezTo>
                  <a:pt x="10425" y="17348"/>
                  <a:pt x="10409" y="17380"/>
                  <a:pt x="10393" y="17413"/>
                </a:cubicBezTo>
                <a:cubicBezTo>
                  <a:pt x="10358" y="17436"/>
                  <a:pt x="10376" y="17413"/>
                  <a:pt x="10368" y="17462"/>
                </a:cubicBezTo>
                <a:cubicBezTo>
                  <a:pt x="10361" y="17475"/>
                  <a:pt x="10331" y="17504"/>
                  <a:pt x="10319" y="17537"/>
                </a:cubicBezTo>
                <a:cubicBezTo>
                  <a:pt x="10307" y="17569"/>
                  <a:pt x="10305" y="17604"/>
                  <a:pt x="10294" y="17636"/>
                </a:cubicBezTo>
              </a:path>
              <a:path w="3548" h="3994">
                <a:moveTo>
                  <a:pt x="11658" y="15701"/>
                </a:moveTo>
                <a:cubicBezTo>
                  <a:pt x="11654" y="15713"/>
                  <a:pt x="11605" y="15759"/>
                  <a:pt x="11609" y="15776"/>
                </a:cubicBezTo>
                <a:cubicBezTo>
                  <a:pt x="11631" y="15799"/>
                  <a:pt x="11639" y="15810"/>
                  <a:pt x="11633" y="15776"/>
                </a:cubicBezTo>
                <a:cubicBezTo>
                  <a:pt x="11633" y="15818"/>
                  <a:pt x="11623" y="15814"/>
                  <a:pt x="11658" y="15825"/>
                </a:cubicBezTo>
                <a:cubicBezTo>
                  <a:pt x="11647" y="15793"/>
                  <a:pt x="11621" y="15801"/>
                  <a:pt x="11658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8880" y="5724360"/>
            <a:ext cx="1357200" cy="517680"/>
          </a:xfrm>
          <a:custGeom>
            <a:avLst/>
            <a:gdLst/>
            <a:ahLst/>
            <a:rect l="l" t="t" r="r" b="b"/>
            <a:pathLst>
              <a:path w="3771" h="1439">
                <a:moveTo>
                  <a:pt x="12129" y="17016"/>
                </a:moveTo>
                <a:cubicBezTo>
                  <a:pt x="12098" y="17005"/>
                  <a:pt x="12092" y="16994"/>
                  <a:pt x="12055" y="16966"/>
                </a:cubicBezTo>
                <a:cubicBezTo>
                  <a:pt x="12137" y="16983"/>
                  <a:pt x="12216" y="17029"/>
                  <a:pt x="12303" y="17041"/>
                </a:cubicBezTo>
                <a:cubicBezTo>
                  <a:pt x="12356" y="17048"/>
                  <a:pt x="12451" y="17041"/>
                  <a:pt x="12452" y="17041"/>
                </a:cubicBezTo>
                <a:cubicBezTo>
                  <a:pt x="12460" y="17041"/>
                  <a:pt x="12469" y="17041"/>
                  <a:pt x="12477" y="17041"/>
                </a:cubicBezTo>
              </a:path>
              <a:path w="3771" h="1439">
                <a:moveTo>
                  <a:pt x="12254" y="16718"/>
                </a:moveTo>
                <a:cubicBezTo>
                  <a:pt x="12179" y="16737"/>
                  <a:pt x="12127" y="16824"/>
                  <a:pt x="12055" y="16867"/>
                </a:cubicBezTo>
                <a:cubicBezTo>
                  <a:pt x="11990" y="16905"/>
                  <a:pt x="11948" y="16909"/>
                  <a:pt x="11881" y="16942"/>
                </a:cubicBezTo>
                <a:cubicBezTo>
                  <a:pt x="11873" y="16950"/>
                  <a:pt x="11865" y="16958"/>
                  <a:pt x="11857" y="16966"/>
                </a:cubicBezTo>
                <a:cubicBezTo>
                  <a:pt x="11921" y="17044"/>
                  <a:pt x="11952" y="17129"/>
                  <a:pt x="12005" y="17214"/>
                </a:cubicBezTo>
                <a:cubicBezTo>
                  <a:pt x="12032" y="17258"/>
                  <a:pt x="12069" y="17327"/>
                  <a:pt x="12105" y="17338"/>
                </a:cubicBezTo>
              </a:path>
              <a:path w="3771" h="1439">
                <a:moveTo>
                  <a:pt x="13047" y="17016"/>
                </a:moveTo>
                <a:cubicBezTo>
                  <a:pt x="13037" y="16938"/>
                  <a:pt x="13016" y="16869"/>
                  <a:pt x="12948" y="16818"/>
                </a:cubicBezTo>
                <a:cubicBezTo>
                  <a:pt x="12868" y="16757"/>
                  <a:pt x="12764" y="16807"/>
                  <a:pt x="12725" y="16892"/>
                </a:cubicBezTo>
                <a:cubicBezTo>
                  <a:pt x="12679" y="16991"/>
                  <a:pt x="12632" y="17137"/>
                  <a:pt x="12774" y="17165"/>
                </a:cubicBezTo>
                <a:cubicBezTo>
                  <a:pt x="12864" y="17165"/>
                  <a:pt x="12890" y="17172"/>
                  <a:pt x="12923" y="17115"/>
                </a:cubicBezTo>
              </a:path>
              <a:path w="3771" h="1439">
                <a:moveTo>
                  <a:pt x="12898" y="16495"/>
                </a:moveTo>
                <a:cubicBezTo>
                  <a:pt x="12898" y="16623"/>
                  <a:pt x="12921" y="16741"/>
                  <a:pt x="12948" y="16867"/>
                </a:cubicBezTo>
                <a:cubicBezTo>
                  <a:pt x="12970" y="16971"/>
                  <a:pt x="12998" y="17058"/>
                  <a:pt x="12998" y="17165"/>
                </a:cubicBezTo>
              </a:path>
              <a:path w="3771" h="1439">
                <a:moveTo>
                  <a:pt x="13196" y="16718"/>
                </a:moveTo>
                <a:cubicBezTo>
                  <a:pt x="13212" y="16799"/>
                  <a:pt x="13259" y="16882"/>
                  <a:pt x="13271" y="16966"/>
                </a:cubicBezTo>
                <a:cubicBezTo>
                  <a:pt x="13271" y="16991"/>
                  <a:pt x="13271" y="17016"/>
                  <a:pt x="13271" y="17041"/>
                </a:cubicBezTo>
              </a:path>
              <a:path w="3771" h="1439">
                <a:moveTo>
                  <a:pt x="13171" y="16644"/>
                </a:moveTo>
                <a:lnTo>
                  <a:pt x="13171" y="16644"/>
                </a:lnTo>
              </a:path>
              <a:path w="3771" h="1439">
                <a:moveTo>
                  <a:pt x="13618" y="16694"/>
                </a:moveTo>
                <a:cubicBezTo>
                  <a:pt x="13559" y="16635"/>
                  <a:pt x="13549" y="16596"/>
                  <a:pt x="13469" y="16644"/>
                </a:cubicBezTo>
                <a:cubicBezTo>
                  <a:pt x="13382" y="16696"/>
                  <a:pt x="13311" y="16818"/>
                  <a:pt x="13370" y="16917"/>
                </a:cubicBezTo>
                <a:cubicBezTo>
                  <a:pt x="13451" y="17052"/>
                  <a:pt x="13523" y="16949"/>
                  <a:pt x="13543" y="16842"/>
                </a:cubicBezTo>
                <a:cubicBezTo>
                  <a:pt x="13543" y="16817"/>
                  <a:pt x="13543" y="16793"/>
                  <a:pt x="13543" y="16768"/>
                </a:cubicBezTo>
                <a:cubicBezTo>
                  <a:pt x="13543" y="16760"/>
                  <a:pt x="13543" y="16751"/>
                  <a:pt x="13543" y="16743"/>
                </a:cubicBezTo>
                <a:cubicBezTo>
                  <a:pt x="13479" y="16765"/>
                  <a:pt x="13580" y="16844"/>
                  <a:pt x="13618" y="16867"/>
                </a:cubicBezTo>
                <a:cubicBezTo>
                  <a:pt x="13672" y="16900"/>
                  <a:pt x="13717" y="16836"/>
                  <a:pt x="13717" y="16743"/>
                </a:cubicBezTo>
                <a:cubicBezTo>
                  <a:pt x="13709" y="16710"/>
                  <a:pt x="13700" y="16677"/>
                  <a:pt x="13692" y="16644"/>
                </a:cubicBezTo>
                <a:cubicBezTo>
                  <a:pt x="13692" y="16679"/>
                  <a:pt x="13739" y="16895"/>
                  <a:pt x="13742" y="16892"/>
                </a:cubicBezTo>
                <a:cubicBezTo>
                  <a:pt x="13800" y="16822"/>
                  <a:pt x="13699" y="16656"/>
                  <a:pt x="13767" y="16570"/>
                </a:cubicBezTo>
                <a:cubicBezTo>
                  <a:pt x="13775" y="16570"/>
                  <a:pt x="13783" y="16570"/>
                  <a:pt x="13791" y="16570"/>
                </a:cubicBezTo>
                <a:cubicBezTo>
                  <a:pt x="13846" y="16649"/>
                  <a:pt x="13901" y="16722"/>
                  <a:pt x="13965" y="16793"/>
                </a:cubicBezTo>
                <a:cubicBezTo>
                  <a:pt x="13965" y="16691"/>
                  <a:pt x="13981" y="16642"/>
                  <a:pt x="14015" y="16545"/>
                </a:cubicBezTo>
                <a:cubicBezTo>
                  <a:pt x="14037" y="16477"/>
                  <a:pt x="14038" y="16456"/>
                  <a:pt x="14089" y="16446"/>
                </a:cubicBezTo>
                <a:cubicBezTo>
                  <a:pt x="14153" y="16525"/>
                  <a:pt x="14166" y="16689"/>
                  <a:pt x="14213" y="16743"/>
                </a:cubicBezTo>
                <a:cubicBezTo>
                  <a:pt x="14221" y="16735"/>
                  <a:pt x="14230" y="16726"/>
                  <a:pt x="14238" y="16718"/>
                </a:cubicBezTo>
              </a:path>
              <a:path w="3771" h="1439">
                <a:moveTo>
                  <a:pt x="14238" y="16520"/>
                </a:moveTo>
                <a:cubicBezTo>
                  <a:pt x="14309" y="16506"/>
                  <a:pt x="14350" y="16449"/>
                  <a:pt x="14412" y="16421"/>
                </a:cubicBezTo>
                <a:cubicBezTo>
                  <a:pt x="14436" y="16421"/>
                  <a:pt x="14444" y="16421"/>
                  <a:pt x="14436" y="16396"/>
                </a:cubicBezTo>
                <a:cubicBezTo>
                  <a:pt x="14421" y="16373"/>
                  <a:pt x="14348" y="16327"/>
                  <a:pt x="14312" y="16371"/>
                </a:cubicBezTo>
                <a:cubicBezTo>
                  <a:pt x="14243" y="16455"/>
                  <a:pt x="14241" y="16591"/>
                  <a:pt x="14337" y="16644"/>
                </a:cubicBezTo>
                <a:cubicBezTo>
                  <a:pt x="14422" y="16672"/>
                  <a:pt x="14457" y="16676"/>
                  <a:pt x="14511" y="16619"/>
                </a:cubicBezTo>
              </a:path>
              <a:path w="3771" h="1439">
                <a:moveTo>
                  <a:pt x="14585" y="15900"/>
                </a:moveTo>
                <a:cubicBezTo>
                  <a:pt x="14585" y="16018"/>
                  <a:pt x="14623" y="16162"/>
                  <a:pt x="14660" y="16272"/>
                </a:cubicBezTo>
                <a:cubicBezTo>
                  <a:pt x="14690" y="16361"/>
                  <a:pt x="14708" y="16433"/>
                  <a:pt x="14734" y="16520"/>
                </a:cubicBezTo>
              </a:path>
              <a:path w="3771" h="1439">
                <a:moveTo>
                  <a:pt x="14486" y="16247"/>
                </a:moveTo>
                <a:cubicBezTo>
                  <a:pt x="14629" y="16229"/>
                  <a:pt x="14763" y="16201"/>
                  <a:pt x="14908" y="16197"/>
                </a:cubicBezTo>
                <a:cubicBezTo>
                  <a:pt x="14982" y="16195"/>
                  <a:pt x="15003" y="16219"/>
                  <a:pt x="15056" y="16197"/>
                </a:cubicBezTo>
                <a:cubicBezTo>
                  <a:pt x="15017" y="16130"/>
                  <a:pt x="15023" y="16051"/>
                  <a:pt x="14908" y="16073"/>
                </a:cubicBezTo>
                <a:cubicBezTo>
                  <a:pt x="14808" y="16092"/>
                  <a:pt x="14811" y="16316"/>
                  <a:pt x="14858" y="16371"/>
                </a:cubicBezTo>
                <a:cubicBezTo>
                  <a:pt x="14919" y="16442"/>
                  <a:pt x="15113" y="16384"/>
                  <a:pt x="15156" y="16321"/>
                </a:cubicBezTo>
                <a:cubicBezTo>
                  <a:pt x="15182" y="16284"/>
                  <a:pt x="15245" y="16042"/>
                  <a:pt x="15304" y="16173"/>
                </a:cubicBezTo>
                <a:cubicBezTo>
                  <a:pt x="15329" y="16247"/>
                  <a:pt x="15337" y="16272"/>
                  <a:pt x="15354" y="16321"/>
                </a:cubicBezTo>
                <a:cubicBezTo>
                  <a:pt x="15362" y="16329"/>
                  <a:pt x="15371" y="16338"/>
                  <a:pt x="15379" y="16346"/>
                </a:cubicBezTo>
                <a:cubicBezTo>
                  <a:pt x="15379" y="16246"/>
                  <a:pt x="15335" y="16087"/>
                  <a:pt x="15429" y="16024"/>
                </a:cubicBezTo>
                <a:cubicBezTo>
                  <a:pt x="15481" y="15989"/>
                  <a:pt x="15568" y="15975"/>
                  <a:pt x="15627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8120" y="3884760"/>
            <a:ext cx="1482840" cy="438120"/>
          </a:xfrm>
          <a:custGeom>
            <a:avLst/>
            <a:gdLst/>
            <a:ahLst/>
            <a:rect l="l" t="t" r="r" b="b"/>
            <a:pathLst>
              <a:path w="4119" h="1216">
                <a:moveTo>
                  <a:pt x="2456" y="10790"/>
                </a:moveTo>
                <a:cubicBezTo>
                  <a:pt x="2456" y="10823"/>
                  <a:pt x="2456" y="10839"/>
                  <a:pt x="2456" y="10864"/>
                </a:cubicBezTo>
              </a:path>
              <a:path w="4119" h="1216">
                <a:moveTo>
                  <a:pt x="2604" y="11137"/>
                </a:moveTo>
                <a:cubicBezTo>
                  <a:pt x="2582" y="11159"/>
                  <a:pt x="2571" y="11168"/>
                  <a:pt x="2604" y="11162"/>
                </a:cubicBezTo>
              </a:path>
              <a:path w="4119" h="1216">
                <a:moveTo>
                  <a:pt x="1563" y="11509"/>
                </a:moveTo>
                <a:cubicBezTo>
                  <a:pt x="1563" y="11469"/>
                  <a:pt x="1557" y="11416"/>
                  <a:pt x="1538" y="11385"/>
                </a:cubicBezTo>
                <a:cubicBezTo>
                  <a:pt x="1530" y="11377"/>
                  <a:pt x="1521" y="11369"/>
                  <a:pt x="1513" y="11361"/>
                </a:cubicBezTo>
                <a:cubicBezTo>
                  <a:pt x="1530" y="11550"/>
                  <a:pt x="1589" y="11719"/>
                  <a:pt x="1612" y="11906"/>
                </a:cubicBezTo>
                <a:cubicBezTo>
                  <a:pt x="1612" y="11964"/>
                  <a:pt x="1612" y="11972"/>
                  <a:pt x="1612" y="12005"/>
                </a:cubicBezTo>
              </a:path>
              <a:path w="4119" h="1216">
                <a:moveTo>
                  <a:pt x="1215" y="11311"/>
                </a:moveTo>
                <a:cubicBezTo>
                  <a:pt x="1241" y="11182"/>
                  <a:pt x="1371" y="11143"/>
                  <a:pt x="1488" y="11112"/>
                </a:cubicBezTo>
                <a:cubicBezTo>
                  <a:pt x="1703" y="11055"/>
                  <a:pt x="1870" y="11136"/>
                  <a:pt x="1910" y="11361"/>
                </a:cubicBezTo>
                <a:cubicBezTo>
                  <a:pt x="1945" y="11560"/>
                  <a:pt x="1828" y="11809"/>
                  <a:pt x="1612" y="11832"/>
                </a:cubicBezTo>
                <a:cubicBezTo>
                  <a:pt x="1563" y="11837"/>
                  <a:pt x="1434" y="11802"/>
                  <a:pt x="1414" y="11782"/>
                </a:cubicBezTo>
              </a:path>
              <a:path w="4119" h="1216">
                <a:moveTo>
                  <a:pt x="2084" y="11261"/>
                </a:moveTo>
                <a:cubicBezTo>
                  <a:pt x="2147" y="11364"/>
                  <a:pt x="2209" y="11487"/>
                  <a:pt x="2232" y="11609"/>
                </a:cubicBezTo>
                <a:cubicBezTo>
                  <a:pt x="2232" y="11625"/>
                  <a:pt x="2232" y="11642"/>
                  <a:pt x="2232" y="11658"/>
                </a:cubicBezTo>
              </a:path>
              <a:path w="4119" h="1216">
                <a:moveTo>
                  <a:pt x="2009" y="11137"/>
                </a:moveTo>
                <a:lnTo>
                  <a:pt x="2009" y="11137"/>
                </a:lnTo>
              </a:path>
              <a:path w="4119" h="1216">
                <a:moveTo>
                  <a:pt x="2853" y="11286"/>
                </a:moveTo>
                <a:cubicBezTo>
                  <a:pt x="2773" y="11232"/>
                  <a:pt x="2704" y="11158"/>
                  <a:pt x="2604" y="11137"/>
                </a:cubicBezTo>
                <a:cubicBezTo>
                  <a:pt x="2490" y="11113"/>
                  <a:pt x="2442" y="11249"/>
                  <a:pt x="2431" y="11336"/>
                </a:cubicBezTo>
                <a:cubicBezTo>
                  <a:pt x="2412" y="11485"/>
                  <a:pt x="2512" y="11658"/>
                  <a:pt x="2679" y="11584"/>
                </a:cubicBezTo>
                <a:cubicBezTo>
                  <a:pt x="2795" y="11533"/>
                  <a:pt x="2699" y="11386"/>
                  <a:pt x="2679" y="11311"/>
                </a:cubicBezTo>
                <a:cubicBezTo>
                  <a:pt x="2679" y="11303"/>
                  <a:pt x="2679" y="11294"/>
                  <a:pt x="2679" y="11286"/>
                </a:cubicBezTo>
                <a:cubicBezTo>
                  <a:pt x="2693" y="11387"/>
                  <a:pt x="2753" y="11514"/>
                  <a:pt x="2803" y="11609"/>
                </a:cubicBezTo>
                <a:cubicBezTo>
                  <a:pt x="2828" y="11633"/>
                  <a:pt x="2836" y="11641"/>
                  <a:pt x="2853" y="11609"/>
                </a:cubicBezTo>
              </a:path>
              <a:path w="4119" h="1216">
                <a:moveTo>
                  <a:pt x="2902" y="11261"/>
                </a:moveTo>
                <a:cubicBezTo>
                  <a:pt x="2937" y="11373"/>
                  <a:pt x="2990" y="11475"/>
                  <a:pt x="3026" y="11584"/>
                </a:cubicBezTo>
                <a:cubicBezTo>
                  <a:pt x="3026" y="11592"/>
                  <a:pt x="3026" y="11601"/>
                  <a:pt x="3026" y="11609"/>
                </a:cubicBezTo>
                <a:cubicBezTo>
                  <a:pt x="3008" y="11520"/>
                  <a:pt x="2998" y="11403"/>
                  <a:pt x="3026" y="11311"/>
                </a:cubicBezTo>
                <a:cubicBezTo>
                  <a:pt x="3058" y="11205"/>
                  <a:pt x="3114" y="11185"/>
                  <a:pt x="3200" y="11137"/>
                </a:cubicBezTo>
                <a:cubicBezTo>
                  <a:pt x="3330" y="11278"/>
                  <a:pt x="3352" y="11358"/>
                  <a:pt x="3398" y="11534"/>
                </a:cubicBezTo>
                <a:cubicBezTo>
                  <a:pt x="3406" y="11551"/>
                  <a:pt x="3415" y="11567"/>
                  <a:pt x="3423" y="11584"/>
                </a:cubicBezTo>
                <a:cubicBezTo>
                  <a:pt x="3348" y="11473"/>
                  <a:pt x="3347" y="11368"/>
                  <a:pt x="3373" y="11237"/>
                </a:cubicBezTo>
                <a:cubicBezTo>
                  <a:pt x="3398" y="11162"/>
                  <a:pt x="3406" y="11137"/>
                  <a:pt x="3473" y="11137"/>
                </a:cubicBezTo>
                <a:cubicBezTo>
                  <a:pt x="3604" y="11226"/>
                  <a:pt x="3651" y="11324"/>
                  <a:pt x="3671" y="11485"/>
                </a:cubicBezTo>
                <a:cubicBezTo>
                  <a:pt x="3679" y="11550"/>
                  <a:pt x="3671" y="11699"/>
                  <a:pt x="3671" y="11633"/>
                </a:cubicBezTo>
              </a:path>
              <a:path w="4119" h="1216">
                <a:moveTo>
                  <a:pt x="3746" y="11410"/>
                </a:moveTo>
                <a:cubicBezTo>
                  <a:pt x="3840" y="11399"/>
                  <a:pt x="3922" y="11361"/>
                  <a:pt x="4018" y="11361"/>
                </a:cubicBezTo>
                <a:cubicBezTo>
                  <a:pt x="4001" y="11290"/>
                  <a:pt x="3921" y="11252"/>
                  <a:pt x="3845" y="11261"/>
                </a:cubicBezTo>
                <a:cubicBezTo>
                  <a:pt x="3720" y="11276"/>
                  <a:pt x="3663" y="11397"/>
                  <a:pt x="3671" y="11509"/>
                </a:cubicBezTo>
                <a:cubicBezTo>
                  <a:pt x="3678" y="11607"/>
                  <a:pt x="3755" y="11803"/>
                  <a:pt x="3894" y="11782"/>
                </a:cubicBezTo>
                <a:cubicBezTo>
                  <a:pt x="3992" y="11734"/>
                  <a:pt x="4024" y="11719"/>
                  <a:pt x="4068" y="11658"/>
                </a:cubicBezTo>
              </a:path>
              <a:path w="4119" h="1216">
                <a:moveTo>
                  <a:pt x="4068" y="11038"/>
                </a:moveTo>
                <a:cubicBezTo>
                  <a:pt x="4088" y="11155"/>
                  <a:pt x="4139" y="11268"/>
                  <a:pt x="4167" y="11385"/>
                </a:cubicBezTo>
                <a:cubicBezTo>
                  <a:pt x="4187" y="11469"/>
                  <a:pt x="4190" y="11607"/>
                  <a:pt x="4291" y="11633"/>
                </a:cubicBezTo>
                <a:cubicBezTo>
                  <a:pt x="4384" y="11657"/>
                  <a:pt x="4530" y="11609"/>
                  <a:pt x="4589" y="11534"/>
                </a:cubicBezTo>
                <a:cubicBezTo>
                  <a:pt x="4597" y="11509"/>
                  <a:pt x="4606" y="11485"/>
                  <a:pt x="4614" y="11460"/>
                </a:cubicBezTo>
              </a:path>
              <a:path w="4119" h="1216">
                <a:moveTo>
                  <a:pt x="4068" y="11361"/>
                </a:moveTo>
                <a:cubicBezTo>
                  <a:pt x="4188" y="11349"/>
                  <a:pt x="4278" y="11301"/>
                  <a:pt x="4390" y="11261"/>
                </a:cubicBezTo>
                <a:cubicBezTo>
                  <a:pt x="4463" y="11237"/>
                  <a:pt x="4487" y="11229"/>
                  <a:pt x="4539" y="11237"/>
                </a:cubicBezTo>
              </a:path>
              <a:path w="4119" h="1216">
                <a:moveTo>
                  <a:pt x="4614" y="11361"/>
                </a:moveTo>
                <a:cubicBezTo>
                  <a:pt x="4709" y="11361"/>
                  <a:pt x="4768" y="11310"/>
                  <a:pt x="4862" y="11286"/>
                </a:cubicBezTo>
                <a:cubicBezTo>
                  <a:pt x="4870" y="11286"/>
                  <a:pt x="4879" y="11286"/>
                  <a:pt x="4887" y="11286"/>
                </a:cubicBezTo>
                <a:cubicBezTo>
                  <a:pt x="4857" y="11226"/>
                  <a:pt x="4786" y="11180"/>
                  <a:pt x="4713" y="11212"/>
                </a:cubicBezTo>
                <a:cubicBezTo>
                  <a:pt x="4612" y="11256"/>
                  <a:pt x="4603" y="11396"/>
                  <a:pt x="4614" y="11485"/>
                </a:cubicBezTo>
                <a:cubicBezTo>
                  <a:pt x="4628" y="11608"/>
                  <a:pt x="4736" y="11695"/>
                  <a:pt x="4862" y="11658"/>
                </a:cubicBezTo>
                <a:cubicBezTo>
                  <a:pt x="4950" y="11632"/>
                  <a:pt x="5062" y="11510"/>
                  <a:pt x="5035" y="11410"/>
                </a:cubicBezTo>
                <a:cubicBezTo>
                  <a:pt x="5008" y="11312"/>
                  <a:pt x="5084" y="11406"/>
                  <a:pt x="5110" y="11460"/>
                </a:cubicBezTo>
                <a:cubicBezTo>
                  <a:pt x="5129" y="11517"/>
                  <a:pt x="5138" y="11524"/>
                  <a:pt x="5135" y="11559"/>
                </a:cubicBezTo>
                <a:cubicBezTo>
                  <a:pt x="5071" y="11495"/>
                  <a:pt x="5082" y="11469"/>
                  <a:pt x="5110" y="11385"/>
                </a:cubicBezTo>
                <a:cubicBezTo>
                  <a:pt x="5147" y="11276"/>
                  <a:pt x="5228" y="11235"/>
                  <a:pt x="5333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0160" y="3062160"/>
            <a:ext cx="973080" cy="716040"/>
          </a:xfrm>
          <a:custGeom>
            <a:avLst/>
            <a:gdLst/>
            <a:ahLst/>
            <a:rect l="l" t="t" r="r" b="b"/>
            <a:pathLst>
              <a:path w="2705" h="1985">
                <a:moveTo>
                  <a:pt x="12055" y="8880"/>
                </a:moveTo>
                <a:cubicBezTo>
                  <a:pt x="12068" y="9009"/>
                  <a:pt x="12115" y="9128"/>
                  <a:pt x="12154" y="9252"/>
                </a:cubicBezTo>
                <a:cubicBezTo>
                  <a:pt x="12174" y="9313"/>
                  <a:pt x="12172" y="9328"/>
                  <a:pt x="12204" y="9351"/>
                </a:cubicBezTo>
                <a:cubicBezTo>
                  <a:pt x="12131" y="9221"/>
                  <a:pt x="12088" y="9110"/>
                  <a:pt x="12105" y="8954"/>
                </a:cubicBezTo>
                <a:cubicBezTo>
                  <a:pt x="12118" y="8833"/>
                  <a:pt x="12215" y="8748"/>
                  <a:pt x="12328" y="8731"/>
                </a:cubicBezTo>
                <a:cubicBezTo>
                  <a:pt x="12417" y="8718"/>
                  <a:pt x="12471" y="8752"/>
                  <a:pt x="12551" y="8781"/>
                </a:cubicBezTo>
              </a:path>
              <a:path w="2705" h="1985">
                <a:moveTo>
                  <a:pt x="12824" y="9128"/>
                </a:moveTo>
                <a:cubicBezTo>
                  <a:pt x="12936" y="9128"/>
                  <a:pt x="13042" y="9138"/>
                  <a:pt x="13146" y="9103"/>
                </a:cubicBezTo>
              </a:path>
              <a:path w="2705" h="1985">
                <a:moveTo>
                  <a:pt x="12824" y="9327"/>
                </a:moveTo>
                <a:cubicBezTo>
                  <a:pt x="12949" y="9305"/>
                  <a:pt x="13069" y="9277"/>
                  <a:pt x="13196" y="9277"/>
                </a:cubicBezTo>
              </a:path>
              <a:path w="2705" h="1985">
                <a:moveTo>
                  <a:pt x="14436" y="9128"/>
                </a:moveTo>
                <a:cubicBezTo>
                  <a:pt x="14424" y="9064"/>
                  <a:pt x="14351" y="8997"/>
                  <a:pt x="14288" y="8979"/>
                </a:cubicBezTo>
                <a:cubicBezTo>
                  <a:pt x="14195" y="8952"/>
                  <a:pt x="14085" y="8997"/>
                  <a:pt x="14015" y="9054"/>
                </a:cubicBezTo>
                <a:cubicBezTo>
                  <a:pt x="13923" y="9129"/>
                  <a:pt x="13823" y="9300"/>
                  <a:pt x="13866" y="9426"/>
                </a:cubicBezTo>
                <a:cubicBezTo>
                  <a:pt x="13920" y="9584"/>
                  <a:pt x="14248" y="9395"/>
                  <a:pt x="14312" y="9351"/>
                </a:cubicBezTo>
                <a:cubicBezTo>
                  <a:pt x="14381" y="9283"/>
                  <a:pt x="14403" y="9267"/>
                  <a:pt x="14412" y="9203"/>
                </a:cubicBezTo>
              </a:path>
              <a:path w="2705" h="1985">
                <a:moveTo>
                  <a:pt x="14188" y="8508"/>
                </a:moveTo>
                <a:cubicBezTo>
                  <a:pt x="14281" y="8618"/>
                  <a:pt x="14293" y="8743"/>
                  <a:pt x="14337" y="8880"/>
                </a:cubicBezTo>
                <a:cubicBezTo>
                  <a:pt x="14391" y="9050"/>
                  <a:pt x="14429" y="9225"/>
                  <a:pt x="14461" y="9401"/>
                </a:cubicBezTo>
                <a:cubicBezTo>
                  <a:pt x="14461" y="9426"/>
                  <a:pt x="14461" y="9434"/>
                  <a:pt x="14486" y="9426"/>
                </a:cubicBezTo>
              </a:path>
              <a:path w="2705" h="1985">
                <a:moveTo>
                  <a:pt x="13667" y="9723"/>
                </a:moveTo>
                <a:cubicBezTo>
                  <a:pt x="13801" y="9709"/>
                  <a:pt x="13926" y="9699"/>
                  <a:pt x="14064" y="9699"/>
                </a:cubicBezTo>
                <a:cubicBezTo>
                  <a:pt x="14296" y="9699"/>
                  <a:pt x="14527" y="9699"/>
                  <a:pt x="14759" y="9699"/>
                </a:cubicBezTo>
              </a:path>
              <a:path w="2705" h="1985">
                <a:moveTo>
                  <a:pt x="14089" y="10021"/>
                </a:moveTo>
                <a:cubicBezTo>
                  <a:pt x="14089" y="9933"/>
                  <a:pt x="14110" y="9936"/>
                  <a:pt x="14188" y="9897"/>
                </a:cubicBezTo>
                <a:cubicBezTo>
                  <a:pt x="14285" y="9848"/>
                  <a:pt x="14273" y="9860"/>
                  <a:pt x="14337" y="9897"/>
                </a:cubicBezTo>
                <a:cubicBezTo>
                  <a:pt x="14380" y="9922"/>
                  <a:pt x="14363" y="9947"/>
                  <a:pt x="14337" y="9996"/>
                </a:cubicBezTo>
                <a:cubicBezTo>
                  <a:pt x="14313" y="10040"/>
                  <a:pt x="14303" y="10111"/>
                  <a:pt x="14263" y="10145"/>
                </a:cubicBezTo>
                <a:cubicBezTo>
                  <a:pt x="14192" y="10205"/>
                  <a:pt x="14132" y="10284"/>
                  <a:pt x="14064" y="10344"/>
                </a:cubicBezTo>
                <a:cubicBezTo>
                  <a:pt x="14016" y="10387"/>
                  <a:pt x="13938" y="10459"/>
                  <a:pt x="13891" y="10492"/>
                </a:cubicBezTo>
                <a:cubicBezTo>
                  <a:pt x="13883" y="10492"/>
                  <a:pt x="13874" y="10492"/>
                  <a:pt x="13866" y="10492"/>
                </a:cubicBezTo>
                <a:cubicBezTo>
                  <a:pt x="13875" y="10457"/>
                  <a:pt x="13907" y="10364"/>
                  <a:pt x="13940" y="10344"/>
                </a:cubicBezTo>
                <a:cubicBezTo>
                  <a:pt x="13982" y="10318"/>
                  <a:pt x="14045" y="10315"/>
                  <a:pt x="14089" y="10344"/>
                </a:cubicBezTo>
                <a:cubicBezTo>
                  <a:pt x="14157" y="10388"/>
                  <a:pt x="14229" y="10414"/>
                  <a:pt x="14312" y="10418"/>
                </a:cubicBezTo>
                <a:cubicBezTo>
                  <a:pt x="14401" y="10423"/>
                  <a:pt x="14460" y="10369"/>
                  <a:pt x="14536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8640" y="4724280"/>
            <a:ext cx="1009440" cy="320760"/>
          </a:xfrm>
          <a:custGeom>
            <a:avLst/>
            <a:gdLst/>
            <a:ahLst/>
            <a:rect l="l" t="t" r="r" b="b"/>
            <a:pathLst>
              <a:path w="2804" h="894">
                <a:moveTo>
                  <a:pt x="19496" y="13543"/>
                </a:moveTo>
                <a:cubicBezTo>
                  <a:pt x="19422" y="13528"/>
                  <a:pt x="19370" y="13457"/>
                  <a:pt x="19298" y="13444"/>
                </a:cubicBezTo>
                <a:cubicBezTo>
                  <a:pt x="19164" y="13421"/>
                  <a:pt x="19051" y="13539"/>
                  <a:pt x="19025" y="13667"/>
                </a:cubicBezTo>
                <a:cubicBezTo>
                  <a:pt x="18994" y="13820"/>
                  <a:pt x="19096" y="13920"/>
                  <a:pt x="19248" y="13915"/>
                </a:cubicBezTo>
                <a:cubicBezTo>
                  <a:pt x="19401" y="13910"/>
                  <a:pt x="19447" y="13753"/>
                  <a:pt x="19496" y="13643"/>
                </a:cubicBezTo>
              </a:path>
              <a:path w="2804" h="894">
                <a:moveTo>
                  <a:pt x="19372" y="13146"/>
                </a:moveTo>
                <a:cubicBezTo>
                  <a:pt x="19394" y="13276"/>
                  <a:pt x="19423" y="13411"/>
                  <a:pt x="19447" y="13543"/>
                </a:cubicBezTo>
                <a:cubicBezTo>
                  <a:pt x="19464" y="13637"/>
                  <a:pt x="19475" y="13764"/>
                  <a:pt x="19521" y="13841"/>
                </a:cubicBezTo>
              </a:path>
              <a:path w="2804" h="894">
                <a:moveTo>
                  <a:pt x="19869" y="13494"/>
                </a:moveTo>
                <a:cubicBezTo>
                  <a:pt x="19945" y="13494"/>
                  <a:pt x="20015" y="13472"/>
                  <a:pt x="20092" y="13469"/>
                </a:cubicBezTo>
                <a:cubicBezTo>
                  <a:pt x="20158" y="13469"/>
                  <a:pt x="20175" y="13469"/>
                  <a:pt x="20216" y="13469"/>
                </a:cubicBezTo>
              </a:path>
              <a:path w="2804" h="894">
                <a:moveTo>
                  <a:pt x="19943" y="13667"/>
                </a:moveTo>
                <a:cubicBezTo>
                  <a:pt x="20027" y="13661"/>
                  <a:pt x="20107" y="13643"/>
                  <a:pt x="20191" y="13643"/>
                </a:cubicBezTo>
              </a:path>
              <a:path w="2804" h="894">
                <a:moveTo>
                  <a:pt x="20613" y="13295"/>
                </a:moveTo>
                <a:cubicBezTo>
                  <a:pt x="20653" y="13255"/>
                  <a:pt x="20693" y="13205"/>
                  <a:pt x="20737" y="13171"/>
                </a:cubicBezTo>
                <a:cubicBezTo>
                  <a:pt x="20802" y="13121"/>
                  <a:pt x="20866" y="13099"/>
                  <a:pt x="20910" y="13146"/>
                </a:cubicBezTo>
                <a:cubicBezTo>
                  <a:pt x="20991" y="13233"/>
                  <a:pt x="20951" y="13249"/>
                  <a:pt x="20910" y="13345"/>
                </a:cubicBezTo>
                <a:cubicBezTo>
                  <a:pt x="20859" y="13465"/>
                  <a:pt x="20807" y="13523"/>
                  <a:pt x="20712" y="13618"/>
                </a:cubicBezTo>
                <a:cubicBezTo>
                  <a:pt x="20590" y="13740"/>
                  <a:pt x="20532" y="13861"/>
                  <a:pt x="20464" y="14015"/>
                </a:cubicBezTo>
                <a:cubicBezTo>
                  <a:pt x="20504" y="14002"/>
                  <a:pt x="20545" y="13911"/>
                  <a:pt x="20588" y="13866"/>
                </a:cubicBezTo>
                <a:cubicBezTo>
                  <a:pt x="20679" y="13770"/>
                  <a:pt x="20719" y="13784"/>
                  <a:pt x="20811" y="13841"/>
                </a:cubicBezTo>
                <a:cubicBezTo>
                  <a:pt x="20904" y="13898"/>
                  <a:pt x="20964" y="13940"/>
                  <a:pt x="21084" y="13915"/>
                </a:cubicBezTo>
                <a:cubicBezTo>
                  <a:pt x="21138" y="13904"/>
                  <a:pt x="21132" y="13877"/>
                  <a:pt x="21158" y="13841"/>
                </a:cubicBezTo>
              </a:path>
              <a:path w="2804" h="894">
                <a:moveTo>
                  <a:pt x="21258" y="13568"/>
                </a:moveTo>
                <a:cubicBezTo>
                  <a:pt x="21258" y="13668"/>
                  <a:pt x="21286" y="13745"/>
                  <a:pt x="21307" y="13841"/>
                </a:cubicBezTo>
                <a:cubicBezTo>
                  <a:pt x="21317" y="13886"/>
                  <a:pt x="21301" y="13875"/>
                  <a:pt x="21332" y="13915"/>
                </a:cubicBezTo>
                <a:cubicBezTo>
                  <a:pt x="21298" y="13882"/>
                  <a:pt x="21258" y="13848"/>
                  <a:pt x="21282" y="13791"/>
                </a:cubicBezTo>
                <a:cubicBezTo>
                  <a:pt x="21297" y="13755"/>
                  <a:pt x="21331" y="13696"/>
                  <a:pt x="21357" y="13667"/>
                </a:cubicBezTo>
                <a:cubicBezTo>
                  <a:pt x="21405" y="13615"/>
                  <a:pt x="21397" y="13603"/>
                  <a:pt x="21456" y="13568"/>
                </a:cubicBezTo>
                <a:cubicBezTo>
                  <a:pt x="21507" y="13538"/>
                  <a:pt x="21566" y="13522"/>
                  <a:pt x="21630" y="13519"/>
                </a:cubicBezTo>
                <a:cubicBezTo>
                  <a:pt x="21707" y="13516"/>
                  <a:pt x="21757" y="13529"/>
                  <a:pt x="21828" y="135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ll which is shown, the radius or the diameter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36232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480060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487692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28800" y="2362320"/>
            <a:ext cx="914400" cy="914400"/>
            <a:chOff x="1828800" y="2362320"/>
            <a:chExt cx="914400" cy="914400"/>
          </a:xfrm>
        </p:grpSpPr>
        <p:sp>
          <p:nvSpPr>
            <p:cNvPr id="104" name=""/>
            <p:cNvSpPr/>
            <p:nvPr/>
          </p:nvSpPr>
          <p:spPr>
            <a:xfrm>
              <a:off x="1828800" y="2362320"/>
              <a:ext cx="91440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0" y="23623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H="1">
            <a:off x="6172200" y="281952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057040" y="49525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48520" y="5105160"/>
            <a:ext cx="838080" cy="43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41720" y="3652920"/>
            <a:ext cx="160200" cy="312480"/>
          </a:xfrm>
          <a:custGeom>
            <a:avLst/>
            <a:gdLst/>
            <a:ahLst/>
            <a:rect l="l" t="t" r="r" b="b"/>
            <a:pathLst>
              <a:path w="447" h="869">
                <a:moveTo>
                  <a:pt x="6648" y="10542"/>
                </a:moveTo>
                <a:cubicBezTo>
                  <a:pt x="6735" y="10572"/>
                  <a:pt x="6602" y="10495"/>
                  <a:pt x="6573" y="10468"/>
                </a:cubicBezTo>
                <a:cubicBezTo>
                  <a:pt x="6472" y="10377"/>
                  <a:pt x="6364" y="10416"/>
                  <a:pt x="6300" y="10542"/>
                </a:cubicBezTo>
                <a:cubicBezTo>
                  <a:pt x="6227" y="10685"/>
                  <a:pt x="6172" y="10890"/>
                  <a:pt x="6325" y="10988"/>
                </a:cubicBezTo>
                <a:cubicBezTo>
                  <a:pt x="6470" y="11080"/>
                  <a:pt x="6587" y="10828"/>
                  <a:pt x="6648" y="10740"/>
                </a:cubicBezTo>
              </a:path>
              <a:path w="447" h="869">
                <a:moveTo>
                  <a:pt x="6449" y="10145"/>
                </a:moveTo>
                <a:cubicBezTo>
                  <a:pt x="6476" y="10336"/>
                  <a:pt x="6538" y="10525"/>
                  <a:pt x="6573" y="10716"/>
                </a:cubicBezTo>
                <a:cubicBezTo>
                  <a:pt x="6583" y="10769"/>
                  <a:pt x="6585" y="10992"/>
                  <a:pt x="6648" y="110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2040" y="3473280"/>
            <a:ext cx="223920" cy="179640"/>
          </a:xfrm>
          <a:custGeom>
            <a:avLst/>
            <a:gdLst/>
            <a:ahLst/>
            <a:rect l="l" t="t" r="r" b="b"/>
            <a:pathLst>
              <a:path w="622" h="497">
                <a:moveTo>
                  <a:pt x="17338" y="9798"/>
                </a:moveTo>
                <a:cubicBezTo>
                  <a:pt x="17397" y="9809"/>
                  <a:pt x="17470" y="9972"/>
                  <a:pt x="17512" y="10071"/>
                </a:cubicBezTo>
                <a:cubicBezTo>
                  <a:pt x="17520" y="10096"/>
                  <a:pt x="17529" y="10120"/>
                  <a:pt x="17537" y="10145"/>
                </a:cubicBezTo>
                <a:cubicBezTo>
                  <a:pt x="17537" y="10031"/>
                  <a:pt x="17523" y="9928"/>
                  <a:pt x="17587" y="9823"/>
                </a:cubicBezTo>
                <a:cubicBezTo>
                  <a:pt x="17638" y="9738"/>
                  <a:pt x="17800" y="9626"/>
                  <a:pt x="17909" y="9649"/>
                </a:cubicBezTo>
                <a:cubicBezTo>
                  <a:pt x="17926" y="9657"/>
                  <a:pt x="17942" y="9666"/>
                  <a:pt x="17959" y="96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73200" y="6000840"/>
            <a:ext cx="206640" cy="241200"/>
          </a:xfrm>
          <a:custGeom>
            <a:avLst/>
            <a:gdLst/>
            <a:ahLst/>
            <a:rect l="l" t="t" r="r" b="b"/>
            <a:pathLst>
              <a:path w="571" h="670">
                <a:moveTo>
                  <a:pt x="6896" y="16818"/>
                </a:moveTo>
                <a:cubicBezTo>
                  <a:pt x="6815" y="16764"/>
                  <a:pt x="6943" y="17021"/>
                  <a:pt x="6945" y="17041"/>
                </a:cubicBezTo>
                <a:cubicBezTo>
                  <a:pt x="6958" y="17148"/>
                  <a:pt x="6970" y="17422"/>
                  <a:pt x="6970" y="17314"/>
                </a:cubicBezTo>
                <a:cubicBezTo>
                  <a:pt x="6920" y="17149"/>
                  <a:pt x="6956" y="17016"/>
                  <a:pt x="7045" y="16867"/>
                </a:cubicBezTo>
                <a:cubicBezTo>
                  <a:pt x="7123" y="16737"/>
                  <a:pt x="7250" y="16684"/>
                  <a:pt x="7392" y="16669"/>
                </a:cubicBezTo>
                <a:cubicBezTo>
                  <a:pt x="7417" y="16669"/>
                  <a:pt x="7425" y="16669"/>
                  <a:pt x="7441" y="166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97800" y="5973840"/>
            <a:ext cx="196560" cy="304560"/>
          </a:xfrm>
          <a:custGeom>
            <a:avLst/>
            <a:gdLst/>
            <a:ahLst/>
            <a:rect l="l" t="t" r="r" b="b"/>
            <a:pathLst>
              <a:path w="546" h="845">
                <a:moveTo>
                  <a:pt x="19100" y="16966"/>
                </a:moveTo>
                <a:cubicBezTo>
                  <a:pt x="19100" y="16992"/>
                  <a:pt x="19105" y="16948"/>
                  <a:pt x="19050" y="16917"/>
                </a:cubicBezTo>
                <a:cubicBezTo>
                  <a:pt x="18944" y="16858"/>
                  <a:pt x="18864" y="16894"/>
                  <a:pt x="18777" y="16966"/>
                </a:cubicBezTo>
                <a:cubicBezTo>
                  <a:pt x="18671" y="17054"/>
                  <a:pt x="18568" y="17199"/>
                  <a:pt x="18628" y="17338"/>
                </a:cubicBezTo>
                <a:cubicBezTo>
                  <a:pt x="18685" y="17470"/>
                  <a:pt x="18870" y="17453"/>
                  <a:pt x="18976" y="17388"/>
                </a:cubicBezTo>
                <a:cubicBezTo>
                  <a:pt x="19001" y="17363"/>
                  <a:pt x="19025" y="17339"/>
                  <a:pt x="19050" y="17314"/>
                </a:cubicBezTo>
              </a:path>
              <a:path w="546" h="845">
                <a:moveTo>
                  <a:pt x="18976" y="16594"/>
                </a:moveTo>
                <a:cubicBezTo>
                  <a:pt x="18925" y="16611"/>
                  <a:pt x="18947" y="16742"/>
                  <a:pt x="18951" y="16793"/>
                </a:cubicBezTo>
                <a:cubicBezTo>
                  <a:pt x="18969" y="16999"/>
                  <a:pt x="19022" y="17186"/>
                  <a:pt x="19124" y="17363"/>
                </a:cubicBezTo>
                <a:cubicBezTo>
                  <a:pt x="19132" y="17371"/>
                  <a:pt x="19141" y="17380"/>
                  <a:pt x="19149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27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7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27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77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275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775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diameter, given the radiu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 = 6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r = 15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r = 3.8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r = 27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914400"/>
            <a:ext cx="37339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radius, given the diame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d = 2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d = 9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d = 36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d = 15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4560" y="304920"/>
            <a:ext cx="80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419200"/>
            <a:ext cx="492120" cy="339840"/>
          </a:xfrm>
          <a:custGeom>
            <a:avLst/>
            <a:gdLst/>
            <a:ahLst/>
            <a:rect l="l" t="t" r="r" b="b"/>
            <a:pathLst>
              <a:path w="1365" h="944">
                <a:moveTo>
                  <a:pt x="3572" y="7342"/>
                </a:moveTo>
                <a:cubicBezTo>
                  <a:pt x="3572" y="7273"/>
                  <a:pt x="3584" y="7243"/>
                  <a:pt x="3522" y="7193"/>
                </a:cubicBezTo>
                <a:cubicBezTo>
                  <a:pt x="3445" y="7131"/>
                  <a:pt x="3348" y="7122"/>
                  <a:pt x="3274" y="7193"/>
                </a:cubicBezTo>
                <a:cubicBezTo>
                  <a:pt x="3192" y="7272"/>
                  <a:pt x="3096" y="7580"/>
                  <a:pt x="3225" y="7665"/>
                </a:cubicBezTo>
                <a:cubicBezTo>
                  <a:pt x="3344" y="7743"/>
                  <a:pt x="3502" y="7550"/>
                  <a:pt x="3572" y="7491"/>
                </a:cubicBezTo>
              </a:path>
              <a:path w="1365" h="944">
                <a:moveTo>
                  <a:pt x="3398" y="6722"/>
                </a:moveTo>
                <a:cubicBezTo>
                  <a:pt x="3487" y="6864"/>
                  <a:pt x="3555" y="7037"/>
                  <a:pt x="3621" y="7193"/>
                </a:cubicBezTo>
                <a:cubicBezTo>
                  <a:pt x="3662" y="7289"/>
                  <a:pt x="3686" y="7364"/>
                  <a:pt x="3696" y="7466"/>
                </a:cubicBezTo>
              </a:path>
              <a:path w="1365" h="944">
                <a:moveTo>
                  <a:pt x="4043" y="7069"/>
                </a:moveTo>
                <a:cubicBezTo>
                  <a:pt x="4159" y="7024"/>
                  <a:pt x="4265" y="6999"/>
                  <a:pt x="4390" y="6995"/>
                </a:cubicBezTo>
                <a:cubicBezTo>
                  <a:pt x="4415" y="6995"/>
                  <a:pt x="4440" y="6995"/>
                  <a:pt x="4465" y="6995"/>
                </a:cubicBezTo>
              </a:path>
              <a:path w="1365" h="944">
                <a:moveTo>
                  <a:pt x="4167" y="7342"/>
                </a:moveTo>
                <a:cubicBezTo>
                  <a:pt x="4290" y="7292"/>
                  <a:pt x="4416" y="7268"/>
                  <a:pt x="4539" y="72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38240" y="2411280"/>
            <a:ext cx="285840" cy="223920"/>
          </a:xfrm>
          <a:custGeom>
            <a:avLst/>
            <a:gdLst/>
            <a:ahLst/>
            <a:rect l="l" t="t" r="r" b="b"/>
            <a:pathLst>
              <a:path w="794" h="621">
                <a:moveTo>
                  <a:pt x="5407" y="6821"/>
                </a:moveTo>
                <a:cubicBezTo>
                  <a:pt x="5351" y="6957"/>
                  <a:pt x="5416" y="7080"/>
                  <a:pt x="5457" y="7218"/>
                </a:cubicBezTo>
                <a:cubicBezTo>
                  <a:pt x="5476" y="7292"/>
                  <a:pt x="5458" y="7325"/>
                  <a:pt x="5507" y="7317"/>
                </a:cubicBezTo>
              </a:path>
              <a:path w="794" h="621">
                <a:moveTo>
                  <a:pt x="5730" y="6772"/>
                </a:moveTo>
                <a:cubicBezTo>
                  <a:pt x="5739" y="6746"/>
                  <a:pt x="5806" y="6687"/>
                  <a:pt x="5854" y="6697"/>
                </a:cubicBezTo>
                <a:cubicBezTo>
                  <a:pt x="5979" y="6722"/>
                  <a:pt x="6154" y="6875"/>
                  <a:pt x="6102" y="7020"/>
                </a:cubicBezTo>
                <a:cubicBezTo>
                  <a:pt x="6046" y="7176"/>
                  <a:pt x="5888" y="7218"/>
                  <a:pt x="5755" y="7193"/>
                </a:cubicBezTo>
                <a:cubicBezTo>
                  <a:pt x="5804" y="7095"/>
                  <a:pt x="5885" y="7052"/>
                  <a:pt x="6003" y="7069"/>
                </a:cubicBezTo>
                <a:cubicBezTo>
                  <a:pt x="6078" y="7080"/>
                  <a:pt x="6119" y="7152"/>
                  <a:pt x="6152" y="7169"/>
                </a:cubicBezTo>
                <a:cubicBezTo>
                  <a:pt x="6160" y="7169"/>
                  <a:pt x="6168" y="7169"/>
                  <a:pt x="6176" y="71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01920" y="2438280"/>
            <a:ext cx="428760" cy="187560"/>
          </a:xfrm>
          <a:custGeom>
            <a:avLst/>
            <a:gdLst/>
            <a:ahLst/>
            <a:rect l="l" t="t" r="r" b="b"/>
            <a:pathLst>
              <a:path w="1192" h="522">
                <a:moveTo>
                  <a:pt x="6896" y="7069"/>
                </a:moveTo>
                <a:cubicBezTo>
                  <a:pt x="6858" y="7019"/>
                  <a:pt x="6826" y="6993"/>
                  <a:pt x="6772" y="6945"/>
                </a:cubicBezTo>
                <a:cubicBezTo>
                  <a:pt x="6668" y="6945"/>
                  <a:pt x="6665" y="7059"/>
                  <a:pt x="6672" y="7144"/>
                </a:cubicBezTo>
                <a:cubicBezTo>
                  <a:pt x="6692" y="7380"/>
                  <a:pt x="6872" y="7258"/>
                  <a:pt x="6995" y="7193"/>
                </a:cubicBezTo>
              </a:path>
              <a:path w="1192" h="522">
                <a:moveTo>
                  <a:pt x="7119" y="6945"/>
                </a:moveTo>
                <a:cubicBezTo>
                  <a:pt x="7146" y="7046"/>
                  <a:pt x="7157" y="7090"/>
                  <a:pt x="7218" y="7169"/>
                </a:cubicBezTo>
                <a:cubicBezTo>
                  <a:pt x="7218" y="7086"/>
                  <a:pt x="7199" y="6997"/>
                  <a:pt x="7243" y="6921"/>
                </a:cubicBezTo>
                <a:cubicBezTo>
                  <a:pt x="7293" y="6835"/>
                  <a:pt x="7471" y="7030"/>
                  <a:pt x="7491" y="7045"/>
                </a:cubicBezTo>
                <a:cubicBezTo>
                  <a:pt x="7508" y="7053"/>
                  <a:pt x="7524" y="7061"/>
                  <a:pt x="7541" y="7069"/>
                </a:cubicBezTo>
                <a:cubicBezTo>
                  <a:pt x="7541" y="6946"/>
                  <a:pt x="7514" y="6835"/>
                  <a:pt x="7640" y="6772"/>
                </a:cubicBezTo>
                <a:cubicBezTo>
                  <a:pt x="7736" y="6724"/>
                  <a:pt x="7845" y="6933"/>
                  <a:pt x="7863" y="6995"/>
                </a:cubicBezTo>
                <a:cubicBezTo>
                  <a:pt x="7863" y="7061"/>
                  <a:pt x="7863" y="7078"/>
                  <a:pt x="7863" y="711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60640" y="3633840"/>
            <a:ext cx="438120" cy="260280"/>
          </a:xfrm>
          <a:custGeom>
            <a:avLst/>
            <a:gdLst/>
            <a:ahLst/>
            <a:rect l="l" t="t" r="r" b="b"/>
            <a:pathLst>
              <a:path w="1216" h="720">
                <a:moveTo>
                  <a:pt x="3621" y="10468"/>
                </a:moveTo>
                <a:cubicBezTo>
                  <a:pt x="3621" y="10412"/>
                  <a:pt x="3624" y="10377"/>
                  <a:pt x="3572" y="10344"/>
                </a:cubicBezTo>
                <a:cubicBezTo>
                  <a:pt x="3492" y="10293"/>
                  <a:pt x="3361" y="10319"/>
                  <a:pt x="3299" y="10393"/>
                </a:cubicBezTo>
                <a:cubicBezTo>
                  <a:pt x="3237" y="10467"/>
                  <a:pt x="3137" y="10770"/>
                  <a:pt x="3299" y="10815"/>
                </a:cubicBezTo>
                <a:cubicBezTo>
                  <a:pt x="3439" y="10854"/>
                  <a:pt x="3539" y="10663"/>
                  <a:pt x="3597" y="10592"/>
                </a:cubicBezTo>
              </a:path>
              <a:path w="1216" h="720">
                <a:moveTo>
                  <a:pt x="3398" y="10096"/>
                </a:moveTo>
                <a:cubicBezTo>
                  <a:pt x="3496" y="10248"/>
                  <a:pt x="3580" y="10398"/>
                  <a:pt x="3646" y="10567"/>
                </a:cubicBezTo>
                <a:cubicBezTo>
                  <a:pt x="3662" y="10609"/>
                  <a:pt x="3672" y="10690"/>
                  <a:pt x="3696" y="10641"/>
                </a:cubicBezTo>
              </a:path>
              <a:path w="1216" h="720">
                <a:moveTo>
                  <a:pt x="4068" y="10220"/>
                </a:moveTo>
                <a:cubicBezTo>
                  <a:pt x="4170" y="10179"/>
                  <a:pt x="4282" y="10144"/>
                  <a:pt x="4390" y="10120"/>
                </a:cubicBezTo>
                <a:cubicBezTo>
                  <a:pt x="4398" y="10120"/>
                  <a:pt x="4407" y="10120"/>
                  <a:pt x="4415" y="10120"/>
                </a:cubicBezTo>
              </a:path>
              <a:path w="1216" h="720">
                <a:moveTo>
                  <a:pt x="4118" y="10368"/>
                </a:moveTo>
                <a:cubicBezTo>
                  <a:pt x="4226" y="10331"/>
                  <a:pt x="4330" y="10301"/>
                  <a:pt x="4440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19160" y="3633840"/>
            <a:ext cx="903240" cy="162000"/>
          </a:xfrm>
          <a:custGeom>
            <a:avLst/>
            <a:gdLst/>
            <a:ahLst/>
            <a:rect l="l" t="t" r="r" b="b"/>
            <a:pathLst>
              <a:path w="2506" h="447">
                <a:moveTo>
                  <a:pt x="5432" y="10269"/>
                </a:moveTo>
                <a:cubicBezTo>
                  <a:pt x="5432" y="10210"/>
                  <a:pt x="5501" y="10138"/>
                  <a:pt x="5556" y="10120"/>
                </a:cubicBezTo>
                <a:cubicBezTo>
                  <a:pt x="5622" y="10120"/>
                  <a:pt x="5639" y="10120"/>
                  <a:pt x="5680" y="10120"/>
                </a:cubicBezTo>
                <a:cubicBezTo>
                  <a:pt x="5666" y="10283"/>
                  <a:pt x="5634" y="10252"/>
                  <a:pt x="5531" y="10344"/>
                </a:cubicBezTo>
                <a:cubicBezTo>
                  <a:pt x="5531" y="10352"/>
                  <a:pt x="5531" y="10360"/>
                  <a:pt x="5531" y="10368"/>
                </a:cubicBezTo>
                <a:cubicBezTo>
                  <a:pt x="5565" y="10319"/>
                  <a:pt x="5641" y="10347"/>
                  <a:pt x="5705" y="10368"/>
                </a:cubicBezTo>
                <a:cubicBezTo>
                  <a:pt x="5692" y="10469"/>
                  <a:pt x="5642" y="10525"/>
                  <a:pt x="5531" y="10542"/>
                </a:cubicBezTo>
                <a:cubicBezTo>
                  <a:pt x="5454" y="10554"/>
                  <a:pt x="5404" y="10529"/>
                  <a:pt x="5333" y="10517"/>
                </a:cubicBezTo>
              </a:path>
              <a:path w="2506" h="447">
                <a:moveTo>
                  <a:pt x="5879" y="10145"/>
                </a:moveTo>
                <a:cubicBezTo>
                  <a:pt x="5850" y="10254"/>
                  <a:pt x="5836" y="10289"/>
                  <a:pt x="5854" y="10393"/>
                </a:cubicBezTo>
                <a:cubicBezTo>
                  <a:pt x="5985" y="10426"/>
                  <a:pt x="6088" y="10421"/>
                  <a:pt x="6176" y="10294"/>
                </a:cubicBezTo>
                <a:cubicBezTo>
                  <a:pt x="6184" y="10269"/>
                  <a:pt x="6193" y="10245"/>
                  <a:pt x="6201" y="10220"/>
                </a:cubicBezTo>
                <a:cubicBezTo>
                  <a:pt x="6105" y="10152"/>
                  <a:pt x="6051" y="10145"/>
                  <a:pt x="5928" y="10145"/>
                </a:cubicBezTo>
              </a:path>
              <a:path w="2506" h="447">
                <a:moveTo>
                  <a:pt x="6846" y="10220"/>
                </a:moveTo>
                <a:cubicBezTo>
                  <a:pt x="6795" y="10189"/>
                  <a:pt x="6722" y="10190"/>
                  <a:pt x="6672" y="10244"/>
                </a:cubicBezTo>
                <a:cubicBezTo>
                  <a:pt x="6602" y="10320"/>
                  <a:pt x="6620" y="10393"/>
                  <a:pt x="6697" y="10443"/>
                </a:cubicBezTo>
                <a:cubicBezTo>
                  <a:pt x="6798" y="10508"/>
                  <a:pt x="6941" y="10444"/>
                  <a:pt x="7020" y="10368"/>
                </a:cubicBezTo>
                <a:cubicBezTo>
                  <a:pt x="7036" y="10343"/>
                  <a:pt x="7053" y="10319"/>
                  <a:pt x="7069" y="10294"/>
                </a:cubicBezTo>
              </a:path>
              <a:path w="2506" h="447">
                <a:moveTo>
                  <a:pt x="7069" y="10145"/>
                </a:moveTo>
                <a:cubicBezTo>
                  <a:pt x="7099" y="10233"/>
                  <a:pt x="7110" y="10273"/>
                  <a:pt x="7169" y="10344"/>
                </a:cubicBezTo>
                <a:cubicBezTo>
                  <a:pt x="7158" y="10290"/>
                  <a:pt x="7117" y="10204"/>
                  <a:pt x="7144" y="10145"/>
                </a:cubicBezTo>
                <a:cubicBezTo>
                  <a:pt x="7189" y="10047"/>
                  <a:pt x="7391" y="10217"/>
                  <a:pt x="7417" y="10244"/>
                </a:cubicBezTo>
                <a:cubicBezTo>
                  <a:pt x="7433" y="10269"/>
                  <a:pt x="7450" y="10294"/>
                  <a:pt x="7466" y="10319"/>
                </a:cubicBezTo>
                <a:cubicBezTo>
                  <a:pt x="7418" y="10367"/>
                  <a:pt x="7461" y="10186"/>
                  <a:pt x="7491" y="10145"/>
                </a:cubicBezTo>
                <a:cubicBezTo>
                  <a:pt x="7564" y="10046"/>
                  <a:pt x="7726" y="10081"/>
                  <a:pt x="7789" y="10170"/>
                </a:cubicBezTo>
                <a:cubicBezTo>
                  <a:pt x="7836" y="10236"/>
                  <a:pt x="7828" y="10286"/>
                  <a:pt x="7813" y="103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31920" y="4776840"/>
            <a:ext cx="152280" cy="304920"/>
          </a:xfrm>
          <a:custGeom>
            <a:avLst/>
            <a:gdLst/>
            <a:ahLst/>
            <a:rect l="l" t="t" r="r" b="b"/>
            <a:pathLst>
              <a:path w="423" h="844">
                <a:moveTo>
                  <a:pt x="3770" y="13891"/>
                </a:moveTo>
                <a:cubicBezTo>
                  <a:pt x="3760" y="13816"/>
                  <a:pt x="3727" y="13786"/>
                  <a:pt x="3671" y="13742"/>
                </a:cubicBezTo>
                <a:cubicBezTo>
                  <a:pt x="3613" y="13696"/>
                  <a:pt x="3511" y="13717"/>
                  <a:pt x="3473" y="13791"/>
                </a:cubicBezTo>
                <a:cubicBezTo>
                  <a:pt x="3422" y="13890"/>
                  <a:pt x="3414" y="13995"/>
                  <a:pt x="3473" y="14089"/>
                </a:cubicBezTo>
                <a:cubicBezTo>
                  <a:pt x="3531" y="14181"/>
                  <a:pt x="3662" y="14063"/>
                  <a:pt x="3696" y="14015"/>
                </a:cubicBezTo>
                <a:cubicBezTo>
                  <a:pt x="3713" y="13982"/>
                  <a:pt x="3729" y="13948"/>
                  <a:pt x="3746" y="13915"/>
                </a:cubicBezTo>
              </a:path>
              <a:path w="423" h="844">
                <a:moveTo>
                  <a:pt x="3671" y="13271"/>
                </a:moveTo>
                <a:cubicBezTo>
                  <a:pt x="3697" y="13396"/>
                  <a:pt x="3737" y="13541"/>
                  <a:pt x="3770" y="13667"/>
                </a:cubicBezTo>
                <a:cubicBezTo>
                  <a:pt x="3797" y="13771"/>
                  <a:pt x="3816" y="13867"/>
                  <a:pt x="3845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4760" y="4857840"/>
            <a:ext cx="63360" cy="98280"/>
          </a:xfrm>
          <a:custGeom>
            <a:avLst/>
            <a:gdLst/>
            <a:ahLst/>
            <a:rect l="l" t="t" r="r" b="b"/>
            <a:pathLst>
              <a:path w="175" h="274">
                <a:moveTo>
                  <a:pt x="4316" y="13494"/>
                </a:moveTo>
                <a:cubicBezTo>
                  <a:pt x="4366" y="13494"/>
                  <a:pt x="4415" y="13494"/>
                  <a:pt x="4465" y="13494"/>
                </a:cubicBezTo>
              </a:path>
              <a:path w="175" h="274">
                <a:moveTo>
                  <a:pt x="4291" y="13767"/>
                </a:moveTo>
                <a:cubicBezTo>
                  <a:pt x="4370" y="13760"/>
                  <a:pt x="4381" y="13765"/>
                  <a:pt x="4440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8880" y="4919760"/>
            <a:ext cx="135000" cy="24120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5383" y="13692"/>
                </a:moveTo>
                <a:cubicBezTo>
                  <a:pt x="5375" y="13692"/>
                  <a:pt x="5366" y="13692"/>
                  <a:pt x="5358" y="13692"/>
                </a:cubicBezTo>
              </a:path>
              <a:path w="373" h="671">
                <a:moveTo>
                  <a:pt x="5358" y="13692"/>
                </a:moveTo>
                <a:cubicBezTo>
                  <a:pt x="5377" y="13653"/>
                  <a:pt x="5422" y="13731"/>
                  <a:pt x="5482" y="13742"/>
                </a:cubicBezTo>
                <a:cubicBezTo>
                  <a:pt x="5560" y="13756"/>
                  <a:pt x="5650" y="13742"/>
                  <a:pt x="5730" y="13742"/>
                </a:cubicBezTo>
                <a:cubicBezTo>
                  <a:pt x="5730" y="13844"/>
                  <a:pt x="5711" y="13939"/>
                  <a:pt x="5705" y="14039"/>
                </a:cubicBezTo>
                <a:cubicBezTo>
                  <a:pt x="5699" y="14142"/>
                  <a:pt x="5680" y="14236"/>
                  <a:pt x="5680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24080" y="5089680"/>
            <a:ext cx="7920" cy="9360"/>
          </a:xfrm>
          <a:custGeom>
            <a:avLst/>
            <a:gdLst/>
            <a:ahLst/>
            <a:rect l="l" t="t" r="r" b="b"/>
            <a:pathLst>
              <a:path w="26" h="25">
                <a:moveTo>
                  <a:pt x="6176" y="14139"/>
                </a:moveTo>
                <a:cubicBezTo>
                  <a:pt x="6184" y="14147"/>
                  <a:pt x="6193" y="14155"/>
                  <a:pt x="6201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30280" y="4894200"/>
            <a:ext cx="152640" cy="22248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6573" y="13618"/>
                </a:moveTo>
                <a:cubicBezTo>
                  <a:pt x="6514" y="13578"/>
                  <a:pt x="6535" y="13685"/>
                  <a:pt x="6524" y="13742"/>
                </a:cubicBezTo>
                <a:cubicBezTo>
                  <a:pt x="6504" y="13847"/>
                  <a:pt x="6441" y="13979"/>
                  <a:pt x="6474" y="14089"/>
                </a:cubicBezTo>
                <a:cubicBezTo>
                  <a:pt x="6485" y="14126"/>
                  <a:pt x="6516" y="14145"/>
                  <a:pt x="6548" y="14163"/>
                </a:cubicBezTo>
                <a:cubicBezTo>
                  <a:pt x="6627" y="14208"/>
                  <a:pt x="6718" y="14179"/>
                  <a:pt x="6796" y="14139"/>
                </a:cubicBezTo>
                <a:cubicBezTo>
                  <a:pt x="6860" y="14106"/>
                  <a:pt x="6930" y="14021"/>
                  <a:pt x="6896" y="13940"/>
                </a:cubicBezTo>
                <a:cubicBezTo>
                  <a:pt x="6888" y="13932"/>
                  <a:pt x="6879" y="13923"/>
                  <a:pt x="6871" y="13915"/>
                </a:cubicBezTo>
                <a:cubicBezTo>
                  <a:pt x="6784" y="13937"/>
                  <a:pt x="6738" y="13988"/>
                  <a:pt x="6722" y="14089"/>
                </a:cubicBezTo>
                <a:cubicBezTo>
                  <a:pt x="6712" y="14156"/>
                  <a:pt x="6715" y="14170"/>
                  <a:pt x="6747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8840" y="4902120"/>
            <a:ext cx="268200" cy="169920"/>
          </a:xfrm>
          <a:custGeom>
            <a:avLst/>
            <a:gdLst/>
            <a:ahLst/>
            <a:rect l="l" t="t" r="r" b="b"/>
            <a:pathLst>
              <a:path w="745" h="472">
                <a:moveTo>
                  <a:pt x="7293" y="13816"/>
                </a:moveTo>
                <a:cubicBezTo>
                  <a:pt x="7293" y="13907"/>
                  <a:pt x="7293" y="13998"/>
                  <a:pt x="7293" y="14089"/>
                </a:cubicBezTo>
              </a:path>
              <a:path w="745" h="472">
                <a:moveTo>
                  <a:pt x="7218" y="13618"/>
                </a:moveTo>
                <a:lnTo>
                  <a:pt x="7218" y="13618"/>
                </a:lnTo>
                <a:lnTo>
                  <a:pt x="7218" y="13618"/>
                </a:lnTo>
              </a:path>
              <a:path w="745" h="472">
                <a:moveTo>
                  <a:pt x="7541" y="13841"/>
                </a:moveTo>
                <a:cubicBezTo>
                  <a:pt x="7573" y="13915"/>
                  <a:pt x="7688" y="14029"/>
                  <a:pt x="7615" y="14064"/>
                </a:cubicBezTo>
                <a:cubicBezTo>
                  <a:pt x="7564" y="14088"/>
                  <a:pt x="7610" y="13830"/>
                  <a:pt x="7615" y="13816"/>
                </a:cubicBezTo>
                <a:cubicBezTo>
                  <a:pt x="7647" y="13728"/>
                  <a:pt x="7708" y="13696"/>
                  <a:pt x="7789" y="13717"/>
                </a:cubicBezTo>
                <a:cubicBezTo>
                  <a:pt x="7885" y="13741"/>
                  <a:pt x="7968" y="13833"/>
                  <a:pt x="7962" y="13940"/>
                </a:cubicBezTo>
                <a:cubicBezTo>
                  <a:pt x="7960" y="13968"/>
                  <a:pt x="7938" y="13993"/>
                  <a:pt x="7938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1000" y="6010200"/>
            <a:ext cx="160200" cy="303120"/>
          </a:xfrm>
          <a:custGeom>
            <a:avLst/>
            <a:gdLst/>
            <a:ahLst/>
            <a:rect l="l" t="t" r="r" b="b"/>
            <a:pathLst>
              <a:path w="447" h="844">
                <a:moveTo>
                  <a:pt x="3870" y="17090"/>
                </a:moveTo>
                <a:cubicBezTo>
                  <a:pt x="3853" y="17049"/>
                  <a:pt x="3772" y="16935"/>
                  <a:pt x="3721" y="16917"/>
                </a:cubicBezTo>
                <a:cubicBezTo>
                  <a:pt x="3612" y="16880"/>
                  <a:pt x="3522" y="17004"/>
                  <a:pt x="3497" y="17090"/>
                </a:cubicBezTo>
                <a:cubicBezTo>
                  <a:pt x="3446" y="17265"/>
                  <a:pt x="3435" y="17441"/>
                  <a:pt x="3572" y="17537"/>
                </a:cubicBezTo>
                <a:cubicBezTo>
                  <a:pt x="3748" y="17442"/>
                  <a:pt x="3795" y="17348"/>
                  <a:pt x="3870" y="17165"/>
                </a:cubicBezTo>
              </a:path>
              <a:path w="447" h="844">
                <a:moveTo>
                  <a:pt x="3795" y="16694"/>
                </a:moveTo>
                <a:cubicBezTo>
                  <a:pt x="3795" y="16851"/>
                  <a:pt x="3845" y="17009"/>
                  <a:pt x="3870" y="17165"/>
                </a:cubicBezTo>
                <a:cubicBezTo>
                  <a:pt x="3886" y="17264"/>
                  <a:pt x="3919" y="17563"/>
                  <a:pt x="3919" y="17462"/>
                </a:cubicBezTo>
                <a:cubicBezTo>
                  <a:pt x="3919" y="17454"/>
                  <a:pt x="3919" y="17446"/>
                  <a:pt x="3919" y="174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4760" y="6081840"/>
            <a:ext cx="1080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4341" y="16892"/>
                </a:moveTo>
                <a:cubicBezTo>
                  <a:pt x="4341" y="16900"/>
                  <a:pt x="4341" y="16909"/>
                  <a:pt x="4341" y="16917"/>
                </a:cubicBezTo>
                <a:cubicBezTo>
                  <a:pt x="4412" y="16931"/>
                  <a:pt x="4461" y="16942"/>
                  <a:pt x="4539" y="16942"/>
                </a:cubicBezTo>
                <a:cubicBezTo>
                  <a:pt x="4564" y="16942"/>
                  <a:pt x="4572" y="16942"/>
                  <a:pt x="4589" y="16942"/>
                </a:cubicBezTo>
              </a:path>
              <a:path w="299" h="348">
                <a:moveTo>
                  <a:pt x="4291" y="17239"/>
                </a:moveTo>
                <a:cubicBezTo>
                  <a:pt x="4379" y="17239"/>
                  <a:pt x="4432" y="17213"/>
                  <a:pt x="4514" y="17190"/>
                </a:cubicBezTo>
                <a:cubicBezTo>
                  <a:pt x="4522" y="17190"/>
                  <a:pt x="4531" y="17190"/>
                  <a:pt x="4539" y="171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63800" y="6000840"/>
            <a:ext cx="331560" cy="285840"/>
          </a:xfrm>
          <a:custGeom>
            <a:avLst/>
            <a:gdLst/>
            <a:ahLst/>
            <a:rect l="l" t="t" r="r" b="b"/>
            <a:pathLst>
              <a:path w="919" h="794">
                <a:moveTo>
                  <a:pt x="5829" y="16768"/>
                </a:moveTo>
                <a:cubicBezTo>
                  <a:pt x="5789" y="16741"/>
                  <a:pt x="5683" y="16784"/>
                  <a:pt x="5606" y="16793"/>
                </a:cubicBezTo>
                <a:cubicBezTo>
                  <a:pt x="5568" y="16797"/>
                  <a:pt x="5522" y="16793"/>
                  <a:pt x="5482" y="16793"/>
                </a:cubicBezTo>
                <a:cubicBezTo>
                  <a:pt x="5482" y="16880"/>
                  <a:pt x="5465" y="16957"/>
                  <a:pt x="5457" y="17041"/>
                </a:cubicBezTo>
                <a:cubicBezTo>
                  <a:pt x="5453" y="17080"/>
                  <a:pt x="5457" y="17125"/>
                  <a:pt x="5457" y="17165"/>
                </a:cubicBezTo>
                <a:cubicBezTo>
                  <a:pt x="5530" y="17165"/>
                  <a:pt x="5582" y="17142"/>
                  <a:pt x="5655" y="17140"/>
                </a:cubicBezTo>
                <a:cubicBezTo>
                  <a:pt x="5747" y="17137"/>
                  <a:pt x="5869" y="17135"/>
                  <a:pt x="5879" y="17239"/>
                </a:cubicBezTo>
                <a:cubicBezTo>
                  <a:pt x="5890" y="17360"/>
                  <a:pt x="5783" y="17406"/>
                  <a:pt x="5680" y="17438"/>
                </a:cubicBezTo>
                <a:cubicBezTo>
                  <a:pt x="5679" y="17438"/>
                  <a:pt x="5504" y="17488"/>
                  <a:pt x="5482" y="17462"/>
                </a:cubicBezTo>
                <a:cubicBezTo>
                  <a:pt x="5482" y="17454"/>
                  <a:pt x="5482" y="17446"/>
                  <a:pt x="5482" y="17438"/>
                </a:cubicBezTo>
              </a:path>
              <a:path w="919" h="794">
                <a:moveTo>
                  <a:pt x="6052" y="16842"/>
                </a:moveTo>
                <a:cubicBezTo>
                  <a:pt x="6036" y="16910"/>
                  <a:pt x="6011" y="16990"/>
                  <a:pt x="6003" y="17066"/>
                </a:cubicBezTo>
                <a:cubicBezTo>
                  <a:pt x="5991" y="17182"/>
                  <a:pt x="6057" y="17160"/>
                  <a:pt x="6152" y="17140"/>
                </a:cubicBezTo>
                <a:cubicBezTo>
                  <a:pt x="6247" y="17120"/>
                  <a:pt x="6280" y="17092"/>
                  <a:pt x="6325" y="17115"/>
                </a:cubicBezTo>
                <a:cubicBezTo>
                  <a:pt x="6333" y="17115"/>
                  <a:pt x="6342" y="17115"/>
                  <a:pt x="6350" y="17115"/>
                </a:cubicBezTo>
              </a:path>
              <a:path w="919" h="794">
                <a:moveTo>
                  <a:pt x="6375" y="16669"/>
                </a:moveTo>
                <a:cubicBezTo>
                  <a:pt x="6323" y="16703"/>
                  <a:pt x="6350" y="16895"/>
                  <a:pt x="6350" y="16966"/>
                </a:cubicBezTo>
                <a:cubicBezTo>
                  <a:pt x="6350" y="17112"/>
                  <a:pt x="6347" y="17250"/>
                  <a:pt x="6375" y="17388"/>
                </a:cubicBezTo>
                <a:cubicBezTo>
                  <a:pt x="6375" y="17396"/>
                  <a:pt x="6375" y="17405"/>
                  <a:pt x="6375" y="174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9200" y="6134040"/>
            <a:ext cx="223920" cy="162000"/>
          </a:xfrm>
          <a:custGeom>
            <a:avLst/>
            <a:gdLst/>
            <a:ahLst/>
            <a:rect l="l" t="t" r="r" b="b"/>
            <a:pathLst>
              <a:path w="621" h="447">
                <a:moveTo>
                  <a:pt x="6796" y="17140"/>
                </a:moveTo>
                <a:cubicBezTo>
                  <a:pt x="6778" y="17085"/>
                  <a:pt x="6772" y="17128"/>
                  <a:pt x="6772" y="17165"/>
                </a:cubicBezTo>
                <a:cubicBezTo>
                  <a:pt x="6772" y="17275"/>
                  <a:pt x="6747" y="17377"/>
                  <a:pt x="6747" y="17487"/>
                </a:cubicBezTo>
                <a:cubicBezTo>
                  <a:pt x="6732" y="17414"/>
                  <a:pt x="6707" y="17344"/>
                  <a:pt x="6722" y="17264"/>
                </a:cubicBezTo>
                <a:cubicBezTo>
                  <a:pt x="6740" y="17169"/>
                  <a:pt x="6776" y="17078"/>
                  <a:pt x="6871" y="17041"/>
                </a:cubicBezTo>
                <a:cubicBezTo>
                  <a:pt x="6953" y="17010"/>
                  <a:pt x="7008" y="17204"/>
                  <a:pt x="7020" y="17239"/>
                </a:cubicBezTo>
                <a:cubicBezTo>
                  <a:pt x="7043" y="17304"/>
                  <a:pt x="7056" y="17348"/>
                  <a:pt x="7069" y="17388"/>
                </a:cubicBezTo>
                <a:cubicBezTo>
                  <a:pt x="7032" y="17325"/>
                  <a:pt x="7019" y="17261"/>
                  <a:pt x="7045" y="17190"/>
                </a:cubicBezTo>
                <a:cubicBezTo>
                  <a:pt x="7071" y="17118"/>
                  <a:pt x="7137" y="17073"/>
                  <a:pt x="7218" y="17090"/>
                </a:cubicBezTo>
                <a:cubicBezTo>
                  <a:pt x="7321" y="17112"/>
                  <a:pt x="7337" y="17259"/>
                  <a:pt x="7342" y="17338"/>
                </a:cubicBezTo>
                <a:cubicBezTo>
                  <a:pt x="7346" y="17391"/>
                  <a:pt x="7361" y="17472"/>
                  <a:pt x="7317" y="174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4800" y="2724120"/>
            <a:ext cx="366480" cy="214200"/>
          </a:xfrm>
          <a:custGeom>
            <a:avLst/>
            <a:gdLst/>
            <a:ahLst/>
            <a:rect l="l" t="t" r="r" b="b"/>
            <a:pathLst>
              <a:path w="1018" h="597">
                <a:moveTo>
                  <a:pt x="15429" y="7640"/>
                </a:moveTo>
                <a:cubicBezTo>
                  <a:pt x="15509" y="7680"/>
                  <a:pt x="15487" y="7848"/>
                  <a:pt x="15503" y="7938"/>
                </a:cubicBezTo>
                <a:cubicBezTo>
                  <a:pt x="15526" y="8053"/>
                  <a:pt x="15535" y="8085"/>
                  <a:pt x="15528" y="8161"/>
                </a:cubicBezTo>
                <a:cubicBezTo>
                  <a:pt x="15528" y="8016"/>
                  <a:pt x="15526" y="7882"/>
                  <a:pt x="15553" y="7739"/>
                </a:cubicBezTo>
                <a:cubicBezTo>
                  <a:pt x="15577" y="7612"/>
                  <a:pt x="15621" y="7573"/>
                  <a:pt x="15751" y="7565"/>
                </a:cubicBezTo>
                <a:cubicBezTo>
                  <a:pt x="15832" y="7560"/>
                  <a:pt x="15888" y="7586"/>
                  <a:pt x="15949" y="7565"/>
                </a:cubicBezTo>
              </a:path>
              <a:path w="1018" h="597">
                <a:moveTo>
                  <a:pt x="16148" y="7789"/>
                </a:moveTo>
                <a:cubicBezTo>
                  <a:pt x="16247" y="7789"/>
                  <a:pt x="16347" y="7789"/>
                  <a:pt x="16446" y="7789"/>
                </a:cubicBezTo>
              </a:path>
              <a:path w="1018" h="597">
                <a:moveTo>
                  <a:pt x="16173" y="8136"/>
                </a:moveTo>
                <a:cubicBezTo>
                  <a:pt x="16257" y="8127"/>
                  <a:pt x="16336" y="8098"/>
                  <a:pt x="16421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88040" y="2678040"/>
            <a:ext cx="295200" cy="216000"/>
          </a:xfrm>
          <a:custGeom>
            <a:avLst/>
            <a:gdLst/>
            <a:ahLst/>
            <a:rect l="l" t="t" r="r" b="b"/>
            <a:pathLst>
              <a:path w="819" h="597">
                <a:moveTo>
                  <a:pt x="17190" y="7516"/>
                </a:moveTo>
                <a:cubicBezTo>
                  <a:pt x="17190" y="7698"/>
                  <a:pt x="17190" y="8194"/>
                  <a:pt x="17190" y="8012"/>
                </a:cubicBezTo>
              </a:path>
              <a:path w="819" h="597">
                <a:moveTo>
                  <a:pt x="17537" y="7541"/>
                </a:moveTo>
                <a:cubicBezTo>
                  <a:pt x="17560" y="7448"/>
                  <a:pt x="17673" y="7434"/>
                  <a:pt x="17760" y="7441"/>
                </a:cubicBezTo>
                <a:cubicBezTo>
                  <a:pt x="17950" y="7457"/>
                  <a:pt x="18013" y="7650"/>
                  <a:pt x="17959" y="7813"/>
                </a:cubicBezTo>
                <a:cubicBezTo>
                  <a:pt x="17910" y="7960"/>
                  <a:pt x="17741" y="8090"/>
                  <a:pt x="17587" y="8012"/>
                </a:cubicBezTo>
                <a:cubicBezTo>
                  <a:pt x="17545" y="7970"/>
                  <a:pt x="17520" y="7962"/>
                  <a:pt x="17562" y="7938"/>
                </a:cubicBezTo>
                <a:cubicBezTo>
                  <a:pt x="17698" y="7909"/>
                  <a:pt x="17801" y="7910"/>
                  <a:pt x="17934" y="7962"/>
                </a:cubicBezTo>
                <a:cubicBezTo>
                  <a:pt x="17974" y="7982"/>
                  <a:pt x="17980" y="7991"/>
                  <a:pt x="18008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97800" y="2776680"/>
            <a:ext cx="258480" cy="134640"/>
          </a:xfrm>
          <a:custGeom>
            <a:avLst/>
            <a:gdLst/>
            <a:ahLst/>
            <a:rect l="l" t="t" r="r" b="b"/>
            <a:pathLst>
              <a:path w="720" h="373">
                <a:moveTo>
                  <a:pt x="18604" y="7789"/>
                </a:moveTo>
                <a:cubicBezTo>
                  <a:pt x="18604" y="7872"/>
                  <a:pt x="18604" y="7954"/>
                  <a:pt x="18604" y="8037"/>
                </a:cubicBezTo>
                <a:cubicBezTo>
                  <a:pt x="18604" y="7947"/>
                  <a:pt x="18628" y="7865"/>
                  <a:pt x="18678" y="7789"/>
                </a:cubicBezTo>
                <a:cubicBezTo>
                  <a:pt x="18780" y="7633"/>
                  <a:pt x="18901" y="7768"/>
                  <a:pt x="18976" y="7863"/>
                </a:cubicBezTo>
                <a:cubicBezTo>
                  <a:pt x="19013" y="7920"/>
                  <a:pt x="19029" y="7923"/>
                  <a:pt x="19025" y="7962"/>
                </a:cubicBezTo>
                <a:cubicBezTo>
                  <a:pt x="19025" y="7852"/>
                  <a:pt x="19039" y="7801"/>
                  <a:pt x="19100" y="7714"/>
                </a:cubicBezTo>
                <a:cubicBezTo>
                  <a:pt x="19231" y="7747"/>
                  <a:pt x="19298" y="7814"/>
                  <a:pt x="19323" y="7962"/>
                </a:cubicBezTo>
                <a:cubicBezTo>
                  <a:pt x="19323" y="8030"/>
                  <a:pt x="19326" y="8049"/>
                  <a:pt x="19298" y="80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911760"/>
            <a:ext cx="206280" cy="19656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15453" y="10914"/>
                </a:moveTo>
                <a:cubicBezTo>
                  <a:pt x="15513" y="11058"/>
                  <a:pt x="15555" y="11206"/>
                  <a:pt x="15577" y="11361"/>
                </a:cubicBezTo>
                <a:cubicBezTo>
                  <a:pt x="15577" y="11402"/>
                  <a:pt x="15585" y="11418"/>
                  <a:pt x="15553" y="11410"/>
                </a:cubicBezTo>
                <a:cubicBezTo>
                  <a:pt x="15482" y="11270"/>
                  <a:pt x="15415" y="11118"/>
                  <a:pt x="15553" y="10988"/>
                </a:cubicBezTo>
                <a:cubicBezTo>
                  <a:pt x="15681" y="10867"/>
                  <a:pt x="15837" y="10864"/>
                  <a:pt x="15999" y="10864"/>
                </a:cubicBezTo>
                <a:cubicBezTo>
                  <a:pt x="16007" y="10864"/>
                  <a:pt x="16016" y="10864"/>
                  <a:pt x="16024" y="108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11920" y="3894120"/>
            <a:ext cx="142920" cy="106560"/>
          </a:xfrm>
          <a:custGeom>
            <a:avLst/>
            <a:gdLst/>
            <a:ahLst/>
            <a:rect l="l" t="t" r="r" b="b"/>
            <a:pathLst>
              <a:path w="398" h="298">
                <a:moveTo>
                  <a:pt x="16421" y="10840"/>
                </a:moveTo>
                <a:cubicBezTo>
                  <a:pt x="16541" y="10840"/>
                  <a:pt x="16650" y="10832"/>
                  <a:pt x="16768" y="10815"/>
                </a:cubicBezTo>
                <a:cubicBezTo>
                  <a:pt x="16809" y="10809"/>
                  <a:pt x="16808" y="10809"/>
                  <a:pt x="16818" y="10840"/>
                </a:cubicBezTo>
              </a:path>
              <a:path w="398" h="298">
                <a:moveTo>
                  <a:pt x="16470" y="11112"/>
                </a:moveTo>
                <a:cubicBezTo>
                  <a:pt x="16581" y="11112"/>
                  <a:pt x="16684" y="11099"/>
                  <a:pt x="16793" y="110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69040" y="3803760"/>
            <a:ext cx="258840" cy="287280"/>
          </a:xfrm>
          <a:custGeom>
            <a:avLst/>
            <a:gdLst/>
            <a:ahLst/>
            <a:rect l="l" t="t" r="r" b="b"/>
            <a:pathLst>
              <a:path w="720" h="795">
                <a:moveTo>
                  <a:pt x="17487" y="10641"/>
                </a:moveTo>
                <a:cubicBezTo>
                  <a:pt x="17471" y="10723"/>
                  <a:pt x="17430" y="10803"/>
                  <a:pt x="17413" y="10889"/>
                </a:cubicBezTo>
                <a:cubicBezTo>
                  <a:pt x="17413" y="10897"/>
                  <a:pt x="17413" y="10906"/>
                  <a:pt x="17413" y="10914"/>
                </a:cubicBezTo>
                <a:cubicBezTo>
                  <a:pt x="17534" y="10952"/>
                  <a:pt x="17633" y="10964"/>
                  <a:pt x="17760" y="10964"/>
                </a:cubicBezTo>
                <a:cubicBezTo>
                  <a:pt x="17785" y="10964"/>
                  <a:pt x="17793" y="10964"/>
                  <a:pt x="17810" y="10964"/>
                </a:cubicBezTo>
              </a:path>
              <a:path w="720" h="795">
                <a:moveTo>
                  <a:pt x="17859" y="10567"/>
                </a:moveTo>
                <a:cubicBezTo>
                  <a:pt x="17859" y="10697"/>
                  <a:pt x="17849" y="10836"/>
                  <a:pt x="17835" y="10964"/>
                </a:cubicBezTo>
                <a:cubicBezTo>
                  <a:pt x="17830" y="11010"/>
                  <a:pt x="17839" y="11301"/>
                  <a:pt x="17810" y="11336"/>
                </a:cubicBezTo>
                <a:cubicBezTo>
                  <a:pt x="17778" y="11374"/>
                  <a:pt x="17785" y="11289"/>
                  <a:pt x="17785" y="11286"/>
                </a:cubicBezTo>
              </a:path>
              <a:path w="720" h="795">
                <a:moveTo>
                  <a:pt x="18132" y="11286"/>
                </a:moveTo>
                <a:cubicBezTo>
                  <a:pt x="18099" y="11330"/>
                  <a:pt x="18099" y="11317"/>
                  <a:pt x="18132" y="113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70800" y="3830760"/>
            <a:ext cx="563400" cy="223560"/>
          </a:xfrm>
          <a:custGeom>
            <a:avLst/>
            <a:gdLst/>
            <a:ahLst/>
            <a:rect l="l" t="t" r="r" b="b"/>
            <a:pathLst>
              <a:path w="1564" h="621">
                <a:moveTo>
                  <a:pt x="18827" y="10691"/>
                </a:moveTo>
                <a:cubicBezTo>
                  <a:pt x="18751" y="10678"/>
                  <a:pt x="18682" y="10647"/>
                  <a:pt x="18604" y="10641"/>
                </a:cubicBezTo>
                <a:cubicBezTo>
                  <a:pt x="18596" y="10641"/>
                  <a:pt x="18587" y="10641"/>
                  <a:pt x="18579" y="10641"/>
                </a:cubicBezTo>
                <a:cubicBezTo>
                  <a:pt x="18579" y="10753"/>
                  <a:pt x="18545" y="10855"/>
                  <a:pt x="18529" y="10964"/>
                </a:cubicBezTo>
                <a:cubicBezTo>
                  <a:pt x="18529" y="11005"/>
                  <a:pt x="18529" y="11013"/>
                  <a:pt x="18529" y="11038"/>
                </a:cubicBezTo>
                <a:cubicBezTo>
                  <a:pt x="18588" y="10986"/>
                  <a:pt x="18711" y="10872"/>
                  <a:pt x="18802" y="10889"/>
                </a:cubicBezTo>
                <a:cubicBezTo>
                  <a:pt x="18906" y="10909"/>
                  <a:pt x="19058" y="11017"/>
                  <a:pt x="18976" y="11137"/>
                </a:cubicBezTo>
                <a:cubicBezTo>
                  <a:pt x="18869" y="11293"/>
                  <a:pt x="18714" y="11270"/>
                  <a:pt x="18554" y="11237"/>
                </a:cubicBezTo>
              </a:path>
              <a:path w="1564" h="621">
                <a:moveTo>
                  <a:pt x="19323" y="10939"/>
                </a:moveTo>
                <a:cubicBezTo>
                  <a:pt x="19330" y="11008"/>
                  <a:pt x="19384" y="11126"/>
                  <a:pt x="19323" y="11187"/>
                </a:cubicBezTo>
                <a:cubicBezTo>
                  <a:pt x="19323" y="11179"/>
                  <a:pt x="19323" y="11170"/>
                  <a:pt x="19323" y="11162"/>
                </a:cubicBezTo>
              </a:path>
              <a:path w="1564" h="621">
                <a:moveTo>
                  <a:pt x="19224" y="10740"/>
                </a:moveTo>
                <a:cubicBezTo>
                  <a:pt x="19232" y="10740"/>
                  <a:pt x="19240" y="10740"/>
                  <a:pt x="19248" y="10740"/>
                </a:cubicBezTo>
              </a:path>
              <a:path w="1564" h="621">
                <a:moveTo>
                  <a:pt x="19621" y="11112"/>
                </a:moveTo>
                <a:cubicBezTo>
                  <a:pt x="19640" y="11170"/>
                  <a:pt x="19648" y="11177"/>
                  <a:pt x="19645" y="11212"/>
                </a:cubicBezTo>
                <a:cubicBezTo>
                  <a:pt x="19645" y="11114"/>
                  <a:pt x="19639" y="11054"/>
                  <a:pt x="19695" y="10964"/>
                </a:cubicBezTo>
                <a:cubicBezTo>
                  <a:pt x="19765" y="10851"/>
                  <a:pt x="19921" y="10827"/>
                  <a:pt x="20017" y="10914"/>
                </a:cubicBezTo>
                <a:cubicBezTo>
                  <a:pt x="20097" y="10987"/>
                  <a:pt x="20100" y="11074"/>
                  <a:pt x="20067" y="111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99080" y="5000760"/>
            <a:ext cx="152280" cy="18720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5553" y="14064"/>
                </a:moveTo>
                <a:cubicBezTo>
                  <a:pt x="15559" y="14064"/>
                  <a:pt x="15639" y="14280"/>
                  <a:pt x="15677" y="14362"/>
                </a:cubicBezTo>
                <a:cubicBezTo>
                  <a:pt x="15685" y="14379"/>
                  <a:pt x="15693" y="14395"/>
                  <a:pt x="15701" y="14412"/>
                </a:cubicBezTo>
                <a:cubicBezTo>
                  <a:pt x="15668" y="14310"/>
                  <a:pt x="15611" y="14234"/>
                  <a:pt x="15627" y="14114"/>
                </a:cubicBezTo>
                <a:cubicBezTo>
                  <a:pt x="15644" y="13985"/>
                  <a:pt x="15786" y="13915"/>
                  <a:pt x="15900" y="13891"/>
                </a:cubicBezTo>
                <a:cubicBezTo>
                  <a:pt x="15941" y="13891"/>
                  <a:pt x="15949" y="13891"/>
                  <a:pt x="15974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29200" y="5045040"/>
            <a:ext cx="142920" cy="9036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16470" y="14064"/>
                </a:moveTo>
                <a:cubicBezTo>
                  <a:pt x="16578" y="14053"/>
                  <a:pt x="16686" y="14026"/>
                  <a:pt x="16793" y="14015"/>
                </a:cubicBezTo>
                <a:cubicBezTo>
                  <a:pt x="16818" y="14015"/>
                  <a:pt x="16842" y="14015"/>
                  <a:pt x="16867" y="14015"/>
                </a:cubicBezTo>
              </a:path>
              <a:path w="398" h="249">
                <a:moveTo>
                  <a:pt x="16619" y="14263"/>
                </a:moveTo>
                <a:cubicBezTo>
                  <a:pt x="16665" y="14258"/>
                  <a:pt x="16837" y="14263"/>
                  <a:pt x="16867" y="14238"/>
                </a:cubicBezTo>
                <a:cubicBezTo>
                  <a:pt x="16867" y="14230"/>
                  <a:pt x="16867" y="14221"/>
                  <a:pt x="16867" y="142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84960" y="5010120"/>
            <a:ext cx="214200" cy="231840"/>
          </a:xfrm>
          <a:custGeom>
            <a:avLst/>
            <a:gdLst/>
            <a:ahLst/>
            <a:rect l="l" t="t" r="r" b="b"/>
            <a:pathLst>
              <a:path w="597" h="646">
                <a:moveTo>
                  <a:pt x="17735" y="14039"/>
                </a:moveTo>
                <a:cubicBezTo>
                  <a:pt x="17741" y="14178"/>
                  <a:pt x="17798" y="14374"/>
                  <a:pt x="17760" y="14511"/>
                </a:cubicBezTo>
                <a:cubicBezTo>
                  <a:pt x="17737" y="14534"/>
                  <a:pt x="17726" y="14542"/>
                  <a:pt x="17760" y="14536"/>
                </a:cubicBezTo>
              </a:path>
              <a:path w="597" h="646">
                <a:moveTo>
                  <a:pt x="18331" y="13915"/>
                </a:moveTo>
                <a:cubicBezTo>
                  <a:pt x="18213" y="13960"/>
                  <a:pt x="18057" y="14014"/>
                  <a:pt x="18033" y="14163"/>
                </a:cubicBezTo>
                <a:cubicBezTo>
                  <a:pt x="18014" y="14284"/>
                  <a:pt x="18284" y="14336"/>
                  <a:pt x="18331" y="14412"/>
                </a:cubicBezTo>
                <a:cubicBezTo>
                  <a:pt x="18331" y="14437"/>
                  <a:pt x="18331" y="14461"/>
                  <a:pt x="18331" y="14486"/>
                </a:cubicBezTo>
                <a:cubicBezTo>
                  <a:pt x="18282" y="14554"/>
                  <a:pt x="18152" y="14609"/>
                  <a:pt x="18132" y="14461"/>
                </a:cubicBezTo>
                <a:cubicBezTo>
                  <a:pt x="18108" y="14284"/>
                  <a:pt x="18303" y="14147"/>
                  <a:pt x="18331" y="13990"/>
                </a:cubicBezTo>
                <a:cubicBezTo>
                  <a:pt x="18303" y="13962"/>
                  <a:pt x="18289" y="13953"/>
                  <a:pt x="18256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5010120"/>
            <a:ext cx="295200" cy="293760"/>
          </a:xfrm>
          <a:custGeom>
            <a:avLst/>
            <a:gdLst/>
            <a:ahLst/>
            <a:rect l="l" t="t" r="r" b="b"/>
            <a:pathLst>
              <a:path w="820" h="820">
                <a:moveTo>
                  <a:pt x="19100" y="14213"/>
                </a:moveTo>
                <a:cubicBezTo>
                  <a:pt x="19116" y="14229"/>
                  <a:pt x="19121" y="14368"/>
                  <a:pt x="19124" y="14436"/>
                </a:cubicBezTo>
                <a:cubicBezTo>
                  <a:pt x="19124" y="14478"/>
                  <a:pt x="19124" y="14486"/>
                  <a:pt x="19124" y="14511"/>
                </a:cubicBezTo>
              </a:path>
              <a:path w="820" h="820">
                <a:moveTo>
                  <a:pt x="19050" y="13915"/>
                </a:moveTo>
                <a:cubicBezTo>
                  <a:pt x="19058" y="13915"/>
                  <a:pt x="19067" y="13915"/>
                  <a:pt x="19075" y="13915"/>
                </a:cubicBezTo>
              </a:path>
              <a:path w="820" h="820">
                <a:moveTo>
                  <a:pt x="19447" y="14436"/>
                </a:moveTo>
                <a:cubicBezTo>
                  <a:pt x="19439" y="14461"/>
                  <a:pt x="19430" y="14486"/>
                  <a:pt x="19422" y="14511"/>
                </a:cubicBezTo>
                <a:cubicBezTo>
                  <a:pt x="19389" y="14402"/>
                  <a:pt x="19353" y="14262"/>
                  <a:pt x="19472" y="14188"/>
                </a:cubicBezTo>
                <a:cubicBezTo>
                  <a:pt x="19609" y="14103"/>
                  <a:pt x="19789" y="14240"/>
                  <a:pt x="19844" y="14362"/>
                </a:cubicBezTo>
                <a:cubicBezTo>
                  <a:pt x="19893" y="14470"/>
                  <a:pt x="19869" y="14620"/>
                  <a:pt x="19869" y="1473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9720" y="6099120"/>
            <a:ext cx="196560" cy="241200"/>
          </a:xfrm>
          <a:custGeom>
            <a:avLst/>
            <a:gdLst/>
            <a:ahLst/>
            <a:rect l="l" t="t" r="r" b="b"/>
            <a:pathLst>
              <a:path w="546" h="670">
                <a:moveTo>
                  <a:pt x="15528" y="17190"/>
                </a:moveTo>
                <a:cubicBezTo>
                  <a:pt x="15528" y="17315"/>
                  <a:pt x="15584" y="17413"/>
                  <a:pt x="15602" y="17537"/>
                </a:cubicBezTo>
                <a:cubicBezTo>
                  <a:pt x="15602" y="17595"/>
                  <a:pt x="15586" y="17619"/>
                  <a:pt x="15627" y="17611"/>
                </a:cubicBezTo>
                <a:cubicBezTo>
                  <a:pt x="15608" y="17501"/>
                  <a:pt x="15550" y="17378"/>
                  <a:pt x="15553" y="17264"/>
                </a:cubicBezTo>
                <a:cubicBezTo>
                  <a:pt x="15557" y="17096"/>
                  <a:pt x="15743" y="17035"/>
                  <a:pt x="15875" y="16991"/>
                </a:cubicBezTo>
                <a:cubicBezTo>
                  <a:pt x="15936" y="16971"/>
                  <a:pt x="16010" y="16952"/>
                  <a:pt x="16073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19840" y="6180120"/>
            <a:ext cx="98280" cy="79560"/>
          </a:xfrm>
          <a:custGeom>
            <a:avLst/>
            <a:gdLst/>
            <a:ahLst/>
            <a:rect l="l" t="t" r="r" b="b"/>
            <a:pathLst>
              <a:path w="273" h="224">
                <a:moveTo>
                  <a:pt x="16470" y="17165"/>
                </a:moveTo>
                <a:cubicBezTo>
                  <a:pt x="16548" y="17181"/>
                  <a:pt x="16596" y="17158"/>
                  <a:pt x="16669" y="17165"/>
                </a:cubicBezTo>
                <a:cubicBezTo>
                  <a:pt x="16718" y="17190"/>
                  <a:pt x="16734" y="17198"/>
                  <a:pt x="16694" y="17239"/>
                </a:cubicBezTo>
              </a:path>
              <a:path w="273" h="224">
                <a:moveTo>
                  <a:pt x="16446" y="17388"/>
                </a:moveTo>
                <a:cubicBezTo>
                  <a:pt x="16529" y="17388"/>
                  <a:pt x="16611" y="17388"/>
                  <a:pt x="16694" y="173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56240" y="6180120"/>
            <a:ext cx="795600" cy="241200"/>
          </a:xfrm>
          <a:custGeom>
            <a:avLst/>
            <a:gdLst/>
            <a:ahLst/>
            <a:rect l="l" t="t" r="r" b="b"/>
            <a:pathLst>
              <a:path w="2208" h="671">
                <a:moveTo>
                  <a:pt x="17959" y="17314"/>
                </a:moveTo>
                <a:cubicBezTo>
                  <a:pt x="17884" y="17314"/>
                  <a:pt x="18081" y="17290"/>
                  <a:pt x="18083" y="17289"/>
                </a:cubicBezTo>
                <a:cubicBezTo>
                  <a:pt x="18144" y="17271"/>
                  <a:pt x="18191" y="17264"/>
                  <a:pt x="18256" y="17264"/>
                </a:cubicBezTo>
                <a:cubicBezTo>
                  <a:pt x="18256" y="17425"/>
                  <a:pt x="18254" y="17582"/>
                  <a:pt x="18231" y="17735"/>
                </a:cubicBezTo>
                <a:cubicBezTo>
                  <a:pt x="18231" y="17785"/>
                  <a:pt x="18231" y="17802"/>
                  <a:pt x="18231" y="17835"/>
                </a:cubicBezTo>
              </a:path>
              <a:path w="2208" h="671">
                <a:moveTo>
                  <a:pt x="18554" y="17760"/>
                </a:moveTo>
                <a:lnTo>
                  <a:pt x="18554" y="17760"/>
                </a:lnTo>
                <a:lnTo>
                  <a:pt x="18554" y="17760"/>
                </a:lnTo>
              </a:path>
              <a:path w="2208" h="671">
                <a:moveTo>
                  <a:pt x="19124" y="17165"/>
                </a:moveTo>
                <a:cubicBezTo>
                  <a:pt x="19045" y="17178"/>
                  <a:pt x="18979" y="17224"/>
                  <a:pt x="18901" y="17239"/>
                </a:cubicBezTo>
                <a:cubicBezTo>
                  <a:pt x="18836" y="17251"/>
                  <a:pt x="18790" y="17351"/>
                  <a:pt x="18777" y="17438"/>
                </a:cubicBezTo>
                <a:cubicBezTo>
                  <a:pt x="18777" y="17523"/>
                  <a:pt x="18783" y="17543"/>
                  <a:pt x="18752" y="17587"/>
                </a:cubicBezTo>
                <a:cubicBezTo>
                  <a:pt x="18852" y="17567"/>
                  <a:pt x="18911" y="17523"/>
                  <a:pt x="19025" y="17537"/>
                </a:cubicBezTo>
                <a:cubicBezTo>
                  <a:pt x="19100" y="17562"/>
                  <a:pt x="19124" y="17570"/>
                  <a:pt x="19174" y="17587"/>
                </a:cubicBezTo>
                <a:cubicBezTo>
                  <a:pt x="19159" y="17709"/>
                  <a:pt x="19118" y="17725"/>
                  <a:pt x="19000" y="17760"/>
                </a:cubicBezTo>
                <a:cubicBezTo>
                  <a:pt x="18862" y="17801"/>
                  <a:pt x="18840" y="17783"/>
                  <a:pt x="18876" y="17661"/>
                </a:cubicBezTo>
              </a:path>
              <a:path w="2208" h="671">
                <a:moveTo>
                  <a:pt x="19496" y="17512"/>
                </a:moveTo>
                <a:cubicBezTo>
                  <a:pt x="19462" y="17489"/>
                  <a:pt x="19472" y="17468"/>
                  <a:pt x="19472" y="17413"/>
                </a:cubicBezTo>
                <a:cubicBezTo>
                  <a:pt x="19472" y="17532"/>
                  <a:pt x="19486" y="17643"/>
                  <a:pt x="19496" y="17760"/>
                </a:cubicBezTo>
                <a:cubicBezTo>
                  <a:pt x="19471" y="17664"/>
                  <a:pt x="19457" y="17577"/>
                  <a:pt x="19521" y="17487"/>
                </a:cubicBezTo>
                <a:cubicBezTo>
                  <a:pt x="19580" y="17403"/>
                  <a:pt x="19695" y="17368"/>
                  <a:pt x="19769" y="17438"/>
                </a:cubicBezTo>
                <a:cubicBezTo>
                  <a:pt x="19807" y="17474"/>
                  <a:pt x="19889" y="17630"/>
                  <a:pt x="19869" y="17686"/>
                </a:cubicBezTo>
                <a:cubicBezTo>
                  <a:pt x="19861" y="17694"/>
                  <a:pt x="19852" y="17703"/>
                  <a:pt x="19844" y="17711"/>
                </a:cubicBezTo>
                <a:cubicBezTo>
                  <a:pt x="19844" y="17615"/>
                  <a:pt x="19839" y="17571"/>
                  <a:pt x="19893" y="17487"/>
                </a:cubicBezTo>
                <a:cubicBezTo>
                  <a:pt x="19946" y="17405"/>
                  <a:pt x="20006" y="17436"/>
                  <a:pt x="20067" y="17487"/>
                </a:cubicBezTo>
                <a:cubicBezTo>
                  <a:pt x="20150" y="17557"/>
                  <a:pt x="20141" y="17636"/>
                  <a:pt x="20141" y="17735"/>
                </a:cubicBezTo>
                <a:cubicBezTo>
                  <a:pt x="20141" y="17743"/>
                  <a:pt x="20141" y="17752"/>
                  <a:pt x="20141" y="177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(C): the distance around a circl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pi ● diamet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ircumference = 2 ● pi ● radi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80880"/>
            <a:ext cx="8610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rcumfer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6161040"/>
            <a:ext cx="519120" cy="447840"/>
          </a:xfrm>
          <a:custGeom>
            <a:avLst/>
            <a:gdLst/>
            <a:ahLst/>
            <a:rect l="l" t="t" r="r" b="b"/>
            <a:pathLst>
              <a:path w="1440" h="1241">
                <a:moveTo>
                  <a:pt x="4663" y="17537"/>
                </a:moveTo>
                <a:cubicBezTo>
                  <a:pt x="4659" y="17508"/>
                  <a:pt x="4632" y="17459"/>
                  <a:pt x="4638" y="17438"/>
                </a:cubicBezTo>
                <a:cubicBezTo>
                  <a:pt x="4650" y="17400"/>
                  <a:pt x="4705" y="17352"/>
                  <a:pt x="4713" y="17314"/>
                </a:cubicBezTo>
                <a:cubicBezTo>
                  <a:pt x="4739" y="17198"/>
                  <a:pt x="4835" y="17210"/>
                  <a:pt x="4911" y="17140"/>
                </a:cubicBezTo>
                <a:cubicBezTo>
                  <a:pt x="4911" y="17132"/>
                  <a:pt x="4911" y="17123"/>
                  <a:pt x="4911" y="17115"/>
                </a:cubicBezTo>
                <a:cubicBezTo>
                  <a:pt x="4910" y="17119"/>
                  <a:pt x="4767" y="17299"/>
                  <a:pt x="4713" y="17363"/>
                </a:cubicBezTo>
                <a:cubicBezTo>
                  <a:pt x="4565" y="17539"/>
                  <a:pt x="4434" y="17703"/>
                  <a:pt x="4242" y="17835"/>
                </a:cubicBezTo>
                <a:cubicBezTo>
                  <a:pt x="4107" y="17928"/>
                  <a:pt x="3998" y="18016"/>
                  <a:pt x="3845" y="18058"/>
                </a:cubicBezTo>
                <a:cubicBezTo>
                  <a:pt x="3745" y="18085"/>
                  <a:pt x="3671" y="18045"/>
                  <a:pt x="3621" y="18033"/>
                </a:cubicBezTo>
                <a:cubicBezTo>
                  <a:pt x="3567" y="18020"/>
                  <a:pt x="3542" y="18046"/>
                  <a:pt x="3522" y="18058"/>
                </a:cubicBezTo>
                <a:cubicBezTo>
                  <a:pt x="3547" y="18132"/>
                  <a:pt x="3593" y="18024"/>
                  <a:pt x="3696" y="17934"/>
                </a:cubicBezTo>
                <a:cubicBezTo>
                  <a:pt x="3831" y="17817"/>
                  <a:pt x="3939" y="17719"/>
                  <a:pt x="4118" y="17785"/>
                </a:cubicBezTo>
                <a:cubicBezTo>
                  <a:pt x="4186" y="17810"/>
                  <a:pt x="4167" y="17834"/>
                  <a:pt x="4192" y="17884"/>
                </a:cubicBezTo>
              </a:path>
              <a:path w="1440" h="1241">
                <a:moveTo>
                  <a:pt x="3969" y="18355"/>
                </a:moveTo>
                <a:lnTo>
                  <a:pt x="3969" y="18355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d the circumference of the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1.) d = 12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 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2) =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14(12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7.68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2.) r = 8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= circum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(</a:t>
            </a:r>
            <a:r>
              <a:rPr b="0" lang="el-GR" sz="2400" spc="-1" strike="noStrike">
                <a:solidFill>
                  <a:srgbClr val="ffffff"/>
                </a:solidFill>
                <a:latin typeface="Comic Sans MS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(8)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.28(8) =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0.24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d the circumfer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r = 5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d = 13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d = 20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r = 7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2554200"/>
            <a:ext cx="438120" cy="231840"/>
          </a:xfrm>
          <a:custGeom>
            <a:avLst/>
            <a:gdLst/>
            <a:ahLst/>
            <a:rect l="l" t="t" r="r" b="b"/>
            <a:pathLst>
              <a:path w="1216" h="646">
                <a:moveTo>
                  <a:pt x="3473" y="7293"/>
                </a:moveTo>
                <a:cubicBezTo>
                  <a:pt x="3459" y="7222"/>
                  <a:pt x="3409" y="7163"/>
                  <a:pt x="3349" y="7119"/>
                </a:cubicBezTo>
                <a:cubicBezTo>
                  <a:pt x="3259" y="7054"/>
                  <a:pt x="3160" y="7123"/>
                  <a:pt x="3125" y="7218"/>
                </a:cubicBezTo>
                <a:cubicBezTo>
                  <a:pt x="3064" y="7384"/>
                  <a:pt x="3077" y="7665"/>
                  <a:pt x="3274" y="7739"/>
                </a:cubicBezTo>
                <a:cubicBezTo>
                  <a:pt x="3385" y="7780"/>
                  <a:pt x="3567" y="7679"/>
                  <a:pt x="3646" y="7615"/>
                </a:cubicBezTo>
                <a:cubicBezTo>
                  <a:pt x="3654" y="7607"/>
                  <a:pt x="3663" y="7598"/>
                  <a:pt x="3671" y="7590"/>
                </a:cubicBezTo>
              </a:path>
              <a:path w="1216" h="646">
                <a:moveTo>
                  <a:pt x="4043" y="7317"/>
                </a:moveTo>
                <a:cubicBezTo>
                  <a:pt x="4119" y="7305"/>
                  <a:pt x="4193" y="7284"/>
                  <a:pt x="4266" y="7268"/>
                </a:cubicBezTo>
                <a:cubicBezTo>
                  <a:pt x="4274" y="7268"/>
                  <a:pt x="4283" y="7268"/>
                  <a:pt x="4291" y="7268"/>
                </a:cubicBezTo>
              </a:path>
              <a:path w="1216" h="646">
                <a:moveTo>
                  <a:pt x="3994" y="7541"/>
                </a:moveTo>
                <a:cubicBezTo>
                  <a:pt x="4105" y="7506"/>
                  <a:pt x="4209" y="7463"/>
                  <a:pt x="4316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3240" y="2438280"/>
            <a:ext cx="1332000" cy="723960"/>
          </a:xfrm>
          <a:custGeom>
            <a:avLst/>
            <a:gdLst/>
            <a:ahLst/>
            <a:rect l="l" t="t" r="r" b="b"/>
            <a:pathLst>
              <a:path w="3696" h="2010">
                <a:moveTo>
                  <a:pt x="5011" y="7193"/>
                </a:moveTo>
                <a:cubicBezTo>
                  <a:pt x="5011" y="7146"/>
                  <a:pt x="5030" y="7087"/>
                  <a:pt x="5085" y="7069"/>
                </a:cubicBezTo>
                <a:cubicBezTo>
                  <a:pt x="5180" y="7038"/>
                  <a:pt x="5270" y="7087"/>
                  <a:pt x="5259" y="7193"/>
                </a:cubicBezTo>
                <a:cubicBezTo>
                  <a:pt x="5243" y="7347"/>
                  <a:pt x="5099" y="7455"/>
                  <a:pt x="5035" y="7590"/>
                </a:cubicBezTo>
                <a:cubicBezTo>
                  <a:pt x="5035" y="7598"/>
                  <a:pt x="5035" y="7607"/>
                  <a:pt x="5035" y="7615"/>
                </a:cubicBezTo>
                <a:cubicBezTo>
                  <a:pt x="5119" y="7598"/>
                  <a:pt x="5193" y="7569"/>
                  <a:pt x="5283" y="7565"/>
                </a:cubicBezTo>
                <a:cubicBezTo>
                  <a:pt x="5338" y="7563"/>
                  <a:pt x="5345" y="7552"/>
                  <a:pt x="5358" y="7590"/>
                </a:cubicBezTo>
              </a:path>
              <a:path w="3696" h="2010">
                <a:moveTo>
                  <a:pt x="5631" y="6995"/>
                </a:moveTo>
                <a:cubicBezTo>
                  <a:pt x="5607" y="7137"/>
                  <a:pt x="5546" y="7271"/>
                  <a:pt x="5531" y="7417"/>
                </a:cubicBezTo>
                <a:cubicBezTo>
                  <a:pt x="5523" y="7495"/>
                  <a:pt x="5533" y="7633"/>
                  <a:pt x="5606" y="7689"/>
                </a:cubicBezTo>
                <a:cubicBezTo>
                  <a:pt x="5615" y="7696"/>
                  <a:pt x="5668" y="7689"/>
                  <a:pt x="5680" y="7689"/>
                </a:cubicBezTo>
              </a:path>
              <a:path w="3696" h="2010">
                <a:moveTo>
                  <a:pt x="6028" y="7094"/>
                </a:moveTo>
                <a:cubicBezTo>
                  <a:pt x="5966" y="7106"/>
                  <a:pt x="5909" y="7149"/>
                  <a:pt x="5854" y="7169"/>
                </a:cubicBezTo>
                <a:cubicBezTo>
                  <a:pt x="5814" y="7183"/>
                  <a:pt x="5792" y="7264"/>
                  <a:pt x="5779" y="7317"/>
                </a:cubicBezTo>
                <a:cubicBezTo>
                  <a:pt x="5779" y="7342"/>
                  <a:pt x="5779" y="7350"/>
                  <a:pt x="5779" y="7367"/>
                </a:cubicBezTo>
                <a:cubicBezTo>
                  <a:pt x="5877" y="7356"/>
                  <a:pt x="5955" y="7321"/>
                  <a:pt x="6052" y="7367"/>
                </a:cubicBezTo>
                <a:cubicBezTo>
                  <a:pt x="6129" y="7403"/>
                  <a:pt x="6093" y="7472"/>
                  <a:pt x="6052" y="7516"/>
                </a:cubicBezTo>
                <a:cubicBezTo>
                  <a:pt x="5997" y="7574"/>
                  <a:pt x="5880" y="7666"/>
                  <a:pt x="5829" y="7590"/>
                </a:cubicBezTo>
              </a:path>
              <a:path w="3696" h="2010">
                <a:moveTo>
                  <a:pt x="6052" y="6921"/>
                </a:moveTo>
                <a:cubicBezTo>
                  <a:pt x="6166" y="6921"/>
                  <a:pt x="6212" y="6970"/>
                  <a:pt x="6276" y="7069"/>
                </a:cubicBezTo>
                <a:cubicBezTo>
                  <a:pt x="6376" y="7224"/>
                  <a:pt x="6393" y="7393"/>
                  <a:pt x="6325" y="7565"/>
                </a:cubicBezTo>
                <a:cubicBezTo>
                  <a:pt x="6282" y="7630"/>
                  <a:pt x="6271" y="7645"/>
                  <a:pt x="6251" y="7689"/>
                </a:cubicBezTo>
              </a:path>
              <a:path w="3696" h="2010">
                <a:moveTo>
                  <a:pt x="6772" y="6945"/>
                </a:moveTo>
                <a:cubicBezTo>
                  <a:pt x="6772" y="6921"/>
                  <a:pt x="6772" y="6913"/>
                  <a:pt x="6747" y="6921"/>
                </a:cubicBezTo>
              </a:path>
              <a:path w="3696" h="2010">
                <a:moveTo>
                  <a:pt x="5333" y="7987"/>
                </a:moveTo>
                <a:cubicBezTo>
                  <a:pt x="5333" y="8122"/>
                  <a:pt x="5295" y="8250"/>
                  <a:pt x="5283" y="8384"/>
                </a:cubicBezTo>
                <a:cubicBezTo>
                  <a:pt x="5282" y="8394"/>
                  <a:pt x="5293" y="8553"/>
                  <a:pt x="5259" y="8483"/>
                </a:cubicBezTo>
              </a:path>
              <a:path w="3696" h="2010">
                <a:moveTo>
                  <a:pt x="5755" y="8037"/>
                </a:moveTo>
                <a:cubicBezTo>
                  <a:pt x="5738" y="8153"/>
                  <a:pt x="5704" y="8269"/>
                  <a:pt x="5680" y="8384"/>
                </a:cubicBezTo>
                <a:cubicBezTo>
                  <a:pt x="5660" y="8485"/>
                  <a:pt x="5641" y="8505"/>
                  <a:pt x="5680" y="8558"/>
                </a:cubicBezTo>
                <a:cubicBezTo>
                  <a:pt x="5813" y="8545"/>
                  <a:pt x="5912" y="8516"/>
                  <a:pt x="5978" y="8384"/>
                </a:cubicBezTo>
                <a:cubicBezTo>
                  <a:pt x="6043" y="8254"/>
                  <a:pt x="5976" y="8170"/>
                  <a:pt x="5854" y="8161"/>
                </a:cubicBezTo>
                <a:cubicBezTo>
                  <a:pt x="5792" y="8161"/>
                  <a:pt x="5777" y="8151"/>
                  <a:pt x="5755" y="8186"/>
                </a:cubicBezTo>
              </a:path>
              <a:path w="3696" h="2010">
                <a:moveTo>
                  <a:pt x="6871" y="6995"/>
                </a:moveTo>
                <a:cubicBezTo>
                  <a:pt x="6809" y="6995"/>
                  <a:pt x="6792" y="6985"/>
                  <a:pt x="6747" y="7045"/>
                </a:cubicBezTo>
                <a:cubicBezTo>
                  <a:pt x="6679" y="7135"/>
                  <a:pt x="6651" y="7234"/>
                  <a:pt x="6623" y="7342"/>
                </a:cubicBezTo>
                <a:cubicBezTo>
                  <a:pt x="6596" y="7445"/>
                  <a:pt x="6578" y="7581"/>
                  <a:pt x="6598" y="7689"/>
                </a:cubicBezTo>
                <a:cubicBezTo>
                  <a:pt x="6614" y="7772"/>
                  <a:pt x="6676" y="7835"/>
                  <a:pt x="6747" y="7863"/>
                </a:cubicBezTo>
              </a:path>
              <a:path w="3696" h="2010">
                <a:moveTo>
                  <a:pt x="6945" y="7243"/>
                </a:moveTo>
                <a:cubicBezTo>
                  <a:pt x="7012" y="7226"/>
                  <a:pt x="7065" y="7200"/>
                  <a:pt x="7144" y="7193"/>
                </a:cubicBezTo>
                <a:cubicBezTo>
                  <a:pt x="7144" y="7313"/>
                  <a:pt x="7122" y="7369"/>
                  <a:pt x="7020" y="7441"/>
                </a:cubicBezTo>
                <a:cubicBezTo>
                  <a:pt x="7003" y="7449"/>
                  <a:pt x="6987" y="7458"/>
                  <a:pt x="6970" y="7466"/>
                </a:cubicBezTo>
                <a:cubicBezTo>
                  <a:pt x="7063" y="7466"/>
                  <a:pt x="7159" y="7432"/>
                  <a:pt x="7169" y="7541"/>
                </a:cubicBezTo>
                <a:cubicBezTo>
                  <a:pt x="7182" y="7685"/>
                  <a:pt x="7031" y="7685"/>
                  <a:pt x="6921" y="7689"/>
                </a:cubicBezTo>
                <a:cubicBezTo>
                  <a:pt x="6853" y="7689"/>
                  <a:pt x="6822" y="7692"/>
                  <a:pt x="6896" y="7665"/>
                </a:cubicBezTo>
              </a:path>
              <a:path w="3696" h="2010">
                <a:moveTo>
                  <a:pt x="7516" y="7466"/>
                </a:moveTo>
                <a:cubicBezTo>
                  <a:pt x="7524" y="7466"/>
                  <a:pt x="7533" y="7466"/>
                  <a:pt x="7541" y="7466"/>
                </a:cubicBezTo>
              </a:path>
              <a:path w="3696" h="2010">
                <a:moveTo>
                  <a:pt x="7615" y="7243"/>
                </a:moveTo>
                <a:cubicBezTo>
                  <a:pt x="7630" y="7345"/>
                  <a:pt x="7661" y="7438"/>
                  <a:pt x="7665" y="7541"/>
                </a:cubicBezTo>
                <a:cubicBezTo>
                  <a:pt x="7665" y="7602"/>
                  <a:pt x="7656" y="7636"/>
                  <a:pt x="7689" y="7590"/>
                </a:cubicBezTo>
              </a:path>
              <a:path w="3696" h="2010">
                <a:moveTo>
                  <a:pt x="7962" y="7169"/>
                </a:moveTo>
                <a:cubicBezTo>
                  <a:pt x="7962" y="7219"/>
                  <a:pt x="7940" y="7306"/>
                  <a:pt x="7938" y="7317"/>
                </a:cubicBezTo>
                <a:cubicBezTo>
                  <a:pt x="7923" y="7383"/>
                  <a:pt x="7947" y="7406"/>
                  <a:pt x="8012" y="7417"/>
                </a:cubicBezTo>
                <a:cubicBezTo>
                  <a:pt x="8056" y="7425"/>
                  <a:pt x="8213" y="7403"/>
                  <a:pt x="8235" y="7367"/>
                </a:cubicBezTo>
                <a:cubicBezTo>
                  <a:pt x="8243" y="7342"/>
                  <a:pt x="8252" y="7318"/>
                  <a:pt x="8260" y="7293"/>
                </a:cubicBezTo>
              </a:path>
              <a:path w="3696" h="2010">
                <a:moveTo>
                  <a:pt x="8235" y="7144"/>
                </a:moveTo>
                <a:cubicBezTo>
                  <a:pt x="8235" y="7243"/>
                  <a:pt x="8194" y="7522"/>
                  <a:pt x="8260" y="7565"/>
                </a:cubicBezTo>
              </a:path>
              <a:path w="3696" h="2010">
                <a:moveTo>
                  <a:pt x="8384" y="6772"/>
                </a:moveTo>
                <a:cubicBezTo>
                  <a:pt x="8550" y="6900"/>
                  <a:pt x="8663" y="7013"/>
                  <a:pt x="8632" y="7243"/>
                </a:cubicBezTo>
                <a:cubicBezTo>
                  <a:pt x="8608" y="7416"/>
                  <a:pt x="8486" y="7467"/>
                  <a:pt x="8359" y="7541"/>
                </a:cubicBezTo>
              </a:path>
              <a:path w="3696" h="2010">
                <a:moveTo>
                  <a:pt x="6722" y="7987"/>
                </a:moveTo>
                <a:cubicBezTo>
                  <a:pt x="6609" y="7987"/>
                  <a:pt x="6605" y="8088"/>
                  <a:pt x="6573" y="8186"/>
                </a:cubicBezTo>
                <a:cubicBezTo>
                  <a:pt x="6507" y="8387"/>
                  <a:pt x="6492" y="8555"/>
                  <a:pt x="6623" y="8731"/>
                </a:cubicBezTo>
                <a:cubicBezTo>
                  <a:pt x="6672" y="8781"/>
                  <a:pt x="6689" y="8798"/>
                  <a:pt x="6722" y="8731"/>
                </a:cubicBezTo>
              </a:path>
              <a:path w="3696" h="2010">
                <a:moveTo>
                  <a:pt x="6846" y="8210"/>
                </a:moveTo>
                <a:cubicBezTo>
                  <a:pt x="6921" y="8168"/>
                  <a:pt x="6982" y="8161"/>
                  <a:pt x="7069" y="8161"/>
                </a:cubicBezTo>
                <a:cubicBezTo>
                  <a:pt x="7047" y="8249"/>
                  <a:pt x="6996" y="8302"/>
                  <a:pt x="6921" y="8359"/>
                </a:cubicBezTo>
                <a:cubicBezTo>
                  <a:pt x="7031" y="8359"/>
                  <a:pt x="7081" y="8356"/>
                  <a:pt x="7169" y="8409"/>
                </a:cubicBezTo>
                <a:cubicBezTo>
                  <a:pt x="7120" y="8516"/>
                  <a:pt x="7059" y="8599"/>
                  <a:pt x="6921" y="8582"/>
                </a:cubicBezTo>
                <a:cubicBezTo>
                  <a:pt x="6904" y="8574"/>
                  <a:pt x="6888" y="8566"/>
                  <a:pt x="6871" y="8558"/>
                </a:cubicBezTo>
              </a:path>
              <a:path w="3696" h="2010">
                <a:moveTo>
                  <a:pt x="7392" y="8384"/>
                </a:moveTo>
                <a:cubicBezTo>
                  <a:pt x="7400" y="8384"/>
                  <a:pt x="7409" y="8384"/>
                  <a:pt x="7417" y="8384"/>
                </a:cubicBezTo>
              </a:path>
              <a:path w="3696" h="2010">
                <a:moveTo>
                  <a:pt x="7665" y="8062"/>
                </a:moveTo>
                <a:cubicBezTo>
                  <a:pt x="7665" y="8206"/>
                  <a:pt x="7593" y="8590"/>
                  <a:pt x="7689" y="8483"/>
                </a:cubicBezTo>
                <a:cubicBezTo>
                  <a:pt x="7697" y="8458"/>
                  <a:pt x="7706" y="8434"/>
                  <a:pt x="7714" y="8409"/>
                </a:cubicBezTo>
              </a:path>
              <a:path w="3696" h="2010">
                <a:moveTo>
                  <a:pt x="7962" y="8062"/>
                </a:moveTo>
                <a:cubicBezTo>
                  <a:pt x="7962" y="8095"/>
                  <a:pt x="7938" y="8247"/>
                  <a:pt x="7987" y="8260"/>
                </a:cubicBezTo>
                <a:cubicBezTo>
                  <a:pt x="8077" y="8285"/>
                  <a:pt x="8222" y="8232"/>
                  <a:pt x="8310" y="8210"/>
                </a:cubicBezTo>
              </a:path>
              <a:path w="3696" h="2010">
                <a:moveTo>
                  <a:pt x="8210" y="7987"/>
                </a:moveTo>
                <a:cubicBezTo>
                  <a:pt x="8210" y="8123"/>
                  <a:pt x="8223" y="8250"/>
                  <a:pt x="8235" y="8384"/>
                </a:cubicBezTo>
                <a:cubicBezTo>
                  <a:pt x="8241" y="8454"/>
                  <a:pt x="8209" y="8517"/>
                  <a:pt x="8260" y="8434"/>
                </a:cubicBezTo>
              </a:path>
              <a:path w="3696" h="2010">
                <a:moveTo>
                  <a:pt x="8334" y="7838"/>
                </a:moveTo>
                <a:cubicBezTo>
                  <a:pt x="8514" y="7902"/>
                  <a:pt x="8685" y="7988"/>
                  <a:pt x="8706" y="8210"/>
                </a:cubicBezTo>
                <a:cubicBezTo>
                  <a:pt x="8721" y="8363"/>
                  <a:pt x="8623" y="8601"/>
                  <a:pt x="8434" y="8558"/>
                </a:cubicBezTo>
                <a:cubicBezTo>
                  <a:pt x="8409" y="8541"/>
                  <a:pt x="8384" y="8525"/>
                  <a:pt x="8359" y="850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19680" y="3384720"/>
            <a:ext cx="171360" cy="204480"/>
          </a:xfrm>
          <a:custGeom>
            <a:avLst/>
            <a:gdLst/>
            <a:ahLst/>
            <a:rect l="l" t="t" r="r" b="b"/>
            <a:pathLst>
              <a:path w="473" h="571">
                <a:moveTo>
                  <a:pt x="10889" y="9426"/>
                </a:moveTo>
                <a:cubicBezTo>
                  <a:pt x="10965" y="9426"/>
                  <a:pt x="11100" y="9387"/>
                  <a:pt x="11162" y="9401"/>
                </a:cubicBezTo>
                <a:cubicBezTo>
                  <a:pt x="11323" y="9438"/>
                  <a:pt x="11239" y="9581"/>
                  <a:pt x="11162" y="9649"/>
                </a:cubicBezTo>
                <a:cubicBezTo>
                  <a:pt x="11137" y="9666"/>
                  <a:pt x="11113" y="9682"/>
                  <a:pt x="11088" y="9699"/>
                </a:cubicBezTo>
                <a:cubicBezTo>
                  <a:pt x="11080" y="9699"/>
                  <a:pt x="11071" y="9699"/>
                  <a:pt x="11063" y="9699"/>
                </a:cubicBezTo>
                <a:cubicBezTo>
                  <a:pt x="11214" y="9653"/>
                  <a:pt x="11275" y="9679"/>
                  <a:pt x="11361" y="9798"/>
                </a:cubicBezTo>
                <a:cubicBezTo>
                  <a:pt x="11294" y="9897"/>
                  <a:pt x="11174" y="9996"/>
                  <a:pt x="11038" y="9971"/>
                </a:cubicBezTo>
                <a:cubicBezTo>
                  <a:pt x="10847" y="9935"/>
                  <a:pt x="11056" y="9785"/>
                  <a:pt x="11088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4880" y="3411360"/>
            <a:ext cx="36360" cy="152640"/>
          </a:xfrm>
          <a:custGeom>
            <a:avLst/>
            <a:gdLst/>
            <a:ahLst/>
            <a:rect l="l" t="t" r="r" b="b"/>
            <a:pathLst>
              <a:path w="100" h="423">
                <a:moveTo>
                  <a:pt x="11708" y="9475"/>
                </a:moveTo>
                <a:cubicBezTo>
                  <a:pt x="11750" y="9590"/>
                  <a:pt x="11788" y="9724"/>
                  <a:pt x="11807" y="9847"/>
                </a:cubicBezTo>
                <a:cubicBezTo>
                  <a:pt x="11807" y="9889"/>
                  <a:pt x="11815" y="9905"/>
                  <a:pt x="11782" y="98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67160" y="351000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2129" y="9748"/>
                </a:moveTo>
                <a:cubicBezTo>
                  <a:pt x="12137" y="9748"/>
                  <a:pt x="12146" y="9748"/>
                  <a:pt x="12154" y="97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1000" y="3375000"/>
            <a:ext cx="312840" cy="152280"/>
          </a:xfrm>
          <a:custGeom>
            <a:avLst/>
            <a:gdLst/>
            <a:ahLst/>
            <a:rect l="l" t="t" r="r" b="b"/>
            <a:pathLst>
              <a:path w="869" h="423">
                <a:moveTo>
                  <a:pt x="12526" y="9376"/>
                </a:moveTo>
                <a:cubicBezTo>
                  <a:pt x="12508" y="9458"/>
                  <a:pt x="12477" y="9509"/>
                  <a:pt x="12477" y="9599"/>
                </a:cubicBezTo>
                <a:cubicBezTo>
                  <a:pt x="12557" y="9633"/>
                  <a:pt x="12690" y="9633"/>
                  <a:pt x="12774" y="9575"/>
                </a:cubicBezTo>
                <a:cubicBezTo>
                  <a:pt x="12774" y="9547"/>
                  <a:pt x="12776" y="9536"/>
                  <a:pt x="12799" y="9525"/>
                </a:cubicBezTo>
              </a:path>
              <a:path w="869" h="423">
                <a:moveTo>
                  <a:pt x="12700" y="9376"/>
                </a:moveTo>
                <a:cubicBezTo>
                  <a:pt x="12683" y="9494"/>
                  <a:pt x="12675" y="9602"/>
                  <a:pt x="12675" y="9723"/>
                </a:cubicBezTo>
                <a:cubicBezTo>
                  <a:pt x="12675" y="9781"/>
                  <a:pt x="12658" y="9806"/>
                  <a:pt x="12700" y="9798"/>
                </a:cubicBezTo>
              </a:path>
              <a:path w="869" h="423">
                <a:moveTo>
                  <a:pt x="13097" y="9451"/>
                </a:moveTo>
                <a:cubicBezTo>
                  <a:pt x="13031" y="9572"/>
                  <a:pt x="13007" y="9639"/>
                  <a:pt x="13047" y="9773"/>
                </a:cubicBezTo>
                <a:cubicBezTo>
                  <a:pt x="13175" y="9757"/>
                  <a:pt x="13339" y="9724"/>
                  <a:pt x="13345" y="9550"/>
                </a:cubicBezTo>
                <a:cubicBezTo>
                  <a:pt x="13349" y="9439"/>
                  <a:pt x="13223" y="9468"/>
                  <a:pt x="13146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18040" y="3313080"/>
            <a:ext cx="27000" cy="231840"/>
          </a:xfrm>
          <a:custGeom>
            <a:avLst/>
            <a:gdLst/>
            <a:ahLst/>
            <a:rect l="l" t="t" r="r" b="b"/>
            <a:pathLst>
              <a:path w="76" h="645">
                <a:moveTo>
                  <a:pt x="13940" y="9500"/>
                </a:moveTo>
                <a:cubicBezTo>
                  <a:pt x="13940" y="9415"/>
                  <a:pt x="13970" y="9616"/>
                  <a:pt x="13990" y="9699"/>
                </a:cubicBezTo>
                <a:cubicBezTo>
                  <a:pt x="14011" y="9781"/>
                  <a:pt x="14019" y="9796"/>
                  <a:pt x="14015" y="9847"/>
                </a:cubicBezTo>
              </a:path>
              <a:path w="76" h="645">
                <a:moveTo>
                  <a:pt x="13990" y="9227"/>
                </a:moveTo>
                <a:cubicBezTo>
                  <a:pt x="13990" y="9219"/>
                  <a:pt x="13990" y="9211"/>
                  <a:pt x="13990" y="920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97320" y="3348000"/>
            <a:ext cx="241560" cy="169920"/>
          </a:xfrm>
          <a:custGeom>
            <a:avLst/>
            <a:gdLst/>
            <a:ahLst/>
            <a:rect l="l" t="t" r="r" b="b"/>
            <a:pathLst>
              <a:path w="671" h="472">
                <a:moveTo>
                  <a:pt x="14436" y="9674"/>
                </a:moveTo>
                <a:cubicBezTo>
                  <a:pt x="14456" y="9734"/>
                  <a:pt x="14455" y="9749"/>
                  <a:pt x="14486" y="9773"/>
                </a:cubicBezTo>
                <a:cubicBezTo>
                  <a:pt x="14486" y="9687"/>
                  <a:pt x="14451" y="9614"/>
                  <a:pt x="14461" y="9525"/>
                </a:cubicBezTo>
                <a:cubicBezTo>
                  <a:pt x="14474" y="9409"/>
                  <a:pt x="14544" y="9359"/>
                  <a:pt x="14635" y="9302"/>
                </a:cubicBezTo>
                <a:cubicBezTo>
                  <a:pt x="14736" y="9414"/>
                  <a:pt x="14809" y="9520"/>
                  <a:pt x="14833" y="9674"/>
                </a:cubicBezTo>
                <a:cubicBezTo>
                  <a:pt x="14833" y="9699"/>
                  <a:pt x="14833" y="9723"/>
                  <a:pt x="14833" y="9748"/>
                </a:cubicBezTo>
              </a:path>
              <a:path w="671" h="472">
                <a:moveTo>
                  <a:pt x="15081" y="9575"/>
                </a:moveTo>
                <a:cubicBezTo>
                  <a:pt x="15089" y="9575"/>
                  <a:pt x="15098" y="9575"/>
                  <a:pt x="15106" y="95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25760" y="517680"/>
            <a:ext cx="1616040" cy="679320"/>
          </a:xfrm>
          <a:custGeom>
            <a:avLst/>
            <a:gdLst/>
            <a:ahLst/>
            <a:rect l="l" t="t" r="r" b="b"/>
            <a:pathLst>
              <a:path w="4491" h="1886">
                <a:moveTo>
                  <a:pt x="5655" y="1885"/>
                </a:moveTo>
                <a:cubicBezTo>
                  <a:pt x="5627" y="1829"/>
                  <a:pt x="5599" y="1764"/>
                  <a:pt x="5556" y="1712"/>
                </a:cubicBezTo>
                <a:cubicBezTo>
                  <a:pt x="5350" y="1768"/>
                  <a:pt x="5320" y="1980"/>
                  <a:pt x="5259" y="2183"/>
                </a:cubicBezTo>
                <a:cubicBezTo>
                  <a:pt x="5184" y="2430"/>
                  <a:pt x="5100" y="2805"/>
                  <a:pt x="5432" y="2902"/>
                </a:cubicBezTo>
                <a:cubicBezTo>
                  <a:pt x="5536" y="2933"/>
                  <a:pt x="5637" y="2889"/>
                  <a:pt x="5730" y="2853"/>
                </a:cubicBezTo>
              </a:path>
              <a:path w="4491" h="1886">
                <a:moveTo>
                  <a:pt x="6102" y="2307"/>
                </a:moveTo>
                <a:cubicBezTo>
                  <a:pt x="6197" y="2297"/>
                  <a:pt x="6334" y="2247"/>
                  <a:pt x="6424" y="2257"/>
                </a:cubicBezTo>
                <a:cubicBezTo>
                  <a:pt x="6447" y="2280"/>
                  <a:pt x="6455" y="2284"/>
                  <a:pt x="6449" y="2307"/>
                </a:cubicBezTo>
              </a:path>
              <a:path w="4491" h="1886">
                <a:moveTo>
                  <a:pt x="6176" y="2629"/>
                </a:moveTo>
                <a:cubicBezTo>
                  <a:pt x="6271" y="2605"/>
                  <a:pt x="6350" y="2604"/>
                  <a:pt x="6449" y="2604"/>
                </a:cubicBezTo>
              </a:path>
              <a:path w="4491" h="1886">
                <a:moveTo>
                  <a:pt x="6995" y="2282"/>
                </a:moveTo>
                <a:cubicBezTo>
                  <a:pt x="6995" y="2392"/>
                  <a:pt x="7034" y="2495"/>
                  <a:pt x="7045" y="2604"/>
                </a:cubicBezTo>
                <a:cubicBezTo>
                  <a:pt x="7052" y="2676"/>
                  <a:pt x="7045" y="2755"/>
                  <a:pt x="7045" y="2828"/>
                </a:cubicBezTo>
              </a:path>
              <a:path w="4491" h="1886">
                <a:moveTo>
                  <a:pt x="7317" y="2307"/>
                </a:moveTo>
                <a:cubicBezTo>
                  <a:pt x="7297" y="2441"/>
                  <a:pt x="7337" y="2564"/>
                  <a:pt x="7342" y="2704"/>
                </a:cubicBezTo>
                <a:cubicBezTo>
                  <a:pt x="7342" y="2748"/>
                  <a:pt x="7339" y="2762"/>
                  <a:pt x="7367" y="2778"/>
                </a:cubicBezTo>
              </a:path>
              <a:path w="4491" h="1886">
                <a:moveTo>
                  <a:pt x="6672" y="2555"/>
                </a:moveTo>
                <a:cubicBezTo>
                  <a:pt x="6659" y="2501"/>
                  <a:pt x="6628" y="2448"/>
                  <a:pt x="6648" y="2381"/>
                </a:cubicBezTo>
                <a:cubicBezTo>
                  <a:pt x="6664" y="2328"/>
                  <a:pt x="6720" y="2303"/>
                  <a:pt x="6772" y="2282"/>
                </a:cubicBezTo>
                <a:cubicBezTo>
                  <a:pt x="6855" y="2249"/>
                  <a:pt x="6963" y="2191"/>
                  <a:pt x="7045" y="2232"/>
                </a:cubicBezTo>
                <a:cubicBezTo>
                  <a:pt x="7122" y="2271"/>
                  <a:pt x="7176" y="2341"/>
                  <a:pt x="7268" y="2332"/>
                </a:cubicBezTo>
                <a:cubicBezTo>
                  <a:pt x="7345" y="2325"/>
                  <a:pt x="7387" y="2301"/>
                  <a:pt x="7441" y="2257"/>
                </a:cubicBezTo>
              </a:path>
              <a:path w="4491" h="1886">
                <a:moveTo>
                  <a:pt x="8334" y="2505"/>
                </a:moveTo>
                <a:cubicBezTo>
                  <a:pt x="8296" y="2492"/>
                  <a:pt x="8246" y="2431"/>
                  <a:pt x="8186" y="2406"/>
                </a:cubicBezTo>
                <a:cubicBezTo>
                  <a:pt x="8088" y="2365"/>
                  <a:pt x="8012" y="2343"/>
                  <a:pt x="7913" y="2406"/>
                </a:cubicBezTo>
                <a:cubicBezTo>
                  <a:pt x="7822" y="2465"/>
                  <a:pt x="7714" y="2559"/>
                  <a:pt x="7714" y="2679"/>
                </a:cubicBezTo>
                <a:cubicBezTo>
                  <a:pt x="7714" y="2853"/>
                  <a:pt x="7937" y="2810"/>
                  <a:pt x="8037" y="2778"/>
                </a:cubicBezTo>
                <a:cubicBezTo>
                  <a:pt x="8140" y="2727"/>
                  <a:pt x="8176" y="2707"/>
                  <a:pt x="8210" y="2629"/>
                </a:cubicBezTo>
              </a:path>
              <a:path w="4491" h="1886">
                <a:moveTo>
                  <a:pt x="8062" y="1885"/>
                </a:moveTo>
                <a:cubicBezTo>
                  <a:pt x="8076" y="2033"/>
                  <a:pt x="8123" y="2197"/>
                  <a:pt x="8186" y="2332"/>
                </a:cubicBezTo>
                <a:cubicBezTo>
                  <a:pt x="8236" y="2439"/>
                  <a:pt x="8297" y="2594"/>
                  <a:pt x="8334" y="2679"/>
                </a:cubicBezTo>
                <a:cubicBezTo>
                  <a:pt x="8334" y="2687"/>
                  <a:pt x="8334" y="2696"/>
                  <a:pt x="8334" y="2704"/>
                </a:cubicBezTo>
              </a:path>
              <a:path w="4491" h="1886">
                <a:moveTo>
                  <a:pt x="4936" y="3324"/>
                </a:moveTo>
                <a:cubicBezTo>
                  <a:pt x="5002" y="3324"/>
                  <a:pt x="5019" y="3324"/>
                  <a:pt x="5085" y="3324"/>
                </a:cubicBezTo>
                <a:cubicBezTo>
                  <a:pt x="5277" y="3324"/>
                  <a:pt x="5465" y="3321"/>
                  <a:pt x="5655" y="3299"/>
                </a:cubicBezTo>
                <a:cubicBezTo>
                  <a:pt x="5781" y="3284"/>
                  <a:pt x="5903" y="3270"/>
                  <a:pt x="6028" y="3249"/>
                </a:cubicBezTo>
                <a:cubicBezTo>
                  <a:pt x="6127" y="3232"/>
                  <a:pt x="6224" y="3235"/>
                  <a:pt x="6325" y="3225"/>
                </a:cubicBezTo>
                <a:cubicBezTo>
                  <a:pt x="6474" y="3210"/>
                  <a:pt x="6618" y="3178"/>
                  <a:pt x="6772" y="3175"/>
                </a:cubicBezTo>
                <a:cubicBezTo>
                  <a:pt x="6932" y="3172"/>
                  <a:pt x="7086" y="3138"/>
                  <a:pt x="7243" y="3125"/>
                </a:cubicBezTo>
                <a:cubicBezTo>
                  <a:pt x="7360" y="3115"/>
                  <a:pt x="7474" y="3109"/>
                  <a:pt x="7590" y="3101"/>
                </a:cubicBezTo>
                <a:cubicBezTo>
                  <a:pt x="7708" y="3093"/>
                  <a:pt x="7821" y="3091"/>
                  <a:pt x="7938" y="3076"/>
                </a:cubicBezTo>
                <a:cubicBezTo>
                  <a:pt x="8060" y="3060"/>
                  <a:pt x="8191" y="3063"/>
                  <a:pt x="8310" y="3026"/>
                </a:cubicBezTo>
                <a:cubicBezTo>
                  <a:pt x="8451" y="2982"/>
                  <a:pt x="8655" y="2952"/>
                  <a:pt x="8781" y="2877"/>
                </a:cubicBezTo>
                <a:cubicBezTo>
                  <a:pt x="8889" y="2813"/>
                  <a:pt x="8909" y="2763"/>
                  <a:pt x="8954" y="2654"/>
                </a:cubicBezTo>
                <a:cubicBezTo>
                  <a:pt x="8983" y="2584"/>
                  <a:pt x="8996" y="2505"/>
                  <a:pt x="9004" y="2431"/>
                </a:cubicBezTo>
                <a:cubicBezTo>
                  <a:pt x="9015" y="2324"/>
                  <a:pt x="9008" y="2207"/>
                  <a:pt x="8979" y="2108"/>
                </a:cubicBezTo>
                <a:cubicBezTo>
                  <a:pt x="8947" y="1999"/>
                  <a:pt x="8892" y="1798"/>
                  <a:pt x="8781" y="1736"/>
                </a:cubicBezTo>
                <a:cubicBezTo>
                  <a:pt x="8718" y="1701"/>
                  <a:pt x="8551" y="1627"/>
                  <a:pt x="8483" y="1612"/>
                </a:cubicBezTo>
                <a:cubicBezTo>
                  <a:pt x="8357" y="1585"/>
                  <a:pt x="8192" y="1549"/>
                  <a:pt x="8062" y="1538"/>
                </a:cubicBezTo>
                <a:cubicBezTo>
                  <a:pt x="7858" y="1521"/>
                  <a:pt x="7644" y="1516"/>
                  <a:pt x="7441" y="1488"/>
                </a:cubicBezTo>
                <a:cubicBezTo>
                  <a:pt x="7291" y="1468"/>
                  <a:pt x="7148" y="1463"/>
                  <a:pt x="6995" y="1463"/>
                </a:cubicBezTo>
                <a:cubicBezTo>
                  <a:pt x="6885" y="1463"/>
                  <a:pt x="6766" y="1446"/>
                  <a:pt x="6672" y="1439"/>
                </a:cubicBezTo>
                <a:cubicBezTo>
                  <a:pt x="6597" y="1433"/>
                  <a:pt x="6491" y="1439"/>
                  <a:pt x="6400" y="1439"/>
                </a:cubicBezTo>
                <a:cubicBezTo>
                  <a:pt x="6265" y="1439"/>
                  <a:pt x="6133" y="1455"/>
                  <a:pt x="6003" y="1463"/>
                </a:cubicBezTo>
                <a:cubicBezTo>
                  <a:pt x="5912" y="1468"/>
                  <a:pt x="5843" y="1474"/>
                  <a:pt x="5755" y="1488"/>
                </a:cubicBezTo>
                <a:cubicBezTo>
                  <a:pt x="5650" y="1505"/>
                  <a:pt x="5538" y="1527"/>
                  <a:pt x="5432" y="1538"/>
                </a:cubicBezTo>
                <a:cubicBezTo>
                  <a:pt x="5307" y="1551"/>
                  <a:pt x="5179" y="1560"/>
                  <a:pt x="5060" y="1612"/>
                </a:cubicBezTo>
                <a:cubicBezTo>
                  <a:pt x="4978" y="1648"/>
                  <a:pt x="4904" y="1723"/>
                  <a:pt x="4837" y="1786"/>
                </a:cubicBezTo>
                <a:cubicBezTo>
                  <a:pt x="4724" y="1891"/>
                  <a:pt x="4674" y="2018"/>
                  <a:pt x="4614" y="2158"/>
                </a:cubicBezTo>
                <a:cubicBezTo>
                  <a:pt x="4576" y="2246"/>
                  <a:pt x="4498" y="2404"/>
                  <a:pt x="4514" y="2505"/>
                </a:cubicBezTo>
                <a:cubicBezTo>
                  <a:pt x="4526" y="2584"/>
                  <a:pt x="4599" y="2667"/>
                  <a:pt x="4638" y="2729"/>
                </a:cubicBezTo>
                <a:cubicBezTo>
                  <a:pt x="4701" y="2828"/>
                  <a:pt x="4769" y="2927"/>
                  <a:pt x="4862" y="3001"/>
                </a:cubicBezTo>
                <a:cubicBezTo>
                  <a:pt x="4912" y="3041"/>
                  <a:pt x="4981" y="3066"/>
                  <a:pt x="5035" y="3101"/>
                </a:cubicBezTo>
                <a:cubicBezTo>
                  <a:pt x="5091" y="3137"/>
                  <a:pt x="5107" y="3130"/>
                  <a:pt x="5159" y="3150"/>
                </a:cubicBezTo>
                <a:cubicBezTo>
                  <a:pt x="5250" y="3186"/>
                  <a:pt x="5309" y="3196"/>
                  <a:pt x="5407" y="3200"/>
                </a:cubicBezTo>
                <a:cubicBezTo>
                  <a:pt x="5612" y="3208"/>
                  <a:pt x="5859" y="3159"/>
                  <a:pt x="6052" y="3175"/>
                </a:cubicBezTo>
                <a:cubicBezTo>
                  <a:pt x="6077" y="3175"/>
                  <a:pt x="6085" y="3175"/>
                  <a:pt x="6077" y="32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47880" y="3589200"/>
            <a:ext cx="1930320" cy="1179720"/>
          </a:xfrm>
          <a:custGeom>
            <a:avLst/>
            <a:gdLst/>
            <a:ahLst/>
            <a:rect l="l" t="t" r="r" b="b"/>
            <a:pathLst>
              <a:path w="5358" h="3276">
                <a:moveTo>
                  <a:pt x="5730" y="10294"/>
                </a:moveTo>
                <a:cubicBezTo>
                  <a:pt x="5800" y="10294"/>
                  <a:pt x="5924" y="10271"/>
                  <a:pt x="5978" y="10319"/>
                </a:cubicBezTo>
                <a:cubicBezTo>
                  <a:pt x="6055" y="10388"/>
                  <a:pt x="5875" y="10455"/>
                  <a:pt x="5854" y="10468"/>
                </a:cubicBezTo>
                <a:cubicBezTo>
                  <a:pt x="5846" y="10476"/>
                  <a:pt x="5837" y="10484"/>
                  <a:pt x="5829" y="10492"/>
                </a:cubicBezTo>
              </a:path>
              <a:path w="5358" h="3276">
                <a:moveTo>
                  <a:pt x="5978" y="10468"/>
                </a:moveTo>
                <a:cubicBezTo>
                  <a:pt x="5997" y="10551"/>
                  <a:pt x="5977" y="10647"/>
                  <a:pt x="5879" y="10691"/>
                </a:cubicBezTo>
                <a:cubicBezTo>
                  <a:pt x="5851" y="10704"/>
                  <a:pt x="5787" y="10691"/>
                  <a:pt x="5755" y="10691"/>
                </a:cubicBezTo>
              </a:path>
              <a:path w="5358" h="3276">
                <a:moveTo>
                  <a:pt x="6152" y="10492"/>
                </a:moveTo>
                <a:lnTo>
                  <a:pt x="6152" y="10492"/>
                </a:lnTo>
              </a:path>
              <a:path w="5358" h="3276">
                <a:moveTo>
                  <a:pt x="6325" y="10344"/>
                </a:moveTo>
                <a:cubicBezTo>
                  <a:pt x="6357" y="10430"/>
                  <a:pt x="6372" y="10508"/>
                  <a:pt x="6400" y="10592"/>
                </a:cubicBezTo>
              </a:path>
              <a:path w="5358" h="3276">
                <a:moveTo>
                  <a:pt x="6623" y="10269"/>
                </a:moveTo>
                <a:cubicBezTo>
                  <a:pt x="6668" y="10299"/>
                  <a:pt x="6621" y="10346"/>
                  <a:pt x="6672" y="10393"/>
                </a:cubicBezTo>
                <a:cubicBezTo>
                  <a:pt x="6777" y="10490"/>
                  <a:pt x="6898" y="10355"/>
                  <a:pt x="6970" y="10294"/>
                </a:cubicBezTo>
              </a:path>
              <a:path w="5358" h="3276">
                <a:moveTo>
                  <a:pt x="6871" y="10195"/>
                </a:moveTo>
                <a:cubicBezTo>
                  <a:pt x="6848" y="10324"/>
                  <a:pt x="6845" y="10444"/>
                  <a:pt x="6796" y="10567"/>
                </a:cubicBezTo>
              </a:path>
              <a:path w="5358" h="3276">
                <a:moveTo>
                  <a:pt x="5283" y="10716"/>
                </a:moveTo>
                <a:cubicBezTo>
                  <a:pt x="5349" y="10813"/>
                  <a:pt x="5435" y="10893"/>
                  <a:pt x="5507" y="10988"/>
                </a:cubicBezTo>
              </a:path>
              <a:path w="5358" h="3276">
                <a:moveTo>
                  <a:pt x="5581" y="10740"/>
                </a:moveTo>
                <a:cubicBezTo>
                  <a:pt x="5521" y="10849"/>
                  <a:pt x="5474" y="10946"/>
                  <a:pt x="5432" y="11063"/>
                </a:cubicBezTo>
              </a:path>
              <a:path w="5358" h="3276">
                <a:moveTo>
                  <a:pt x="6499" y="10716"/>
                </a:moveTo>
                <a:cubicBezTo>
                  <a:pt x="6499" y="10794"/>
                  <a:pt x="6479" y="10861"/>
                  <a:pt x="6474" y="10939"/>
                </a:cubicBezTo>
                <a:cubicBezTo>
                  <a:pt x="6474" y="10947"/>
                  <a:pt x="6474" y="10956"/>
                  <a:pt x="6474" y="10964"/>
                </a:cubicBezTo>
              </a:path>
              <a:path w="5358" h="3276">
                <a:moveTo>
                  <a:pt x="6722" y="10691"/>
                </a:moveTo>
                <a:cubicBezTo>
                  <a:pt x="6796" y="10679"/>
                  <a:pt x="6839" y="10643"/>
                  <a:pt x="6896" y="10666"/>
                </a:cubicBezTo>
                <a:cubicBezTo>
                  <a:pt x="6884" y="10764"/>
                  <a:pt x="6859" y="10771"/>
                  <a:pt x="6772" y="10815"/>
                </a:cubicBezTo>
                <a:cubicBezTo>
                  <a:pt x="6786" y="10844"/>
                  <a:pt x="6877" y="10792"/>
                  <a:pt x="6945" y="10815"/>
                </a:cubicBezTo>
                <a:cubicBezTo>
                  <a:pt x="7019" y="10840"/>
                  <a:pt x="6960" y="10946"/>
                  <a:pt x="6921" y="10964"/>
                </a:cubicBezTo>
                <a:cubicBezTo>
                  <a:pt x="6848" y="10988"/>
                  <a:pt x="6824" y="10996"/>
                  <a:pt x="6772" y="10988"/>
                </a:cubicBezTo>
              </a:path>
              <a:path w="5358" h="3276">
                <a:moveTo>
                  <a:pt x="5358" y="11187"/>
                </a:moveTo>
                <a:cubicBezTo>
                  <a:pt x="5487" y="11187"/>
                  <a:pt x="5602" y="11180"/>
                  <a:pt x="5730" y="11162"/>
                </a:cubicBezTo>
                <a:cubicBezTo>
                  <a:pt x="6011" y="11123"/>
                  <a:pt x="6289" y="11092"/>
                  <a:pt x="6573" y="11088"/>
                </a:cubicBezTo>
                <a:cubicBezTo>
                  <a:pt x="6798" y="11085"/>
                  <a:pt x="7060" y="11115"/>
                  <a:pt x="7268" y="11063"/>
                </a:cubicBezTo>
                <a:cubicBezTo>
                  <a:pt x="7276" y="11063"/>
                  <a:pt x="7285" y="11063"/>
                  <a:pt x="7293" y="11063"/>
                </a:cubicBezTo>
              </a:path>
              <a:path w="5358" h="3276">
                <a:moveTo>
                  <a:pt x="6747" y="11286"/>
                </a:moveTo>
                <a:cubicBezTo>
                  <a:pt x="6757" y="11257"/>
                  <a:pt x="6802" y="11226"/>
                  <a:pt x="6846" y="11212"/>
                </a:cubicBezTo>
                <a:cubicBezTo>
                  <a:pt x="6891" y="11197"/>
                  <a:pt x="6936" y="11216"/>
                  <a:pt x="6945" y="11261"/>
                </a:cubicBezTo>
                <a:cubicBezTo>
                  <a:pt x="6954" y="11303"/>
                  <a:pt x="6942" y="11403"/>
                  <a:pt x="6921" y="11435"/>
                </a:cubicBezTo>
                <a:cubicBezTo>
                  <a:pt x="6888" y="11485"/>
                  <a:pt x="6816" y="11598"/>
                  <a:pt x="6772" y="11633"/>
                </a:cubicBezTo>
                <a:cubicBezTo>
                  <a:pt x="6747" y="11633"/>
                  <a:pt x="6739" y="11633"/>
                  <a:pt x="6747" y="11658"/>
                </a:cubicBezTo>
                <a:cubicBezTo>
                  <a:pt x="6804" y="11658"/>
                  <a:pt x="6871" y="11636"/>
                  <a:pt x="6921" y="11609"/>
                </a:cubicBezTo>
                <a:cubicBezTo>
                  <a:pt x="6992" y="11571"/>
                  <a:pt x="7062" y="11577"/>
                  <a:pt x="7119" y="11534"/>
                </a:cubicBezTo>
              </a:path>
              <a:path w="5358" h="3276">
                <a:moveTo>
                  <a:pt x="6226" y="9971"/>
                </a:moveTo>
                <a:cubicBezTo>
                  <a:pt x="6258" y="9992"/>
                  <a:pt x="6265" y="10088"/>
                  <a:pt x="6251" y="10145"/>
                </a:cubicBezTo>
                <a:cubicBezTo>
                  <a:pt x="6237" y="10202"/>
                  <a:pt x="6200" y="10203"/>
                  <a:pt x="6251" y="10220"/>
                </a:cubicBezTo>
              </a:path>
              <a:path w="5358" h="3276">
                <a:moveTo>
                  <a:pt x="6350" y="11336"/>
                </a:moveTo>
                <a:cubicBezTo>
                  <a:pt x="6358" y="11336"/>
                  <a:pt x="6367" y="11336"/>
                  <a:pt x="6375" y="11336"/>
                </a:cubicBezTo>
                <a:cubicBezTo>
                  <a:pt x="6367" y="11369"/>
                  <a:pt x="6343" y="11431"/>
                  <a:pt x="6325" y="11460"/>
                </a:cubicBezTo>
                <a:cubicBezTo>
                  <a:pt x="6317" y="11468"/>
                  <a:pt x="6308" y="11477"/>
                  <a:pt x="6300" y="11485"/>
                </a:cubicBezTo>
                <a:cubicBezTo>
                  <a:pt x="6342" y="11515"/>
                  <a:pt x="6369" y="11509"/>
                  <a:pt x="6424" y="11509"/>
                </a:cubicBezTo>
                <a:cubicBezTo>
                  <a:pt x="6457" y="11509"/>
                  <a:pt x="6491" y="11509"/>
                  <a:pt x="6524" y="11509"/>
                </a:cubicBezTo>
              </a:path>
              <a:path w="5358" h="3276">
                <a:moveTo>
                  <a:pt x="6548" y="11336"/>
                </a:moveTo>
                <a:cubicBezTo>
                  <a:pt x="6506" y="11443"/>
                  <a:pt x="6464" y="11568"/>
                  <a:pt x="6449" y="11683"/>
                </a:cubicBezTo>
                <a:cubicBezTo>
                  <a:pt x="6449" y="11741"/>
                  <a:pt x="6449" y="11749"/>
                  <a:pt x="6449" y="11782"/>
                </a:cubicBezTo>
              </a:path>
              <a:path w="5358" h="3276">
                <a:moveTo>
                  <a:pt x="5953" y="11485"/>
                </a:moveTo>
                <a:cubicBezTo>
                  <a:pt x="5946" y="11468"/>
                  <a:pt x="5878" y="11348"/>
                  <a:pt x="5854" y="11336"/>
                </a:cubicBezTo>
                <a:cubicBezTo>
                  <a:pt x="5774" y="11297"/>
                  <a:pt x="5671" y="11335"/>
                  <a:pt x="5655" y="11410"/>
                </a:cubicBezTo>
                <a:cubicBezTo>
                  <a:pt x="5646" y="11451"/>
                  <a:pt x="5663" y="11563"/>
                  <a:pt x="5705" y="11584"/>
                </a:cubicBezTo>
                <a:cubicBezTo>
                  <a:pt x="5775" y="11619"/>
                  <a:pt x="5823" y="11554"/>
                  <a:pt x="5854" y="11509"/>
                </a:cubicBezTo>
                <a:cubicBezTo>
                  <a:pt x="5894" y="11450"/>
                  <a:pt x="5898" y="11439"/>
                  <a:pt x="5928" y="11410"/>
                </a:cubicBezTo>
                <a:cubicBezTo>
                  <a:pt x="5911" y="11516"/>
                  <a:pt x="5884" y="11628"/>
                  <a:pt x="5854" y="11733"/>
                </a:cubicBezTo>
                <a:cubicBezTo>
                  <a:pt x="5835" y="11790"/>
                  <a:pt x="5826" y="11797"/>
                  <a:pt x="5829" y="11832"/>
                </a:cubicBezTo>
              </a:path>
              <a:path w="5358" h="3276">
                <a:moveTo>
                  <a:pt x="6945" y="11782"/>
                </a:moveTo>
                <a:cubicBezTo>
                  <a:pt x="6902" y="11782"/>
                  <a:pt x="6896" y="11789"/>
                  <a:pt x="6871" y="11807"/>
                </a:cubicBezTo>
                <a:cubicBezTo>
                  <a:pt x="6828" y="11840"/>
                  <a:pt x="6848" y="11900"/>
                  <a:pt x="6821" y="11931"/>
                </a:cubicBezTo>
                <a:cubicBezTo>
                  <a:pt x="6794" y="11962"/>
                  <a:pt x="6796" y="11993"/>
                  <a:pt x="6796" y="12055"/>
                </a:cubicBezTo>
                <a:cubicBezTo>
                  <a:pt x="6796" y="12091"/>
                  <a:pt x="6857" y="12102"/>
                  <a:pt x="6896" y="12105"/>
                </a:cubicBezTo>
                <a:cubicBezTo>
                  <a:pt x="6937" y="12108"/>
                  <a:pt x="7041" y="12101"/>
                  <a:pt x="7069" y="12080"/>
                </a:cubicBezTo>
                <a:cubicBezTo>
                  <a:pt x="7086" y="12067"/>
                  <a:pt x="7131" y="11989"/>
                  <a:pt x="7119" y="11956"/>
                </a:cubicBezTo>
                <a:cubicBezTo>
                  <a:pt x="7091" y="11876"/>
                  <a:pt x="7085" y="11881"/>
                  <a:pt x="7020" y="11832"/>
                </a:cubicBezTo>
                <a:cubicBezTo>
                  <a:pt x="7005" y="11820"/>
                  <a:pt x="6925" y="11812"/>
                  <a:pt x="6921" y="11807"/>
                </a:cubicBezTo>
                <a:cubicBezTo>
                  <a:pt x="6921" y="11799"/>
                  <a:pt x="6921" y="11790"/>
                  <a:pt x="6921" y="11782"/>
                </a:cubicBezTo>
              </a:path>
              <a:path w="5358" h="3276">
                <a:moveTo>
                  <a:pt x="6251" y="11881"/>
                </a:moveTo>
                <a:cubicBezTo>
                  <a:pt x="6251" y="11928"/>
                  <a:pt x="6258" y="11964"/>
                  <a:pt x="6226" y="12005"/>
                </a:cubicBezTo>
                <a:cubicBezTo>
                  <a:pt x="6186" y="12057"/>
                  <a:pt x="6159" y="12073"/>
                  <a:pt x="6127" y="12129"/>
                </a:cubicBezTo>
                <a:cubicBezTo>
                  <a:pt x="6224" y="12129"/>
                  <a:pt x="6307" y="12120"/>
                  <a:pt x="6400" y="12105"/>
                </a:cubicBezTo>
                <a:cubicBezTo>
                  <a:pt x="6423" y="12101"/>
                  <a:pt x="6451" y="12105"/>
                  <a:pt x="6474" y="12105"/>
                </a:cubicBezTo>
              </a:path>
              <a:path w="5358" h="3276">
                <a:moveTo>
                  <a:pt x="6548" y="11832"/>
                </a:moveTo>
                <a:cubicBezTo>
                  <a:pt x="6525" y="11935"/>
                  <a:pt x="6481" y="12045"/>
                  <a:pt x="6449" y="12154"/>
                </a:cubicBezTo>
                <a:cubicBezTo>
                  <a:pt x="6431" y="12215"/>
                  <a:pt x="6431" y="12236"/>
                  <a:pt x="6400" y="12278"/>
                </a:cubicBezTo>
              </a:path>
              <a:path w="5358" h="3276">
                <a:moveTo>
                  <a:pt x="5755" y="11956"/>
                </a:moveTo>
                <a:cubicBezTo>
                  <a:pt x="5685" y="12007"/>
                  <a:pt x="5711" y="12114"/>
                  <a:pt x="5680" y="12204"/>
                </a:cubicBezTo>
                <a:cubicBezTo>
                  <a:pt x="5662" y="12256"/>
                  <a:pt x="5655" y="12254"/>
                  <a:pt x="5655" y="12303"/>
                </a:cubicBezTo>
              </a:path>
              <a:path w="5358" h="3276">
                <a:moveTo>
                  <a:pt x="5184" y="11931"/>
                </a:moveTo>
                <a:cubicBezTo>
                  <a:pt x="5120" y="11931"/>
                  <a:pt x="5253" y="11907"/>
                  <a:pt x="5259" y="11906"/>
                </a:cubicBezTo>
                <a:cubicBezTo>
                  <a:pt x="5312" y="11896"/>
                  <a:pt x="5379" y="11943"/>
                  <a:pt x="5358" y="12005"/>
                </a:cubicBezTo>
                <a:cubicBezTo>
                  <a:pt x="5344" y="12046"/>
                  <a:pt x="5292" y="12051"/>
                  <a:pt x="5259" y="12080"/>
                </a:cubicBezTo>
                <a:cubicBezTo>
                  <a:pt x="5292" y="12080"/>
                  <a:pt x="5365" y="12085"/>
                  <a:pt x="5383" y="12105"/>
                </a:cubicBezTo>
                <a:cubicBezTo>
                  <a:pt x="5459" y="12189"/>
                  <a:pt x="5339" y="12234"/>
                  <a:pt x="5283" y="12254"/>
                </a:cubicBezTo>
                <a:cubicBezTo>
                  <a:pt x="5224" y="12275"/>
                  <a:pt x="5194" y="12278"/>
                  <a:pt x="5135" y="12278"/>
                </a:cubicBezTo>
              </a:path>
              <a:path w="5358" h="3276">
                <a:moveTo>
                  <a:pt x="10145" y="11683"/>
                </a:moveTo>
                <a:cubicBezTo>
                  <a:pt x="10192" y="11655"/>
                  <a:pt x="10237" y="11635"/>
                  <a:pt x="10294" y="11633"/>
                </a:cubicBezTo>
                <a:cubicBezTo>
                  <a:pt x="10461" y="11627"/>
                  <a:pt x="10544" y="11741"/>
                  <a:pt x="10468" y="11906"/>
                </a:cubicBezTo>
                <a:cubicBezTo>
                  <a:pt x="10397" y="12060"/>
                  <a:pt x="10209" y="12090"/>
                  <a:pt x="10071" y="12080"/>
                </a:cubicBezTo>
                <a:cubicBezTo>
                  <a:pt x="10081" y="12000"/>
                  <a:pt x="10115" y="11906"/>
                  <a:pt x="10220" y="11906"/>
                </a:cubicBezTo>
                <a:cubicBezTo>
                  <a:pt x="10288" y="11906"/>
                  <a:pt x="10345" y="11966"/>
                  <a:pt x="10393" y="12005"/>
                </a:cubicBezTo>
              </a:path>
              <a:path w="5358" h="3276">
                <a:moveTo>
                  <a:pt x="9624" y="11782"/>
                </a:moveTo>
                <a:cubicBezTo>
                  <a:pt x="9624" y="11748"/>
                  <a:pt x="9637" y="11702"/>
                  <a:pt x="9599" y="11683"/>
                </a:cubicBezTo>
                <a:cubicBezTo>
                  <a:pt x="9485" y="11625"/>
                  <a:pt x="9313" y="11696"/>
                  <a:pt x="9227" y="11782"/>
                </a:cubicBezTo>
                <a:cubicBezTo>
                  <a:pt x="9219" y="11799"/>
                  <a:pt x="9211" y="11815"/>
                  <a:pt x="9203" y="11832"/>
                </a:cubicBezTo>
                <a:cubicBezTo>
                  <a:pt x="9270" y="11909"/>
                  <a:pt x="9448" y="11945"/>
                  <a:pt x="9475" y="12055"/>
                </a:cubicBezTo>
                <a:cubicBezTo>
                  <a:pt x="9497" y="12146"/>
                  <a:pt x="9373" y="12157"/>
                  <a:pt x="9327" y="12129"/>
                </a:cubicBezTo>
                <a:cubicBezTo>
                  <a:pt x="9315" y="11970"/>
                  <a:pt x="9379" y="11916"/>
                  <a:pt x="9451" y="11782"/>
                </a:cubicBezTo>
                <a:cubicBezTo>
                  <a:pt x="9451" y="11754"/>
                  <a:pt x="9449" y="11743"/>
                  <a:pt x="9426" y="11733"/>
                </a:cubicBezTo>
              </a:path>
              <a:path w="5358" h="3276">
                <a:moveTo>
                  <a:pt x="8855" y="11782"/>
                </a:moveTo>
                <a:cubicBezTo>
                  <a:pt x="8810" y="11797"/>
                  <a:pt x="8738" y="11873"/>
                  <a:pt x="8706" y="11931"/>
                </a:cubicBezTo>
                <a:cubicBezTo>
                  <a:pt x="8648" y="12036"/>
                  <a:pt x="8640" y="12139"/>
                  <a:pt x="8632" y="12254"/>
                </a:cubicBezTo>
                <a:cubicBezTo>
                  <a:pt x="8752" y="12293"/>
                  <a:pt x="8876" y="12271"/>
                  <a:pt x="8930" y="12129"/>
                </a:cubicBezTo>
                <a:cubicBezTo>
                  <a:pt x="8959" y="12055"/>
                  <a:pt x="8897" y="11854"/>
                  <a:pt x="8830" y="11832"/>
                </a:cubicBezTo>
                <a:cubicBezTo>
                  <a:pt x="8762" y="11832"/>
                  <a:pt x="8743" y="11829"/>
                  <a:pt x="8706" y="11857"/>
                </a:cubicBezTo>
              </a:path>
              <a:path w="5358" h="3276">
                <a:moveTo>
                  <a:pt x="5209" y="11261"/>
                </a:moveTo>
                <a:cubicBezTo>
                  <a:pt x="5267" y="11280"/>
                  <a:pt x="5195" y="11355"/>
                  <a:pt x="5184" y="11410"/>
                </a:cubicBezTo>
                <a:cubicBezTo>
                  <a:pt x="5171" y="11476"/>
                  <a:pt x="5197" y="11460"/>
                  <a:pt x="5159" y="11509"/>
                </a:cubicBezTo>
              </a:path>
              <a:path w="5358" h="3276">
                <a:moveTo>
                  <a:pt x="7962" y="11832"/>
                </a:moveTo>
                <a:cubicBezTo>
                  <a:pt x="7916" y="11895"/>
                  <a:pt x="7875" y="11956"/>
                  <a:pt x="7838" y="12030"/>
                </a:cubicBezTo>
                <a:cubicBezTo>
                  <a:pt x="7830" y="12047"/>
                  <a:pt x="7821" y="12063"/>
                  <a:pt x="7813" y="12080"/>
                </a:cubicBezTo>
                <a:cubicBezTo>
                  <a:pt x="7907" y="12120"/>
                  <a:pt x="7988" y="12100"/>
                  <a:pt x="8086" y="12080"/>
                </a:cubicBezTo>
                <a:cubicBezTo>
                  <a:pt x="8094" y="12080"/>
                  <a:pt x="8103" y="12080"/>
                  <a:pt x="8111" y="12080"/>
                </a:cubicBezTo>
              </a:path>
              <a:path w="5358" h="3276">
                <a:moveTo>
                  <a:pt x="8086" y="11757"/>
                </a:moveTo>
                <a:cubicBezTo>
                  <a:pt x="8141" y="11830"/>
                  <a:pt x="8119" y="11992"/>
                  <a:pt x="8111" y="12080"/>
                </a:cubicBezTo>
                <a:cubicBezTo>
                  <a:pt x="8105" y="12141"/>
                  <a:pt x="8014" y="12392"/>
                  <a:pt x="8062" y="12452"/>
                </a:cubicBezTo>
                <a:cubicBezTo>
                  <a:pt x="8070" y="12452"/>
                  <a:pt x="8078" y="12452"/>
                  <a:pt x="8086" y="12452"/>
                </a:cubicBezTo>
              </a:path>
              <a:path w="5358" h="3276">
                <a:moveTo>
                  <a:pt x="9153" y="12353"/>
                </a:moveTo>
                <a:cubicBezTo>
                  <a:pt x="9153" y="12256"/>
                  <a:pt x="9113" y="12352"/>
                  <a:pt x="9103" y="12402"/>
                </a:cubicBezTo>
                <a:cubicBezTo>
                  <a:pt x="9084" y="12498"/>
                  <a:pt x="9151" y="12536"/>
                  <a:pt x="9203" y="12452"/>
                </a:cubicBezTo>
                <a:cubicBezTo>
                  <a:pt x="9233" y="12402"/>
                  <a:pt x="9242" y="12391"/>
                  <a:pt x="9203" y="12378"/>
                </a:cubicBezTo>
                <a:cubicBezTo>
                  <a:pt x="9170" y="12391"/>
                  <a:pt x="9085" y="12442"/>
                  <a:pt x="9128" y="12502"/>
                </a:cubicBezTo>
                <a:cubicBezTo>
                  <a:pt x="9136" y="12502"/>
                  <a:pt x="9145" y="12502"/>
                  <a:pt x="9153" y="12502"/>
                </a:cubicBezTo>
                <a:cubicBezTo>
                  <a:pt x="9191" y="12489"/>
                  <a:pt x="9221" y="12426"/>
                  <a:pt x="9178" y="12378"/>
                </a:cubicBezTo>
                <a:cubicBezTo>
                  <a:pt x="9132" y="12326"/>
                  <a:pt x="9109" y="12488"/>
                  <a:pt x="9178" y="12477"/>
                </a:cubicBezTo>
                <a:cubicBezTo>
                  <a:pt x="9184" y="12473"/>
                  <a:pt x="9235" y="12371"/>
                  <a:pt x="9178" y="12378"/>
                </a:cubicBezTo>
                <a:cubicBezTo>
                  <a:pt x="9131" y="12383"/>
                  <a:pt x="9132" y="12451"/>
                  <a:pt x="9128" y="12477"/>
                </a:cubicBezTo>
              </a:path>
              <a:path w="5358" h="3276">
                <a:moveTo>
                  <a:pt x="5556" y="13246"/>
                </a:moveTo>
                <a:cubicBezTo>
                  <a:pt x="5605" y="13210"/>
                  <a:pt x="5663" y="13212"/>
                  <a:pt x="5730" y="13221"/>
                </a:cubicBezTo>
                <a:cubicBezTo>
                  <a:pt x="5955" y="13251"/>
                  <a:pt x="6173" y="13258"/>
                  <a:pt x="6400" y="13221"/>
                </a:cubicBezTo>
                <a:cubicBezTo>
                  <a:pt x="6468" y="13210"/>
                  <a:pt x="6531" y="13182"/>
                  <a:pt x="6598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1000" y="4741920"/>
            <a:ext cx="133200" cy="13320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3646" y="13246"/>
                </a:moveTo>
                <a:cubicBezTo>
                  <a:pt x="3718" y="13217"/>
                  <a:pt x="3785" y="13201"/>
                  <a:pt x="3845" y="13171"/>
                </a:cubicBezTo>
                <a:cubicBezTo>
                  <a:pt x="3757" y="13209"/>
                  <a:pt x="3634" y="13289"/>
                  <a:pt x="3547" y="13345"/>
                </a:cubicBezTo>
                <a:cubicBezTo>
                  <a:pt x="3466" y="13398"/>
                  <a:pt x="3725" y="13349"/>
                  <a:pt x="3746" y="13345"/>
                </a:cubicBezTo>
                <a:cubicBezTo>
                  <a:pt x="3884" y="13318"/>
                  <a:pt x="3851" y="13337"/>
                  <a:pt x="3721" y="13395"/>
                </a:cubicBezTo>
                <a:cubicBezTo>
                  <a:pt x="3606" y="13440"/>
                  <a:pt x="3575" y="13454"/>
                  <a:pt x="3497" y="13469"/>
                </a:cubicBezTo>
                <a:cubicBezTo>
                  <a:pt x="3475" y="13491"/>
                  <a:pt x="3464" y="13500"/>
                  <a:pt x="3497" y="13494"/>
                </a:cubicBezTo>
                <a:cubicBezTo>
                  <a:pt x="3586" y="13430"/>
                  <a:pt x="3714" y="13414"/>
                  <a:pt x="3795" y="13345"/>
                </a:cubicBezTo>
                <a:cubicBezTo>
                  <a:pt x="3890" y="13265"/>
                  <a:pt x="3553" y="13424"/>
                  <a:pt x="3473" y="13519"/>
                </a:cubicBezTo>
                <a:cubicBezTo>
                  <a:pt x="3497" y="13543"/>
                  <a:pt x="3505" y="13551"/>
                  <a:pt x="3522" y="13519"/>
                </a:cubicBezTo>
                <a:cubicBezTo>
                  <a:pt x="3589" y="13484"/>
                  <a:pt x="3797" y="13343"/>
                  <a:pt x="3795" y="13345"/>
                </a:cubicBezTo>
                <a:cubicBezTo>
                  <a:pt x="3739" y="13429"/>
                  <a:pt x="3713" y="13461"/>
                  <a:pt x="3646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94120" y="4259160"/>
            <a:ext cx="338040" cy="125640"/>
          </a:xfrm>
          <a:custGeom>
            <a:avLst/>
            <a:gdLst/>
            <a:ahLst/>
            <a:rect l="l" t="t" r="r" b="b"/>
            <a:pathLst>
              <a:path w="943" h="348">
                <a:moveTo>
                  <a:pt x="10914" y="11857"/>
                </a:moveTo>
                <a:cubicBezTo>
                  <a:pt x="10934" y="11797"/>
                  <a:pt x="10931" y="11858"/>
                  <a:pt x="10964" y="11881"/>
                </a:cubicBezTo>
                <a:cubicBezTo>
                  <a:pt x="11013" y="11915"/>
                  <a:pt x="11013" y="11936"/>
                  <a:pt x="11013" y="11906"/>
                </a:cubicBezTo>
                <a:cubicBezTo>
                  <a:pt x="10995" y="11879"/>
                  <a:pt x="10959" y="11819"/>
                  <a:pt x="10914" y="11832"/>
                </a:cubicBezTo>
                <a:cubicBezTo>
                  <a:pt x="10796" y="11866"/>
                  <a:pt x="10788" y="12013"/>
                  <a:pt x="10840" y="12105"/>
                </a:cubicBezTo>
                <a:cubicBezTo>
                  <a:pt x="10909" y="12227"/>
                  <a:pt x="11011" y="12164"/>
                  <a:pt x="11088" y="12105"/>
                </a:cubicBezTo>
              </a:path>
              <a:path w="943" h="348">
                <a:moveTo>
                  <a:pt x="11237" y="11832"/>
                </a:moveTo>
                <a:cubicBezTo>
                  <a:pt x="11265" y="11929"/>
                  <a:pt x="11272" y="12028"/>
                  <a:pt x="11286" y="12129"/>
                </a:cubicBezTo>
                <a:cubicBezTo>
                  <a:pt x="11286" y="12105"/>
                  <a:pt x="11286" y="12096"/>
                  <a:pt x="11286" y="12080"/>
                </a:cubicBezTo>
                <a:cubicBezTo>
                  <a:pt x="11263" y="11979"/>
                  <a:pt x="11295" y="11900"/>
                  <a:pt x="11410" y="11857"/>
                </a:cubicBezTo>
                <a:cubicBezTo>
                  <a:pt x="11517" y="11817"/>
                  <a:pt x="11545" y="11959"/>
                  <a:pt x="11559" y="12030"/>
                </a:cubicBezTo>
                <a:cubicBezTo>
                  <a:pt x="11566" y="12063"/>
                  <a:pt x="11559" y="12113"/>
                  <a:pt x="11559" y="12080"/>
                </a:cubicBezTo>
                <a:cubicBezTo>
                  <a:pt x="11559" y="12029"/>
                  <a:pt x="11544" y="11906"/>
                  <a:pt x="11633" y="11906"/>
                </a:cubicBezTo>
                <a:cubicBezTo>
                  <a:pt x="11742" y="11906"/>
                  <a:pt x="11751" y="11998"/>
                  <a:pt x="11757" y="12080"/>
                </a:cubicBezTo>
                <a:cubicBezTo>
                  <a:pt x="11757" y="12113"/>
                  <a:pt x="11757" y="12129"/>
                  <a:pt x="11757" y="121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94160" y="4786200"/>
            <a:ext cx="446040" cy="304920"/>
          </a:xfrm>
          <a:custGeom>
            <a:avLst/>
            <a:gdLst/>
            <a:ahLst/>
            <a:rect l="l" t="t" r="r" b="b"/>
            <a:pathLst>
              <a:path w="1241" h="845">
                <a:moveTo>
                  <a:pt x="12378" y="13692"/>
                </a:moveTo>
                <a:cubicBezTo>
                  <a:pt x="12320" y="13692"/>
                  <a:pt x="12328" y="13675"/>
                  <a:pt x="12378" y="13667"/>
                </a:cubicBezTo>
                <a:cubicBezTo>
                  <a:pt x="12493" y="13649"/>
                  <a:pt x="12626" y="13730"/>
                  <a:pt x="12576" y="13866"/>
                </a:cubicBezTo>
                <a:cubicBezTo>
                  <a:pt x="12519" y="14021"/>
                  <a:pt x="12359" y="14034"/>
                  <a:pt x="12229" y="14015"/>
                </a:cubicBezTo>
                <a:cubicBezTo>
                  <a:pt x="12189" y="14015"/>
                  <a:pt x="12430" y="13940"/>
                  <a:pt x="12477" y="13940"/>
                </a:cubicBezTo>
                <a:cubicBezTo>
                  <a:pt x="12565" y="13940"/>
                  <a:pt x="12663" y="14077"/>
                  <a:pt x="12725" y="14015"/>
                </a:cubicBezTo>
                <a:cubicBezTo>
                  <a:pt x="12725" y="14007"/>
                  <a:pt x="12725" y="13998"/>
                  <a:pt x="12725" y="13990"/>
                </a:cubicBezTo>
              </a:path>
              <a:path w="1241" h="845">
                <a:moveTo>
                  <a:pt x="12874" y="13593"/>
                </a:moveTo>
                <a:cubicBezTo>
                  <a:pt x="12824" y="13652"/>
                  <a:pt x="12738" y="13752"/>
                  <a:pt x="12774" y="13841"/>
                </a:cubicBezTo>
                <a:cubicBezTo>
                  <a:pt x="12825" y="13964"/>
                  <a:pt x="13054" y="13913"/>
                  <a:pt x="13122" y="13841"/>
                </a:cubicBezTo>
                <a:cubicBezTo>
                  <a:pt x="13130" y="13816"/>
                  <a:pt x="13138" y="13792"/>
                  <a:pt x="13146" y="13767"/>
                </a:cubicBezTo>
                <a:cubicBezTo>
                  <a:pt x="13090" y="13663"/>
                  <a:pt x="13018" y="13650"/>
                  <a:pt x="12948" y="13568"/>
                </a:cubicBezTo>
              </a:path>
              <a:path w="1241" h="845">
                <a:moveTo>
                  <a:pt x="12923" y="13295"/>
                </a:moveTo>
                <a:cubicBezTo>
                  <a:pt x="13122" y="13395"/>
                  <a:pt x="13316" y="13477"/>
                  <a:pt x="13419" y="13692"/>
                </a:cubicBezTo>
                <a:cubicBezTo>
                  <a:pt x="13501" y="13862"/>
                  <a:pt x="13416" y="13956"/>
                  <a:pt x="13345" y="14089"/>
                </a:cubicBezTo>
                <a:cubicBezTo>
                  <a:pt x="13326" y="14124"/>
                  <a:pt x="13340" y="14128"/>
                  <a:pt x="13295" y="141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24320" y="4411800"/>
            <a:ext cx="1187640" cy="2419200"/>
          </a:xfrm>
          <a:custGeom>
            <a:avLst/>
            <a:gdLst/>
            <a:ahLst/>
            <a:rect l="l" t="t" r="r" b="b"/>
            <a:pathLst>
              <a:path w="3300" h="6723">
                <a:moveTo>
                  <a:pt x="16446" y="17785"/>
                </a:moveTo>
                <a:cubicBezTo>
                  <a:pt x="16438" y="17785"/>
                  <a:pt x="16429" y="17785"/>
                  <a:pt x="16421" y="17785"/>
                </a:cubicBezTo>
              </a:path>
              <a:path w="3300" h="6723">
                <a:moveTo>
                  <a:pt x="15503" y="12353"/>
                </a:moveTo>
                <a:cubicBezTo>
                  <a:pt x="15562" y="12456"/>
                  <a:pt x="15570" y="12569"/>
                  <a:pt x="15701" y="12626"/>
                </a:cubicBezTo>
                <a:cubicBezTo>
                  <a:pt x="15827" y="12681"/>
                  <a:pt x="16058" y="12640"/>
                  <a:pt x="16148" y="12526"/>
                </a:cubicBezTo>
                <a:cubicBezTo>
                  <a:pt x="16165" y="12505"/>
                  <a:pt x="16173" y="12372"/>
                  <a:pt x="16173" y="12427"/>
                </a:cubicBezTo>
                <a:cubicBezTo>
                  <a:pt x="16192" y="12564"/>
                  <a:pt x="16221" y="12633"/>
                  <a:pt x="16371" y="12626"/>
                </a:cubicBezTo>
                <a:cubicBezTo>
                  <a:pt x="16565" y="12617"/>
                  <a:pt x="16675" y="12525"/>
                  <a:pt x="16743" y="12353"/>
                </a:cubicBezTo>
                <a:cubicBezTo>
                  <a:pt x="16762" y="12295"/>
                  <a:pt x="16771" y="12289"/>
                  <a:pt x="16768" y="12254"/>
                </a:cubicBezTo>
              </a:path>
              <a:path w="3300" h="6723">
                <a:moveTo>
                  <a:pt x="17785" y="15255"/>
                </a:moveTo>
                <a:cubicBezTo>
                  <a:pt x="17798" y="15320"/>
                  <a:pt x="17846" y="15437"/>
                  <a:pt x="17810" y="15503"/>
                </a:cubicBezTo>
                <a:cubicBezTo>
                  <a:pt x="17735" y="15642"/>
                  <a:pt x="17592" y="15642"/>
                  <a:pt x="17462" y="15602"/>
                </a:cubicBezTo>
                <a:cubicBezTo>
                  <a:pt x="17400" y="15583"/>
                  <a:pt x="17388" y="15559"/>
                  <a:pt x="17388" y="15503"/>
                </a:cubicBezTo>
                <a:cubicBezTo>
                  <a:pt x="17442" y="15516"/>
                  <a:pt x="17453" y="15570"/>
                  <a:pt x="17462" y="15627"/>
                </a:cubicBezTo>
                <a:cubicBezTo>
                  <a:pt x="17475" y="15710"/>
                  <a:pt x="17424" y="15701"/>
                  <a:pt x="17363" y="15701"/>
                </a:cubicBezTo>
                <a:cubicBezTo>
                  <a:pt x="17313" y="15701"/>
                  <a:pt x="17305" y="15712"/>
                  <a:pt x="17264" y="15726"/>
                </a:cubicBezTo>
                <a:cubicBezTo>
                  <a:pt x="17196" y="15749"/>
                  <a:pt x="17074" y="15726"/>
                  <a:pt x="17016" y="15701"/>
                </a:cubicBezTo>
                <a:cubicBezTo>
                  <a:pt x="16985" y="15688"/>
                  <a:pt x="16925" y="15667"/>
                  <a:pt x="16917" y="15652"/>
                </a:cubicBezTo>
                <a:cubicBezTo>
                  <a:pt x="16885" y="15588"/>
                  <a:pt x="16885" y="15645"/>
                  <a:pt x="16867" y="15677"/>
                </a:cubicBezTo>
                <a:cubicBezTo>
                  <a:pt x="16842" y="15701"/>
                  <a:pt x="16834" y="15709"/>
                  <a:pt x="16867" y="15726"/>
                </a:cubicBezTo>
                <a:cubicBezTo>
                  <a:pt x="16870" y="15724"/>
                  <a:pt x="17040" y="15602"/>
                  <a:pt x="16942" y="15602"/>
                </a:cubicBezTo>
                <a:cubicBezTo>
                  <a:pt x="16898" y="15624"/>
                  <a:pt x="16886" y="15627"/>
                  <a:pt x="16867" y="15652"/>
                </a:cubicBezTo>
              </a:path>
              <a:path w="3300" h="6723">
                <a:moveTo>
                  <a:pt x="14709" y="16446"/>
                </a:moveTo>
                <a:cubicBezTo>
                  <a:pt x="14787" y="16426"/>
                  <a:pt x="14838" y="16399"/>
                  <a:pt x="14932" y="16396"/>
                </a:cubicBezTo>
                <a:cubicBezTo>
                  <a:pt x="14998" y="16394"/>
                  <a:pt x="15162" y="16402"/>
                  <a:pt x="15056" y="16520"/>
                </a:cubicBezTo>
                <a:cubicBezTo>
                  <a:pt x="14982" y="16570"/>
                  <a:pt x="14958" y="16586"/>
                  <a:pt x="14908" y="16619"/>
                </a:cubicBezTo>
                <a:cubicBezTo>
                  <a:pt x="14900" y="16627"/>
                  <a:pt x="14891" y="16636"/>
                  <a:pt x="14883" y="16644"/>
                </a:cubicBezTo>
                <a:cubicBezTo>
                  <a:pt x="14916" y="16610"/>
                  <a:pt x="15076" y="16612"/>
                  <a:pt x="15131" y="16669"/>
                </a:cubicBezTo>
                <a:cubicBezTo>
                  <a:pt x="15139" y="16694"/>
                  <a:pt x="15148" y="16718"/>
                  <a:pt x="15156" y="16743"/>
                </a:cubicBezTo>
                <a:cubicBezTo>
                  <a:pt x="15103" y="16817"/>
                  <a:pt x="15011" y="16892"/>
                  <a:pt x="14908" y="16892"/>
                </a:cubicBezTo>
                <a:cubicBezTo>
                  <a:pt x="14822" y="16892"/>
                  <a:pt x="14807" y="16865"/>
                  <a:pt x="14759" y="16818"/>
                </a:cubicBezTo>
                <a:cubicBezTo>
                  <a:pt x="14843" y="16761"/>
                  <a:pt x="14880" y="16742"/>
                  <a:pt x="14957" y="16743"/>
                </a:cubicBezTo>
              </a:path>
              <a:path w="3300" h="6723">
                <a:moveTo>
                  <a:pt x="15429" y="16743"/>
                </a:moveTo>
                <a:lnTo>
                  <a:pt x="15429" y="16743"/>
                </a:lnTo>
                <a:lnTo>
                  <a:pt x="15429" y="16743"/>
                </a:lnTo>
              </a:path>
              <a:path w="3300" h="6723">
                <a:moveTo>
                  <a:pt x="15602" y="16321"/>
                </a:moveTo>
                <a:cubicBezTo>
                  <a:pt x="15622" y="16382"/>
                  <a:pt x="15633" y="16500"/>
                  <a:pt x="15652" y="16594"/>
                </a:cubicBezTo>
                <a:cubicBezTo>
                  <a:pt x="15664" y="16655"/>
                  <a:pt x="15668" y="16721"/>
                  <a:pt x="15701" y="16743"/>
                </a:cubicBezTo>
              </a:path>
              <a:path w="3300" h="6723">
                <a:moveTo>
                  <a:pt x="15999" y="16346"/>
                </a:moveTo>
                <a:cubicBezTo>
                  <a:pt x="15989" y="16406"/>
                  <a:pt x="15974" y="16458"/>
                  <a:pt x="15974" y="16520"/>
                </a:cubicBezTo>
                <a:cubicBezTo>
                  <a:pt x="15974" y="16602"/>
                  <a:pt x="16170" y="16578"/>
                  <a:pt x="16222" y="16570"/>
                </a:cubicBezTo>
                <a:cubicBezTo>
                  <a:pt x="16295" y="16546"/>
                  <a:pt x="16319" y="16537"/>
                  <a:pt x="16371" y="16545"/>
                </a:cubicBezTo>
              </a:path>
              <a:path w="3300" h="6723">
                <a:moveTo>
                  <a:pt x="16247" y="16098"/>
                </a:moveTo>
                <a:cubicBezTo>
                  <a:pt x="16258" y="16289"/>
                  <a:pt x="16282" y="16481"/>
                  <a:pt x="16321" y="16669"/>
                </a:cubicBezTo>
                <a:cubicBezTo>
                  <a:pt x="16342" y="16751"/>
                  <a:pt x="16350" y="16767"/>
                  <a:pt x="16346" y="16818"/>
                </a:cubicBezTo>
              </a:path>
              <a:path w="3300" h="6723">
                <a:moveTo>
                  <a:pt x="14511" y="17264"/>
                </a:moveTo>
                <a:cubicBezTo>
                  <a:pt x="14611" y="17298"/>
                  <a:pt x="14676" y="17371"/>
                  <a:pt x="14734" y="17462"/>
                </a:cubicBezTo>
                <a:cubicBezTo>
                  <a:pt x="14742" y="17479"/>
                  <a:pt x="14751" y="17495"/>
                  <a:pt x="14759" y="17512"/>
                </a:cubicBezTo>
              </a:path>
              <a:path w="3300" h="6723">
                <a:moveTo>
                  <a:pt x="14660" y="17338"/>
                </a:moveTo>
                <a:cubicBezTo>
                  <a:pt x="14621" y="17422"/>
                  <a:pt x="14589" y="17499"/>
                  <a:pt x="14560" y="17587"/>
                </a:cubicBezTo>
              </a:path>
              <a:path w="3300" h="6723">
                <a:moveTo>
                  <a:pt x="15776" y="17041"/>
                </a:moveTo>
                <a:cubicBezTo>
                  <a:pt x="15818" y="17110"/>
                  <a:pt x="15821" y="17203"/>
                  <a:pt x="15825" y="17289"/>
                </a:cubicBezTo>
                <a:cubicBezTo>
                  <a:pt x="15825" y="17330"/>
                  <a:pt x="15817" y="17346"/>
                  <a:pt x="15850" y="17338"/>
                </a:cubicBezTo>
              </a:path>
              <a:path w="3300" h="6723">
                <a:moveTo>
                  <a:pt x="16148" y="16966"/>
                </a:moveTo>
                <a:cubicBezTo>
                  <a:pt x="16148" y="17018"/>
                  <a:pt x="16118" y="17102"/>
                  <a:pt x="16123" y="17140"/>
                </a:cubicBezTo>
                <a:cubicBezTo>
                  <a:pt x="16137" y="17236"/>
                  <a:pt x="16301" y="17198"/>
                  <a:pt x="16346" y="17190"/>
                </a:cubicBezTo>
                <a:cubicBezTo>
                  <a:pt x="16458" y="17167"/>
                  <a:pt x="16493" y="17169"/>
                  <a:pt x="16520" y="17090"/>
                </a:cubicBezTo>
              </a:path>
              <a:path w="3300" h="6723">
                <a:moveTo>
                  <a:pt x="16396" y="16842"/>
                </a:moveTo>
                <a:cubicBezTo>
                  <a:pt x="16371" y="16965"/>
                  <a:pt x="16414" y="17104"/>
                  <a:pt x="16396" y="17239"/>
                </a:cubicBezTo>
                <a:cubicBezTo>
                  <a:pt x="16376" y="17316"/>
                  <a:pt x="16384" y="17334"/>
                  <a:pt x="16346" y="17363"/>
                </a:cubicBezTo>
              </a:path>
              <a:path w="3300" h="6723">
                <a:moveTo>
                  <a:pt x="14759" y="17735"/>
                </a:moveTo>
                <a:cubicBezTo>
                  <a:pt x="14938" y="17710"/>
                  <a:pt x="15145" y="17632"/>
                  <a:pt x="15329" y="17587"/>
                </a:cubicBezTo>
                <a:cubicBezTo>
                  <a:pt x="15727" y="17490"/>
                  <a:pt x="16112" y="17444"/>
                  <a:pt x="16520" y="17438"/>
                </a:cubicBezTo>
                <a:cubicBezTo>
                  <a:pt x="16743" y="17434"/>
                  <a:pt x="16595" y="17444"/>
                  <a:pt x="16594" y="17438"/>
                </a:cubicBezTo>
                <a:cubicBezTo>
                  <a:pt x="16594" y="17430"/>
                  <a:pt x="16594" y="17421"/>
                  <a:pt x="16594" y="17413"/>
                </a:cubicBezTo>
              </a:path>
              <a:path w="3300" h="6723">
                <a:moveTo>
                  <a:pt x="16520" y="17686"/>
                </a:moveTo>
                <a:cubicBezTo>
                  <a:pt x="16505" y="17731"/>
                  <a:pt x="16455" y="17809"/>
                  <a:pt x="16446" y="17884"/>
                </a:cubicBezTo>
                <a:cubicBezTo>
                  <a:pt x="16430" y="18020"/>
                  <a:pt x="16460" y="18077"/>
                  <a:pt x="16594" y="18083"/>
                </a:cubicBezTo>
                <a:cubicBezTo>
                  <a:pt x="16703" y="18088"/>
                  <a:pt x="16847" y="17992"/>
                  <a:pt x="16793" y="17859"/>
                </a:cubicBezTo>
                <a:cubicBezTo>
                  <a:pt x="16776" y="17851"/>
                  <a:pt x="16760" y="17843"/>
                  <a:pt x="16743" y="17835"/>
                </a:cubicBezTo>
                <a:cubicBezTo>
                  <a:pt x="16673" y="17886"/>
                  <a:pt x="16601" y="17930"/>
                  <a:pt x="16570" y="18008"/>
                </a:cubicBezTo>
              </a:path>
              <a:path w="3300" h="6723">
                <a:moveTo>
                  <a:pt x="15280" y="15999"/>
                </a:moveTo>
                <a:cubicBezTo>
                  <a:pt x="15303" y="16047"/>
                  <a:pt x="15283" y="16183"/>
                  <a:pt x="15329" y="16222"/>
                </a:cubicBezTo>
                <a:cubicBezTo>
                  <a:pt x="15346" y="16222"/>
                  <a:pt x="15362" y="16222"/>
                  <a:pt x="15379" y="16222"/>
                </a:cubicBezTo>
              </a:path>
              <a:path w="3300" h="6723">
                <a:moveTo>
                  <a:pt x="16024" y="17785"/>
                </a:moveTo>
                <a:cubicBezTo>
                  <a:pt x="16097" y="17785"/>
                  <a:pt x="15859" y="17810"/>
                  <a:pt x="15850" y="17810"/>
                </a:cubicBezTo>
                <a:cubicBezTo>
                  <a:pt x="15792" y="17810"/>
                  <a:pt x="15784" y="17810"/>
                  <a:pt x="15751" y="17810"/>
                </a:cubicBezTo>
                <a:cubicBezTo>
                  <a:pt x="15751" y="17897"/>
                  <a:pt x="15736" y="17973"/>
                  <a:pt x="15726" y="18058"/>
                </a:cubicBezTo>
                <a:cubicBezTo>
                  <a:pt x="15726" y="18074"/>
                  <a:pt x="15726" y="18091"/>
                  <a:pt x="15726" y="18107"/>
                </a:cubicBezTo>
                <a:cubicBezTo>
                  <a:pt x="15839" y="18089"/>
                  <a:pt x="15931" y="18061"/>
                  <a:pt x="16049" y="18058"/>
                </a:cubicBezTo>
                <a:cubicBezTo>
                  <a:pt x="16145" y="18058"/>
                  <a:pt x="16175" y="18056"/>
                  <a:pt x="16222" y="18107"/>
                </a:cubicBezTo>
                <a:cubicBezTo>
                  <a:pt x="16134" y="18267"/>
                  <a:pt x="16067" y="18277"/>
                  <a:pt x="15875" y="18231"/>
                </a:cubicBezTo>
                <a:cubicBezTo>
                  <a:pt x="15834" y="18215"/>
                  <a:pt x="15792" y="18198"/>
                  <a:pt x="15751" y="18182"/>
                </a:cubicBezTo>
              </a:path>
              <a:path w="3300" h="6723">
                <a:moveTo>
                  <a:pt x="14709" y="18008"/>
                </a:moveTo>
                <a:cubicBezTo>
                  <a:pt x="14709" y="18078"/>
                  <a:pt x="14698" y="18221"/>
                  <a:pt x="14734" y="18281"/>
                </a:cubicBezTo>
                <a:cubicBezTo>
                  <a:pt x="14742" y="18281"/>
                  <a:pt x="14751" y="18281"/>
                  <a:pt x="14759" y="18281"/>
                </a:cubicBezTo>
              </a:path>
              <a:path w="3300" h="6723">
                <a:moveTo>
                  <a:pt x="15032" y="17884"/>
                </a:moveTo>
                <a:cubicBezTo>
                  <a:pt x="15146" y="17863"/>
                  <a:pt x="15313" y="17883"/>
                  <a:pt x="15354" y="18033"/>
                </a:cubicBezTo>
                <a:cubicBezTo>
                  <a:pt x="15402" y="18209"/>
                  <a:pt x="15235" y="18306"/>
                  <a:pt x="15081" y="18306"/>
                </a:cubicBezTo>
                <a:cubicBezTo>
                  <a:pt x="15056" y="18298"/>
                  <a:pt x="15032" y="18289"/>
                  <a:pt x="15007" y="18281"/>
                </a:cubicBezTo>
                <a:cubicBezTo>
                  <a:pt x="15038" y="18153"/>
                  <a:pt x="15147" y="18141"/>
                  <a:pt x="15280" y="18157"/>
                </a:cubicBezTo>
                <a:cubicBezTo>
                  <a:pt x="15353" y="18182"/>
                  <a:pt x="15377" y="18190"/>
                  <a:pt x="15429" y="18182"/>
                </a:cubicBezTo>
              </a:path>
              <a:path w="3300" h="6723">
                <a:moveTo>
                  <a:pt x="16842" y="18231"/>
                </a:moveTo>
                <a:cubicBezTo>
                  <a:pt x="16895" y="18301"/>
                  <a:pt x="16809" y="18335"/>
                  <a:pt x="16768" y="18405"/>
                </a:cubicBezTo>
                <a:cubicBezTo>
                  <a:pt x="16735" y="18461"/>
                  <a:pt x="16706" y="18517"/>
                  <a:pt x="16694" y="18579"/>
                </a:cubicBezTo>
                <a:cubicBezTo>
                  <a:pt x="16811" y="18669"/>
                  <a:pt x="16882" y="18672"/>
                  <a:pt x="16991" y="18554"/>
                </a:cubicBezTo>
                <a:cubicBezTo>
                  <a:pt x="17128" y="18405"/>
                  <a:pt x="16963" y="18358"/>
                  <a:pt x="16842" y="18331"/>
                </a:cubicBezTo>
                <a:cubicBezTo>
                  <a:pt x="16801" y="18323"/>
                  <a:pt x="16759" y="18314"/>
                  <a:pt x="16718" y="18306"/>
                </a:cubicBezTo>
              </a:path>
              <a:path w="3300" h="6723">
                <a:moveTo>
                  <a:pt x="16073" y="18529"/>
                </a:moveTo>
                <a:cubicBezTo>
                  <a:pt x="16073" y="18568"/>
                  <a:pt x="16061" y="18603"/>
                  <a:pt x="16098" y="18628"/>
                </a:cubicBezTo>
                <a:cubicBezTo>
                  <a:pt x="16185" y="18688"/>
                  <a:pt x="16386" y="18684"/>
                  <a:pt x="16446" y="18579"/>
                </a:cubicBezTo>
                <a:cubicBezTo>
                  <a:pt x="16446" y="18546"/>
                  <a:pt x="16446" y="18512"/>
                  <a:pt x="16446" y="18479"/>
                </a:cubicBezTo>
              </a:path>
              <a:path w="3300" h="6723">
                <a:moveTo>
                  <a:pt x="16272" y="18331"/>
                </a:moveTo>
                <a:cubicBezTo>
                  <a:pt x="16272" y="18452"/>
                  <a:pt x="16282" y="18562"/>
                  <a:pt x="16297" y="18678"/>
                </a:cubicBezTo>
                <a:cubicBezTo>
                  <a:pt x="16297" y="18695"/>
                  <a:pt x="16297" y="18711"/>
                  <a:pt x="16297" y="18728"/>
                </a:cubicBezTo>
              </a:path>
              <a:path w="3300" h="6723">
                <a:moveTo>
                  <a:pt x="15627" y="18455"/>
                </a:moveTo>
                <a:cubicBezTo>
                  <a:pt x="15627" y="18556"/>
                  <a:pt x="15620" y="18687"/>
                  <a:pt x="15677" y="18777"/>
                </a:cubicBezTo>
                <a:cubicBezTo>
                  <a:pt x="15685" y="18777"/>
                  <a:pt x="15693" y="18777"/>
                  <a:pt x="15701" y="18777"/>
                </a:cubicBezTo>
              </a:path>
              <a:path w="3300" h="6723">
                <a:moveTo>
                  <a:pt x="14585" y="18504"/>
                </a:moveTo>
                <a:cubicBezTo>
                  <a:pt x="14661" y="18494"/>
                  <a:pt x="14754" y="18430"/>
                  <a:pt x="14833" y="18455"/>
                </a:cubicBezTo>
                <a:cubicBezTo>
                  <a:pt x="14869" y="18467"/>
                  <a:pt x="14789" y="18549"/>
                  <a:pt x="14784" y="18554"/>
                </a:cubicBezTo>
                <a:cubicBezTo>
                  <a:pt x="14776" y="18562"/>
                  <a:pt x="14767" y="18571"/>
                  <a:pt x="14759" y="18579"/>
                </a:cubicBezTo>
                <a:cubicBezTo>
                  <a:pt x="14845" y="18579"/>
                  <a:pt x="14967" y="18589"/>
                  <a:pt x="15032" y="18653"/>
                </a:cubicBezTo>
                <a:cubicBezTo>
                  <a:pt x="15032" y="18670"/>
                  <a:pt x="15032" y="18686"/>
                  <a:pt x="15032" y="18703"/>
                </a:cubicBezTo>
                <a:cubicBezTo>
                  <a:pt x="14941" y="18783"/>
                  <a:pt x="14817" y="18872"/>
                  <a:pt x="14684" y="18827"/>
                </a:cubicBezTo>
                <a:cubicBezTo>
                  <a:pt x="14668" y="18810"/>
                  <a:pt x="14651" y="18794"/>
                  <a:pt x="14635" y="18777"/>
                </a:cubicBezTo>
              </a:path>
              <a:path w="3300" h="6723">
                <a:moveTo>
                  <a:pt x="17363" y="18430"/>
                </a:moveTo>
                <a:cubicBezTo>
                  <a:pt x="17021" y="18574"/>
                  <a:pt x="16675" y="18692"/>
                  <a:pt x="16321" y="18802"/>
                </a:cubicBezTo>
                <a:cubicBezTo>
                  <a:pt x="16138" y="18859"/>
                  <a:pt x="15958" y="18921"/>
                  <a:pt x="15776" y="18976"/>
                </a:cubicBezTo>
              </a:path>
              <a:path w="3300" h="6723">
                <a:moveTo>
                  <a:pt x="15503" y="16718"/>
                </a:moveTo>
                <a:cubicBezTo>
                  <a:pt x="15503" y="16688"/>
                  <a:pt x="15557" y="16804"/>
                  <a:pt x="15602" y="16842"/>
                </a:cubicBezTo>
                <a:cubicBezTo>
                  <a:pt x="15686" y="16912"/>
                  <a:pt x="15903" y="16932"/>
                  <a:pt x="15999" y="16867"/>
                </a:cubicBezTo>
                <a:cubicBezTo>
                  <a:pt x="16046" y="16835"/>
                  <a:pt x="16060" y="16730"/>
                  <a:pt x="16049" y="16718"/>
                </a:cubicBezTo>
                <a:cubicBezTo>
                  <a:pt x="16049" y="16803"/>
                  <a:pt x="16047" y="16850"/>
                  <a:pt x="16148" y="16867"/>
                </a:cubicBezTo>
                <a:cubicBezTo>
                  <a:pt x="16248" y="16884"/>
                  <a:pt x="16463" y="16883"/>
                  <a:pt x="16545" y="16818"/>
                </a:cubicBezTo>
                <a:cubicBezTo>
                  <a:pt x="16652" y="16733"/>
                  <a:pt x="16576" y="16631"/>
                  <a:pt x="16545" y="16545"/>
                </a:cubicBezTo>
                <a:cubicBezTo>
                  <a:pt x="16545" y="16537"/>
                  <a:pt x="16545" y="16528"/>
                  <a:pt x="16545" y="165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66000" y="5884920"/>
            <a:ext cx="936720" cy="393480"/>
          </a:xfrm>
          <a:custGeom>
            <a:avLst/>
            <a:gdLst/>
            <a:ahLst/>
            <a:rect l="l" t="t" r="r" b="b"/>
            <a:pathLst>
              <a:path w="2605" h="1093">
                <a:moveTo>
                  <a:pt x="21357" y="16346"/>
                </a:moveTo>
                <a:cubicBezTo>
                  <a:pt x="21308" y="16483"/>
                  <a:pt x="21228" y="16623"/>
                  <a:pt x="21208" y="16768"/>
                </a:cubicBezTo>
                <a:cubicBezTo>
                  <a:pt x="21190" y="16899"/>
                  <a:pt x="21271" y="17002"/>
                  <a:pt x="21406" y="16991"/>
                </a:cubicBezTo>
                <a:cubicBezTo>
                  <a:pt x="21555" y="16979"/>
                  <a:pt x="21625" y="16902"/>
                  <a:pt x="21654" y="16768"/>
                </a:cubicBezTo>
                <a:cubicBezTo>
                  <a:pt x="21506" y="16783"/>
                  <a:pt x="21481" y="16806"/>
                  <a:pt x="21406" y="16917"/>
                </a:cubicBezTo>
                <a:cubicBezTo>
                  <a:pt x="21398" y="16925"/>
                  <a:pt x="21390" y="16934"/>
                  <a:pt x="21382" y="16942"/>
                </a:cubicBezTo>
              </a:path>
              <a:path w="2605" h="1093">
                <a:moveTo>
                  <a:pt x="21059" y="16594"/>
                </a:moveTo>
                <a:cubicBezTo>
                  <a:pt x="21059" y="16520"/>
                  <a:pt x="21063" y="16506"/>
                  <a:pt x="21010" y="16446"/>
                </a:cubicBezTo>
                <a:cubicBezTo>
                  <a:pt x="20932" y="16358"/>
                  <a:pt x="20832" y="16334"/>
                  <a:pt x="20737" y="16421"/>
                </a:cubicBezTo>
                <a:cubicBezTo>
                  <a:pt x="20664" y="16487"/>
                  <a:pt x="20670" y="16542"/>
                  <a:pt x="20687" y="16619"/>
                </a:cubicBezTo>
                <a:cubicBezTo>
                  <a:pt x="20833" y="16608"/>
                  <a:pt x="20844" y="16558"/>
                  <a:pt x="20960" y="16495"/>
                </a:cubicBezTo>
                <a:cubicBezTo>
                  <a:pt x="20968" y="16495"/>
                  <a:pt x="20977" y="16495"/>
                  <a:pt x="20985" y="16495"/>
                </a:cubicBezTo>
                <a:cubicBezTo>
                  <a:pt x="20967" y="16600"/>
                  <a:pt x="20955" y="16714"/>
                  <a:pt x="20935" y="16818"/>
                </a:cubicBezTo>
                <a:cubicBezTo>
                  <a:pt x="20913" y="16883"/>
                  <a:pt x="20905" y="16898"/>
                  <a:pt x="20910" y="16942"/>
                </a:cubicBezTo>
              </a:path>
              <a:path w="2605" h="1093">
                <a:moveTo>
                  <a:pt x="20117" y="16644"/>
                </a:moveTo>
                <a:cubicBezTo>
                  <a:pt x="20171" y="16626"/>
                  <a:pt x="20219" y="16618"/>
                  <a:pt x="20265" y="16594"/>
                </a:cubicBezTo>
                <a:cubicBezTo>
                  <a:pt x="20295" y="16727"/>
                  <a:pt x="20234" y="16778"/>
                  <a:pt x="20117" y="16842"/>
                </a:cubicBezTo>
                <a:cubicBezTo>
                  <a:pt x="20100" y="16850"/>
                  <a:pt x="20084" y="16859"/>
                  <a:pt x="20067" y="16867"/>
                </a:cubicBezTo>
                <a:cubicBezTo>
                  <a:pt x="20119" y="16857"/>
                  <a:pt x="20239" y="16807"/>
                  <a:pt x="20290" y="16842"/>
                </a:cubicBezTo>
                <a:cubicBezTo>
                  <a:pt x="20404" y="16920"/>
                  <a:pt x="20324" y="17067"/>
                  <a:pt x="20216" y="17090"/>
                </a:cubicBezTo>
                <a:cubicBezTo>
                  <a:pt x="20065" y="17121"/>
                  <a:pt x="20030" y="17108"/>
                  <a:pt x="19968" y="17016"/>
                </a:cubicBezTo>
              </a:path>
              <a:path w="2605" h="1093">
                <a:moveTo>
                  <a:pt x="19372" y="16718"/>
                </a:moveTo>
                <a:cubicBezTo>
                  <a:pt x="19372" y="16800"/>
                  <a:pt x="19345" y="16865"/>
                  <a:pt x="19372" y="16942"/>
                </a:cubicBezTo>
                <a:cubicBezTo>
                  <a:pt x="19407" y="17042"/>
                  <a:pt x="19582" y="16998"/>
                  <a:pt x="19645" y="16942"/>
                </a:cubicBezTo>
                <a:cubicBezTo>
                  <a:pt x="19653" y="16925"/>
                  <a:pt x="19662" y="16909"/>
                  <a:pt x="19670" y="16892"/>
                </a:cubicBezTo>
              </a:path>
              <a:path w="2605" h="1093">
                <a:moveTo>
                  <a:pt x="19645" y="16644"/>
                </a:moveTo>
                <a:cubicBezTo>
                  <a:pt x="19619" y="16816"/>
                  <a:pt x="19603" y="16990"/>
                  <a:pt x="19596" y="17165"/>
                </a:cubicBezTo>
                <a:cubicBezTo>
                  <a:pt x="19596" y="17193"/>
                  <a:pt x="19598" y="17204"/>
                  <a:pt x="19621" y="17214"/>
                </a:cubicBezTo>
              </a:path>
              <a:path w="2605" h="1093">
                <a:moveTo>
                  <a:pt x="21927" y="16842"/>
                </a:moveTo>
                <a:cubicBezTo>
                  <a:pt x="21968" y="16910"/>
                  <a:pt x="21959" y="16987"/>
                  <a:pt x="21927" y="17066"/>
                </a:cubicBezTo>
                <a:cubicBezTo>
                  <a:pt x="21866" y="17217"/>
                  <a:pt x="21685" y="17275"/>
                  <a:pt x="21530" y="17289"/>
                </a:cubicBezTo>
                <a:cubicBezTo>
                  <a:pt x="21345" y="17306"/>
                  <a:pt x="21240" y="17265"/>
                  <a:pt x="21158" y="17115"/>
                </a:cubicBezTo>
                <a:cubicBezTo>
                  <a:pt x="21166" y="17077"/>
                  <a:pt x="21158" y="17039"/>
                  <a:pt x="21183" y="17090"/>
                </a:cubicBezTo>
                <a:cubicBezTo>
                  <a:pt x="21221" y="17166"/>
                  <a:pt x="21261" y="17260"/>
                  <a:pt x="21208" y="17338"/>
                </a:cubicBezTo>
                <a:cubicBezTo>
                  <a:pt x="21127" y="17455"/>
                  <a:pt x="20999" y="17418"/>
                  <a:pt x="20886" y="17413"/>
                </a:cubicBezTo>
                <a:cubicBezTo>
                  <a:pt x="20798" y="17409"/>
                  <a:pt x="20626" y="17400"/>
                  <a:pt x="20588" y="17314"/>
                </a:cubicBezTo>
                <a:cubicBezTo>
                  <a:pt x="20563" y="17258"/>
                  <a:pt x="20605" y="17191"/>
                  <a:pt x="20638" y="17140"/>
                </a:cubicBezTo>
                <a:cubicBezTo>
                  <a:pt x="20646" y="17140"/>
                  <a:pt x="20654" y="17140"/>
                  <a:pt x="20662" y="17140"/>
                </a:cubicBezTo>
                <a:cubicBezTo>
                  <a:pt x="20720" y="17111"/>
                  <a:pt x="20652" y="17121"/>
                  <a:pt x="20662" y="17165"/>
                </a:cubicBezTo>
                <a:cubicBezTo>
                  <a:pt x="20670" y="17181"/>
                  <a:pt x="20679" y="17198"/>
                  <a:pt x="20687" y="17214"/>
                </a:cubicBezTo>
                <a:cubicBezTo>
                  <a:pt x="20735" y="17233"/>
                  <a:pt x="20844" y="17228"/>
                  <a:pt x="20836" y="17140"/>
                </a:cubicBezTo>
                <a:cubicBezTo>
                  <a:pt x="20824" y="17011"/>
                  <a:pt x="20738" y="16978"/>
                  <a:pt x="20638" y="17016"/>
                </a:cubicBezTo>
                <a:cubicBezTo>
                  <a:pt x="20629" y="17115"/>
                  <a:pt x="20654" y="17215"/>
                  <a:pt x="20786" y="17165"/>
                </a:cubicBezTo>
                <a:cubicBezTo>
                  <a:pt x="20885" y="17128"/>
                  <a:pt x="20821" y="16976"/>
                  <a:pt x="20737" y="16966"/>
                </a:cubicBezTo>
                <a:cubicBezTo>
                  <a:pt x="20712" y="16974"/>
                  <a:pt x="20687" y="16983"/>
                  <a:pt x="20662" y="16991"/>
                </a:cubicBezTo>
                <a:cubicBezTo>
                  <a:pt x="20625" y="17074"/>
                  <a:pt x="20608" y="17194"/>
                  <a:pt x="20762" y="17165"/>
                </a:cubicBezTo>
                <a:cubicBezTo>
                  <a:pt x="20770" y="17157"/>
                  <a:pt x="20778" y="17148"/>
                  <a:pt x="20786" y="171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51160" y="5214960"/>
            <a:ext cx="1552680" cy="446040"/>
          </a:xfrm>
          <a:custGeom>
            <a:avLst/>
            <a:gdLst/>
            <a:ahLst/>
            <a:rect l="l" t="t" r="r" b="b"/>
            <a:pathLst>
              <a:path w="4317" h="1241">
                <a:moveTo>
                  <a:pt x="9823" y="15726"/>
                </a:moveTo>
                <a:cubicBezTo>
                  <a:pt x="9815" y="15726"/>
                  <a:pt x="9806" y="15726"/>
                  <a:pt x="9798" y="15726"/>
                </a:cubicBezTo>
              </a:path>
              <a:path w="4317" h="1241">
                <a:moveTo>
                  <a:pt x="9376" y="14585"/>
                </a:moveTo>
                <a:cubicBezTo>
                  <a:pt x="9404" y="14642"/>
                  <a:pt x="9415" y="14665"/>
                  <a:pt x="9426" y="14709"/>
                </a:cubicBezTo>
                <a:cubicBezTo>
                  <a:pt x="9376" y="14659"/>
                  <a:pt x="9289" y="14531"/>
                  <a:pt x="9203" y="14560"/>
                </a:cubicBezTo>
                <a:cubicBezTo>
                  <a:pt x="9042" y="14614"/>
                  <a:pt x="8973" y="14947"/>
                  <a:pt x="9054" y="15081"/>
                </a:cubicBezTo>
                <a:cubicBezTo>
                  <a:pt x="9163" y="15263"/>
                  <a:pt x="9475" y="15188"/>
                  <a:pt x="9624" y="15106"/>
                </a:cubicBezTo>
                <a:cubicBezTo>
                  <a:pt x="9641" y="15089"/>
                  <a:pt x="9657" y="15073"/>
                  <a:pt x="9674" y="15056"/>
                </a:cubicBezTo>
              </a:path>
              <a:path w="4317" h="1241">
                <a:moveTo>
                  <a:pt x="9897" y="14833"/>
                </a:moveTo>
                <a:cubicBezTo>
                  <a:pt x="10015" y="14827"/>
                  <a:pt x="10125" y="14808"/>
                  <a:pt x="10244" y="14808"/>
                </a:cubicBezTo>
                <a:cubicBezTo>
                  <a:pt x="10236" y="14808"/>
                  <a:pt x="10228" y="14808"/>
                  <a:pt x="10220" y="14808"/>
                </a:cubicBezTo>
              </a:path>
              <a:path w="4317" h="1241">
                <a:moveTo>
                  <a:pt x="10021" y="15007"/>
                </a:moveTo>
                <a:cubicBezTo>
                  <a:pt x="10100" y="15002"/>
                  <a:pt x="10166" y="14993"/>
                  <a:pt x="10244" y="14982"/>
                </a:cubicBezTo>
              </a:path>
              <a:path w="4317" h="1241">
                <a:moveTo>
                  <a:pt x="10616" y="14585"/>
                </a:moveTo>
                <a:cubicBezTo>
                  <a:pt x="10566" y="14674"/>
                  <a:pt x="10516" y="14824"/>
                  <a:pt x="10542" y="14932"/>
                </a:cubicBezTo>
                <a:cubicBezTo>
                  <a:pt x="10572" y="15054"/>
                  <a:pt x="10733" y="15109"/>
                  <a:pt x="10840" y="15032"/>
                </a:cubicBezTo>
                <a:cubicBezTo>
                  <a:pt x="10922" y="14973"/>
                  <a:pt x="10887" y="14903"/>
                  <a:pt x="10864" y="14833"/>
                </a:cubicBezTo>
                <a:cubicBezTo>
                  <a:pt x="10812" y="14856"/>
                  <a:pt x="10618" y="15005"/>
                  <a:pt x="10691" y="15106"/>
                </a:cubicBezTo>
                <a:cubicBezTo>
                  <a:pt x="10775" y="15134"/>
                  <a:pt x="10810" y="15138"/>
                  <a:pt x="10864" y="15081"/>
                </a:cubicBezTo>
              </a:path>
              <a:path w="4317" h="1241">
                <a:moveTo>
                  <a:pt x="11063" y="14660"/>
                </a:moveTo>
                <a:cubicBezTo>
                  <a:pt x="11147" y="14660"/>
                  <a:pt x="11202" y="14624"/>
                  <a:pt x="11286" y="14660"/>
                </a:cubicBezTo>
                <a:cubicBezTo>
                  <a:pt x="11411" y="14713"/>
                  <a:pt x="11412" y="14874"/>
                  <a:pt x="11311" y="14957"/>
                </a:cubicBezTo>
                <a:cubicBezTo>
                  <a:pt x="11239" y="15016"/>
                  <a:pt x="11158" y="15027"/>
                  <a:pt x="11088" y="15007"/>
                </a:cubicBezTo>
                <a:cubicBezTo>
                  <a:pt x="11120" y="14947"/>
                  <a:pt x="11237" y="14797"/>
                  <a:pt x="11336" y="14883"/>
                </a:cubicBezTo>
                <a:cubicBezTo>
                  <a:pt x="11369" y="14912"/>
                  <a:pt x="11380" y="15015"/>
                  <a:pt x="11385" y="15056"/>
                </a:cubicBezTo>
              </a:path>
              <a:path w="4317" h="1241">
                <a:moveTo>
                  <a:pt x="11584" y="14932"/>
                </a:moveTo>
                <a:cubicBezTo>
                  <a:pt x="11592" y="14932"/>
                  <a:pt x="11601" y="14932"/>
                  <a:pt x="11609" y="14932"/>
                </a:cubicBezTo>
              </a:path>
              <a:path w="4317" h="1241">
                <a:moveTo>
                  <a:pt x="12005" y="14560"/>
                </a:moveTo>
                <a:cubicBezTo>
                  <a:pt x="11885" y="14568"/>
                  <a:pt x="11837" y="14578"/>
                  <a:pt x="11733" y="14635"/>
                </a:cubicBezTo>
                <a:cubicBezTo>
                  <a:pt x="11782" y="14782"/>
                  <a:pt x="11921" y="14799"/>
                  <a:pt x="12030" y="14908"/>
                </a:cubicBezTo>
                <a:cubicBezTo>
                  <a:pt x="12133" y="15011"/>
                  <a:pt x="11955" y="15036"/>
                  <a:pt x="11906" y="15032"/>
                </a:cubicBezTo>
                <a:cubicBezTo>
                  <a:pt x="11820" y="14923"/>
                  <a:pt x="11861" y="14850"/>
                  <a:pt x="11931" y="14709"/>
                </a:cubicBezTo>
                <a:cubicBezTo>
                  <a:pt x="11953" y="14687"/>
                  <a:pt x="11962" y="14682"/>
                  <a:pt x="11956" y="14660"/>
                </a:cubicBezTo>
              </a:path>
              <a:path w="4317" h="1241">
                <a:moveTo>
                  <a:pt x="12626" y="14635"/>
                </a:moveTo>
                <a:cubicBezTo>
                  <a:pt x="12638" y="14667"/>
                  <a:pt x="12675" y="14759"/>
                  <a:pt x="12675" y="14709"/>
                </a:cubicBezTo>
                <a:cubicBezTo>
                  <a:pt x="12675" y="14668"/>
                  <a:pt x="12663" y="14696"/>
                  <a:pt x="12650" y="14660"/>
                </a:cubicBezTo>
                <a:cubicBezTo>
                  <a:pt x="12689" y="14723"/>
                  <a:pt x="12707" y="14828"/>
                  <a:pt x="12725" y="14908"/>
                </a:cubicBezTo>
                <a:cubicBezTo>
                  <a:pt x="12725" y="14932"/>
                  <a:pt x="12725" y="14940"/>
                  <a:pt x="12700" y="14932"/>
                </a:cubicBezTo>
              </a:path>
              <a:path w="4317" h="1241">
                <a:moveTo>
                  <a:pt x="12526" y="14486"/>
                </a:moveTo>
                <a:cubicBezTo>
                  <a:pt x="12534" y="14486"/>
                  <a:pt x="12543" y="14486"/>
                  <a:pt x="12551" y="14486"/>
                </a:cubicBezTo>
              </a:path>
              <a:path w="4317" h="1241">
                <a:moveTo>
                  <a:pt x="12923" y="14833"/>
                </a:moveTo>
                <a:cubicBezTo>
                  <a:pt x="12943" y="14874"/>
                  <a:pt x="12952" y="14880"/>
                  <a:pt x="12948" y="14908"/>
                </a:cubicBezTo>
                <a:cubicBezTo>
                  <a:pt x="12937" y="14853"/>
                  <a:pt x="12889" y="14740"/>
                  <a:pt x="12923" y="14684"/>
                </a:cubicBezTo>
                <a:cubicBezTo>
                  <a:pt x="12975" y="14597"/>
                  <a:pt x="13165" y="14635"/>
                  <a:pt x="13221" y="14684"/>
                </a:cubicBezTo>
                <a:cubicBezTo>
                  <a:pt x="13287" y="14742"/>
                  <a:pt x="13301" y="14817"/>
                  <a:pt x="13345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24320" y="5000760"/>
            <a:ext cx="982800" cy="339480"/>
          </a:xfrm>
          <a:custGeom>
            <a:avLst/>
            <a:gdLst/>
            <a:ahLst/>
            <a:rect l="l" t="t" r="r" b="b"/>
            <a:pathLst>
              <a:path w="2729" h="943">
                <a:moveTo>
                  <a:pt x="17041" y="13940"/>
                </a:moveTo>
                <a:cubicBezTo>
                  <a:pt x="17016" y="13866"/>
                  <a:pt x="16940" y="13968"/>
                  <a:pt x="16917" y="14015"/>
                </a:cubicBezTo>
                <a:cubicBezTo>
                  <a:pt x="16892" y="14089"/>
                  <a:pt x="16884" y="14114"/>
                  <a:pt x="16867" y="14163"/>
                </a:cubicBezTo>
                <a:cubicBezTo>
                  <a:pt x="16976" y="14236"/>
                  <a:pt x="17029" y="14215"/>
                  <a:pt x="17140" y="14163"/>
                </a:cubicBezTo>
                <a:cubicBezTo>
                  <a:pt x="17242" y="14115"/>
                  <a:pt x="17209" y="14049"/>
                  <a:pt x="17190" y="13965"/>
                </a:cubicBezTo>
                <a:cubicBezTo>
                  <a:pt x="17176" y="13904"/>
                  <a:pt x="17147" y="13891"/>
                  <a:pt x="17090" y="13891"/>
                </a:cubicBezTo>
              </a:path>
              <a:path w="2729" h="943">
                <a:moveTo>
                  <a:pt x="16570" y="14064"/>
                </a:moveTo>
                <a:cubicBezTo>
                  <a:pt x="16507" y="14017"/>
                  <a:pt x="16480" y="14037"/>
                  <a:pt x="16421" y="14089"/>
                </a:cubicBezTo>
                <a:cubicBezTo>
                  <a:pt x="16297" y="14200"/>
                  <a:pt x="16446" y="14258"/>
                  <a:pt x="16545" y="14312"/>
                </a:cubicBezTo>
                <a:cubicBezTo>
                  <a:pt x="16632" y="14356"/>
                  <a:pt x="16656" y="14363"/>
                  <a:pt x="16694" y="14412"/>
                </a:cubicBezTo>
                <a:cubicBezTo>
                  <a:pt x="16623" y="14467"/>
                  <a:pt x="16562" y="14493"/>
                  <a:pt x="16495" y="14412"/>
                </a:cubicBezTo>
                <a:cubicBezTo>
                  <a:pt x="16445" y="14352"/>
                  <a:pt x="16538" y="14181"/>
                  <a:pt x="16545" y="14114"/>
                </a:cubicBezTo>
                <a:cubicBezTo>
                  <a:pt x="16545" y="14106"/>
                  <a:pt x="16545" y="14097"/>
                  <a:pt x="16545" y="14089"/>
                </a:cubicBezTo>
              </a:path>
              <a:path w="2729" h="943">
                <a:moveTo>
                  <a:pt x="15553" y="14263"/>
                </a:moveTo>
                <a:cubicBezTo>
                  <a:pt x="15584" y="14216"/>
                  <a:pt x="15649" y="14190"/>
                  <a:pt x="15726" y="14163"/>
                </a:cubicBezTo>
                <a:cubicBezTo>
                  <a:pt x="15801" y="14137"/>
                  <a:pt x="15815" y="14128"/>
                  <a:pt x="15875" y="14163"/>
                </a:cubicBezTo>
                <a:cubicBezTo>
                  <a:pt x="15859" y="14309"/>
                  <a:pt x="15802" y="14379"/>
                  <a:pt x="15701" y="14486"/>
                </a:cubicBezTo>
                <a:cubicBezTo>
                  <a:pt x="15635" y="14552"/>
                  <a:pt x="15618" y="14569"/>
                  <a:pt x="15577" y="14610"/>
                </a:cubicBezTo>
                <a:cubicBezTo>
                  <a:pt x="15689" y="14591"/>
                  <a:pt x="15791" y="14541"/>
                  <a:pt x="15900" y="14511"/>
                </a:cubicBezTo>
                <a:cubicBezTo>
                  <a:pt x="15990" y="14486"/>
                  <a:pt x="16057" y="14486"/>
                  <a:pt x="16148" y="14486"/>
                </a:cubicBezTo>
              </a:path>
              <a:path w="2729" h="943">
                <a:moveTo>
                  <a:pt x="14908" y="14114"/>
                </a:moveTo>
                <a:cubicBezTo>
                  <a:pt x="14872" y="14126"/>
                  <a:pt x="14874" y="14187"/>
                  <a:pt x="14858" y="14238"/>
                </a:cubicBezTo>
                <a:cubicBezTo>
                  <a:pt x="14828" y="14332"/>
                  <a:pt x="14808" y="14447"/>
                  <a:pt x="14908" y="14511"/>
                </a:cubicBezTo>
                <a:cubicBezTo>
                  <a:pt x="15018" y="14581"/>
                  <a:pt x="15145" y="14497"/>
                  <a:pt x="15205" y="14412"/>
                </a:cubicBezTo>
                <a:cubicBezTo>
                  <a:pt x="15225" y="14371"/>
                  <a:pt x="15234" y="14365"/>
                  <a:pt x="15230" y="14337"/>
                </a:cubicBezTo>
                <a:cubicBezTo>
                  <a:pt x="15152" y="14337"/>
                  <a:pt x="15033" y="14389"/>
                  <a:pt x="15056" y="14511"/>
                </a:cubicBezTo>
                <a:cubicBezTo>
                  <a:pt x="15064" y="14519"/>
                  <a:pt x="15073" y="14528"/>
                  <a:pt x="15081" y="14536"/>
                </a:cubicBezTo>
              </a:path>
              <a:path w="2729" h="943">
                <a:moveTo>
                  <a:pt x="15007" y="14808"/>
                </a:moveTo>
                <a:cubicBezTo>
                  <a:pt x="15175" y="14824"/>
                  <a:pt x="15328" y="14810"/>
                  <a:pt x="15503" y="14808"/>
                </a:cubicBezTo>
                <a:cubicBezTo>
                  <a:pt x="15928" y="14804"/>
                  <a:pt x="16344" y="14800"/>
                  <a:pt x="16768" y="14759"/>
                </a:cubicBezTo>
                <a:cubicBezTo>
                  <a:pt x="16922" y="14744"/>
                  <a:pt x="17068" y="14714"/>
                  <a:pt x="17214" y="14684"/>
                </a:cubicBezTo>
                <a:cubicBezTo>
                  <a:pt x="17222" y="14684"/>
                  <a:pt x="17231" y="14684"/>
                  <a:pt x="17239" y="14684"/>
                </a:cubicBezTo>
              </a:path>
              <a:path w="2729" h="943">
                <a:moveTo>
                  <a:pt x="14560" y="14387"/>
                </a:moveTo>
                <a:cubicBezTo>
                  <a:pt x="14605" y="14477"/>
                  <a:pt x="14635" y="14534"/>
                  <a:pt x="14635" y="14635"/>
                </a:cubicBezTo>
              </a:path>
              <a:path w="2729" h="943">
                <a:moveTo>
                  <a:pt x="14511" y="14560"/>
                </a:moveTo>
                <a:cubicBezTo>
                  <a:pt x="14645" y="14551"/>
                  <a:pt x="14775" y="14531"/>
                  <a:pt x="14908" y="145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3800" y="5589720"/>
            <a:ext cx="1108080" cy="438120"/>
          </a:xfrm>
          <a:custGeom>
            <a:avLst/>
            <a:gdLst/>
            <a:ahLst/>
            <a:rect l="l" t="t" r="r" b="b"/>
            <a:pathLst>
              <a:path w="3077" h="1216">
                <a:moveTo>
                  <a:pt x="8954" y="16024"/>
                </a:moveTo>
                <a:cubicBezTo>
                  <a:pt x="8978" y="16034"/>
                  <a:pt x="9005" y="16039"/>
                  <a:pt x="9029" y="16049"/>
                </a:cubicBezTo>
                <a:cubicBezTo>
                  <a:pt x="9001" y="15988"/>
                  <a:pt x="8969" y="15888"/>
                  <a:pt x="8880" y="15875"/>
                </a:cubicBezTo>
                <a:cubicBezTo>
                  <a:pt x="8755" y="15857"/>
                  <a:pt x="8711" y="16137"/>
                  <a:pt x="8706" y="16197"/>
                </a:cubicBezTo>
                <a:cubicBezTo>
                  <a:pt x="8691" y="16378"/>
                  <a:pt x="8711" y="16743"/>
                  <a:pt x="8979" y="16743"/>
                </a:cubicBezTo>
                <a:cubicBezTo>
                  <a:pt x="9192" y="16743"/>
                  <a:pt x="9372" y="16590"/>
                  <a:pt x="9500" y="16446"/>
                </a:cubicBezTo>
                <a:cubicBezTo>
                  <a:pt x="9508" y="16438"/>
                  <a:pt x="9517" y="16429"/>
                  <a:pt x="9525" y="16421"/>
                </a:cubicBezTo>
              </a:path>
              <a:path w="3077" h="1216">
                <a:moveTo>
                  <a:pt x="9599" y="16098"/>
                </a:moveTo>
                <a:cubicBezTo>
                  <a:pt x="9631" y="16094"/>
                  <a:pt x="9811" y="16040"/>
                  <a:pt x="9823" y="16049"/>
                </a:cubicBezTo>
                <a:cubicBezTo>
                  <a:pt x="9823" y="16065"/>
                  <a:pt x="9823" y="16082"/>
                  <a:pt x="9823" y="16098"/>
                </a:cubicBezTo>
              </a:path>
              <a:path w="3077" h="1216">
                <a:moveTo>
                  <a:pt x="9575" y="16470"/>
                </a:moveTo>
                <a:cubicBezTo>
                  <a:pt x="9702" y="16399"/>
                  <a:pt x="9818" y="16316"/>
                  <a:pt x="9947" y="16247"/>
                </a:cubicBezTo>
              </a:path>
              <a:path w="3077" h="1216">
                <a:moveTo>
                  <a:pt x="10220" y="15850"/>
                </a:moveTo>
                <a:cubicBezTo>
                  <a:pt x="10238" y="15981"/>
                  <a:pt x="10281" y="16096"/>
                  <a:pt x="10319" y="16222"/>
                </a:cubicBezTo>
                <a:cubicBezTo>
                  <a:pt x="10339" y="16287"/>
                  <a:pt x="10332" y="16346"/>
                  <a:pt x="10368" y="16371"/>
                </a:cubicBezTo>
              </a:path>
              <a:path w="3077" h="1216">
                <a:moveTo>
                  <a:pt x="10641" y="15850"/>
                </a:moveTo>
                <a:cubicBezTo>
                  <a:pt x="10682" y="15987"/>
                  <a:pt x="10739" y="16114"/>
                  <a:pt x="10790" y="16247"/>
                </a:cubicBezTo>
              </a:path>
              <a:path w="3077" h="1216">
                <a:moveTo>
                  <a:pt x="9897" y="16098"/>
                </a:moveTo>
                <a:cubicBezTo>
                  <a:pt x="9897" y="16026"/>
                  <a:pt x="9890" y="15939"/>
                  <a:pt x="9971" y="15900"/>
                </a:cubicBezTo>
                <a:cubicBezTo>
                  <a:pt x="10080" y="15848"/>
                  <a:pt x="10279" y="15818"/>
                  <a:pt x="10393" y="15875"/>
                </a:cubicBezTo>
                <a:cubicBezTo>
                  <a:pt x="10531" y="15944"/>
                  <a:pt x="10570" y="16051"/>
                  <a:pt x="10740" y="15974"/>
                </a:cubicBezTo>
                <a:cubicBezTo>
                  <a:pt x="10814" y="15941"/>
                  <a:pt x="10980" y="15825"/>
                  <a:pt x="10815" y="15825"/>
                </a:cubicBezTo>
              </a:path>
              <a:path w="3077" h="1216">
                <a:moveTo>
                  <a:pt x="11782" y="15999"/>
                </a:moveTo>
                <a:cubicBezTo>
                  <a:pt x="11676" y="15904"/>
                  <a:pt x="11557" y="15850"/>
                  <a:pt x="11410" y="15925"/>
                </a:cubicBezTo>
                <a:cubicBezTo>
                  <a:pt x="11271" y="15996"/>
                  <a:pt x="11236" y="16092"/>
                  <a:pt x="11187" y="16222"/>
                </a:cubicBezTo>
                <a:cubicBezTo>
                  <a:pt x="11361" y="16297"/>
                  <a:pt x="11515" y="16278"/>
                  <a:pt x="11658" y="16123"/>
                </a:cubicBezTo>
                <a:cubicBezTo>
                  <a:pt x="11683" y="16082"/>
                  <a:pt x="11708" y="16040"/>
                  <a:pt x="11733" y="15999"/>
                </a:cubicBezTo>
              </a:path>
              <a:path w="3077" h="1216">
                <a:moveTo>
                  <a:pt x="11633" y="15528"/>
                </a:moveTo>
                <a:cubicBezTo>
                  <a:pt x="11679" y="15729"/>
                  <a:pt x="11746" y="15918"/>
                  <a:pt x="11757" y="16123"/>
                </a:cubicBezTo>
                <a:cubicBezTo>
                  <a:pt x="11757" y="16148"/>
                  <a:pt x="11757" y="16172"/>
                  <a:pt x="11757" y="1619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9720" y="5384880"/>
            <a:ext cx="787320" cy="258840"/>
          </a:xfrm>
          <a:custGeom>
            <a:avLst/>
            <a:gdLst/>
            <a:ahLst/>
            <a:rect l="l" t="t" r="r" b="b"/>
            <a:pathLst>
              <a:path w="2184" h="721">
                <a:moveTo>
                  <a:pt x="17562" y="14957"/>
                </a:moveTo>
                <a:cubicBezTo>
                  <a:pt x="17465" y="14993"/>
                  <a:pt x="17405" y="15088"/>
                  <a:pt x="17388" y="15205"/>
                </a:cubicBezTo>
                <a:cubicBezTo>
                  <a:pt x="17388" y="15238"/>
                  <a:pt x="17388" y="15271"/>
                  <a:pt x="17388" y="15304"/>
                </a:cubicBezTo>
                <a:cubicBezTo>
                  <a:pt x="17497" y="15370"/>
                  <a:pt x="17607" y="15387"/>
                  <a:pt x="17686" y="15255"/>
                </a:cubicBezTo>
                <a:cubicBezTo>
                  <a:pt x="17800" y="15066"/>
                  <a:pt x="17456" y="15085"/>
                  <a:pt x="17363" y="15081"/>
                </a:cubicBezTo>
              </a:path>
              <a:path w="2184" h="721">
                <a:moveTo>
                  <a:pt x="16842" y="15106"/>
                </a:moveTo>
                <a:cubicBezTo>
                  <a:pt x="16794" y="15136"/>
                  <a:pt x="16759" y="15165"/>
                  <a:pt x="16718" y="15205"/>
                </a:cubicBezTo>
                <a:cubicBezTo>
                  <a:pt x="16865" y="15293"/>
                  <a:pt x="17021" y="15345"/>
                  <a:pt x="17140" y="15453"/>
                </a:cubicBezTo>
                <a:cubicBezTo>
                  <a:pt x="17102" y="15475"/>
                  <a:pt x="16898" y="15566"/>
                  <a:pt x="16867" y="15478"/>
                </a:cubicBezTo>
                <a:cubicBezTo>
                  <a:pt x="16816" y="15336"/>
                  <a:pt x="16955" y="15238"/>
                  <a:pt x="16991" y="15131"/>
                </a:cubicBezTo>
              </a:path>
              <a:path w="2184" h="721">
                <a:moveTo>
                  <a:pt x="16272" y="15304"/>
                </a:moveTo>
                <a:cubicBezTo>
                  <a:pt x="16343" y="15263"/>
                  <a:pt x="16461" y="15234"/>
                  <a:pt x="16545" y="15280"/>
                </a:cubicBezTo>
                <a:cubicBezTo>
                  <a:pt x="16612" y="15347"/>
                  <a:pt x="16637" y="15362"/>
                  <a:pt x="16619" y="15429"/>
                </a:cubicBezTo>
                <a:cubicBezTo>
                  <a:pt x="16500" y="15548"/>
                  <a:pt x="16392" y="15582"/>
                  <a:pt x="16222" y="15602"/>
                </a:cubicBezTo>
                <a:cubicBezTo>
                  <a:pt x="16202" y="15542"/>
                  <a:pt x="16387" y="15556"/>
                  <a:pt x="16470" y="15553"/>
                </a:cubicBezTo>
                <a:cubicBezTo>
                  <a:pt x="16487" y="15553"/>
                  <a:pt x="16503" y="15553"/>
                  <a:pt x="16520" y="15553"/>
                </a:cubicBezTo>
              </a:path>
              <a:path w="2184" h="721">
                <a:moveTo>
                  <a:pt x="15627" y="15205"/>
                </a:moveTo>
                <a:cubicBezTo>
                  <a:pt x="15577" y="15280"/>
                  <a:pt x="15540" y="15386"/>
                  <a:pt x="15528" y="15478"/>
                </a:cubicBezTo>
                <a:cubicBezTo>
                  <a:pt x="15511" y="15610"/>
                  <a:pt x="15593" y="15681"/>
                  <a:pt x="15726" y="15677"/>
                </a:cubicBezTo>
                <a:cubicBezTo>
                  <a:pt x="15869" y="15673"/>
                  <a:pt x="15926" y="15596"/>
                  <a:pt x="15900" y="15478"/>
                </a:cubicBezTo>
                <a:cubicBezTo>
                  <a:pt x="15804" y="15478"/>
                  <a:pt x="15784" y="15508"/>
                  <a:pt x="15726" y="15577"/>
                </a:cubicBezTo>
                <a:cubicBezTo>
                  <a:pt x="15698" y="15605"/>
                  <a:pt x="15694" y="15614"/>
                  <a:pt x="15751" y="156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43160" y="4518000"/>
            <a:ext cx="1108080" cy="384120"/>
          </a:xfrm>
          <a:custGeom>
            <a:avLst/>
            <a:gdLst/>
            <a:ahLst/>
            <a:rect l="l" t="t" r="r" b="b"/>
            <a:pathLst>
              <a:path w="3077" h="1068">
                <a:moveTo>
                  <a:pt x="9178" y="12998"/>
                </a:moveTo>
                <a:cubicBezTo>
                  <a:pt x="9245" y="13019"/>
                  <a:pt x="9228" y="12953"/>
                  <a:pt x="9203" y="12874"/>
                </a:cubicBezTo>
                <a:cubicBezTo>
                  <a:pt x="9156" y="12724"/>
                  <a:pt x="9015" y="12766"/>
                  <a:pt x="8930" y="12849"/>
                </a:cubicBezTo>
                <a:cubicBezTo>
                  <a:pt x="8765" y="13009"/>
                  <a:pt x="8659" y="13328"/>
                  <a:pt x="8781" y="13543"/>
                </a:cubicBezTo>
                <a:cubicBezTo>
                  <a:pt x="8896" y="13745"/>
                  <a:pt x="9244" y="13570"/>
                  <a:pt x="9376" y="13494"/>
                </a:cubicBezTo>
                <a:cubicBezTo>
                  <a:pt x="9384" y="13486"/>
                  <a:pt x="9393" y="13477"/>
                  <a:pt x="9401" y="13469"/>
                </a:cubicBezTo>
              </a:path>
              <a:path w="3077" h="1068">
                <a:moveTo>
                  <a:pt x="9599" y="12998"/>
                </a:moveTo>
                <a:cubicBezTo>
                  <a:pt x="9702" y="12998"/>
                  <a:pt x="9796" y="12979"/>
                  <a:pt x="9897" y="12973"/>
                </a:cubicBezTo>
                <a:cubicBezTo>
                  <a:pt x="9905" y="12973"/>
                  <a:pt x="9914" y="12973"/>
                  <a:pt x="9922" y="12973"/>
                </a:cubicBezTo>
              </a:path>
              <a:path w="3077" h="1068">
                <a:moveTo>
                  <a:pt x="9624" y="13246"/>
                </a:moveTo>
                <a:cubicBezTo>
                  <a:pt x="9740" y="13221"/>
                  <a:pt x="9855" y="13196"/>
                  <a:pt x="9971" y="13171"/>
                </a:cubicBezTo>
              </a:path>
              <a:path w="3077" h="1068">
                <a:moveTo>
                  <a:pt x="10443" y="12774"/>
                </a:moveTo>
                <a:cubicBezTo>
                  <a:pt x="10443" y="12878"/>
                  <a:pt x="10482" y="12969"/>
                  <a:pt x="10492" y="13072"/>
                </a:cubicBezTo>
                <a:cubicBezTo>
                  <a:pt x="10492" y="13146"/>
                  <a:pt x="10492" y="13155"/>
                  <a:pt x="10492" y="13196"/>
                </a:cubicBezTo>
              </a:path>
              <a:path w="3077" h="1068">
                <a:moveTo>
                  <a:pt x="10790" y="12774"/>
                </a:moveTo>
                <a:cubicBezTo>
                  <a:pt x="10853" y="12909"/>
                  <a:pt x="10906" y="13022"/>
                  <a:pt x="10914" y="13171"/>
                </a:cubicBezTo>
                <a:cubicBezTo>
                  <a:pt x="10918" y="13239"/>
                  <a:pt x="10903" y="13231"/>
                  <a:pt x="10864" y="13221"/>
                </a:cubicBezTo>
              </a:path>
              <a:path w="3077" h="1068">
                <a:moveTo>
                  <a:pt x="10046" y="13022"/>
                </a:moveTo>
                <a:cubicBezTo>
                  <a:pt x="10040" y="12969"/>
                  <a:pt x="10000" y="12866"/>
                  <a:pt x="10046" y="12824"/>
                </a:cubicBezTo>
                <a:cubicBezTo>
                  <a:pt x="10138" y="12741"/>
                  <a:pt x="10330" y="12718"/>
                  <a:pt x="10443" y="12725"/>
                </a:cubicBezTo>
                <a:cubicBezTo>
                  <a:pt x="10586" y="12734"/>
                  <a:pt x="10724" y="12805"/>
                  <a:pt x="10864" y="12824"/>
                </a:cubicBezTo>
                <a:cubicBezTo>
                  <a:pt x="10911" y="12830"/>
                  <a:pt x="11071" y="12814"/>
                  <a:pt x="11088" y="12750"/>
                </a:cubicBezTo>
                <a:cubicBezTo>
                  <a:pt x="11088" y="12725"/>
                  <a:pt x="11088" y="12700"/>
                  <a:pt x="11088" y="12675"/>
                </a:cubicBezTo>
              </a:path>
              <a:path w="3077" h="1068">
                <a:moveTo>
                  <a:pt x="11733" y="13047"/>
                </a:moveTo>
                <a:cubicBezTo>
                  <a:pt x="11717" y="12970"/>
                  <a:pt x="11697" y="12913"/>
                  <a:pt x="11609" y="12898"/>
                </a:cubicBezTo>
                <a:cubicBezTo>
                  <a:pt x="11489" y="12878"/>
                  <a:pt x="11337" y="12958"/>
                  <a:pt x="11286" y="13072"/>
                </a:cubicBezTo>
                <a:cubicBezTo>
                  <a:pt x="11194" y="13277"/>
                  <a:pt x="11500" y="13299"/>
                  <a:pt x="11609" y="13271"/>
                </a:cubicBezTo>
                <a:cubicBezTo>
                  <a:pt x="11777" y="13228"/>
                  <a:pt x="11745" y="13108"/>
                  <a:pt x="11757" y="12973"/>
                </a:cubicBezTo>
              </a:path>
              <a:path w="3077" h="1068">
                <a:moveTo>
                  <a:pt x="11584" y="12551"/>
                </a:moveTo>
                <a:cubicBezTo>
                  <a:pt x="11609" y="12677"/>
                  <a:pt x="11665" y="12824"/>
                  <a:pt x="11708" y="12948"/>
                </a:cubicBezTo>
                <a:cubicBezTo>
                  <a:pt x="11743" y="13049"/>
                  <a:pt x="11764" y="13185"/>
                  <a:pt x="11807" y="132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97160" y="4857840"/>
            <a:ext cx="1241640" cy="303120"/>
          </a:xfrm>
          <a:custGeom>
            <a:avLst/>
            <a:gdLst/>
            <a:ahLst/>
            <a:rect l="l" t="t" r="r" b="b"/>
            <a:pathLst>
              <a:path w="3449" h="844">
                <a:moveTo>
                  <a:pt x="9302" y="13866"/>
                </a:moveTo>
                <a:cubicBezTo>
                  <a:pt x="9302" y="13903"/>
                  <a:pt x="9273" y="13849"/>
                  <a:pt x="9227" y="13816"/>
                </a:cubicBezTo>
                <a:cubicBezTo>
                  <a:pt x="9116" y="13736"/>
                  <a:pt x="8999" y="13734"/>
                  <a:pt x="8930" y="13866"/>
                </a:cubicBezTo>
                <a:cubicBezTo>
                  <a:pt x="8871" y="13979"/>
                  <a:pt x="8816" y="14267"/>
                  <a:pt x="8979" y="14337"/>
                </a:cubicBezTo>
                <a:cubicBezTo>
                  <a:pt x="9110" y="14393"/>
                  <a:pt x="9298" y="14276"/>
                  <a:pt x="9401" y="14213"/>
                </a:cubicBezTo>
                <a:cubicBezTo>
                  <a:pt x="9409" y="14205"/>
                  <a:pt x="9418" y="14196"/>
                  <a:pt x="9426" y="14188"/>
                </a:cubicBezTo>
              </a:path>
              <a:path w="3449" h="844">
                <a:moveTo>
                  <a:pt x="9674" y="13940"/>
                </a:moveTo>
                <a:cubicBezTo>
                  <a:pt x="9733" y="13928"/>
                  <a:pt x="9788" y="13904"/>
                  <a:pt x="9847" y="13891"/>
                </a:cubicBezTo>
                <a:cubicBezTo>
                  <a:pt x="9855" y="13891"/>
                  <a:pt x="9864" y="13891"/>
                  <a:pt x="9872" y="13891"/>
                </a:cubicBezTo>
              </a:path>
              <a:path w="3449" h="844">
                <a:moveTo>
                  <a:pt x="9699" y="14114"/>
                </a:moveTo>
                <a:cubicBezTo>
                  <a:pt x="9765" y="14114"/>
                  <a:pt x="9782" y="14114"/>
                  <a:pt x="9823" y="14114"/>
                </a:cubicBezTo>
              </a:path>
              <a:path w="3449" h="844">
                <a:moveTo>
                  <a:pt x="10220" y="13543"/>
                </a:moveTo>
                <a:cubicBezTo>
                  <a:pt x="10194" y="13493"/>
                  <a:pt x="10107" y="13668"/>
                  <a:pt x="10096" y="13692"/>
                </a:cubicBezTo>
                <a:cubicBezTo>
                  <a:pt x="10022" y="13862"/>
                  <a:pt x="10006" y="14055"/>
                  <a:pt x="10145" y="14188"/>
                </a:cubicBezTo>
                <a:cubicBezTo>
                  <a:pt x="10220" y="14260"/>
                  <a:pt x="10299" y="14238"/>
                  <a:pt x="10393" y="14238"/>
                </a:cubicBezTo>
              </a:path>
              <a:path w="3449" h="844">
                <a:moveTo>
                  <a:pt x="10344" y="13692"/>
                </a:moveTo>
                <a:cubicBezTo>
                  <a:pt x="10426" y="13626"/>
                  <a:pt x="10537" y="13627"/>
                  <a:pt x="10641" y="13643"/>
                </a:cubicBezTo>
                <a:cubicBezTo>
                  <a:pt x="10784" y="13665"/>
                  <a:pt x="10705" y="13799"/>
                  <a:pt x="10616" y="13841"/>
                </a:cubicBezTo>
                <a:cubicBezTo>
                  <a:pt x="10583" y="13849"/>
                  <a:pt x="10550" y="13858"/>
                  <a:pt x="10517" y="13866"/>
                </a:cubicBezTo>
                <a:cubicBezTo>
                  <a:pt x="10501" y="13866"/>
                  <a:pt x="10484" y="13866"/>
                  <a:pt x="10468" y="13866"/>
                </a:cubicBezTo>
                <a:cubicBezTo>
                  <a:pt x="10543" y="13851"/>
                  <a:pt x="10616" y="13838"/>
                  <a:pt x="10691" y="13891"/>
                </a:cubicBezTo>
                <a:cubicBezTo>
                  <a:pt x="10756" y="13936"/>
                  <a:pt x="10866" y="14083"/>
                  <a:pt x="10740" y="14139"/>
                </a:cubicBezTo>
                <a:cubicBezTo>
                  <a:pt x="10605" y="14199"/>
                  <a:pt x="10457" y="14178"/>
                  <a:pt x="10443" y="14064"/>
                </a:cubicBezTo>
              </a:path>
              <a:path w="3449" h="844">
                <a:moveTo>
                  <a:pt x="10988" y="13965"/>
                </a:moveTo>
                <a:cubicBezTo>
                  <a:pt x="10996" y="13965"/>
                  <a:pt x="11005" y="13965"/>
                  <a:pt x="11013" y="13965"/>
                </a:cubicBezTo>
              </a:path>
              <a:path w="3449" h="844">
                <a:moveTo>
                  <a:pt x="11063" y="13643"/>
                </a:moveTo>
                <a:cubicBezTo>
                  <a:pt x="11093" y="13747"/>
                  <a:pt x="11163" y="13860"/>
                  <a:pt x="11187" y="13965"/>
                </a:cubicBezTo>
                <a:cubicBezTo>
                  <a:pt x="11187" y="13990"/>
                  <a:pt x="11187" y="14014"/>
                  <a:pt x="11187" y="14039"/>
                </a:cubicBezTo>
              </a:path>
              <a:path w="3449" h="844">
                <a:moveTo>
                  <a:pt x="11361" y="13692"/>
                </a:moveTo>
                <a:cubicBezTo>
                  <a:pt x="11361" y="13750"/>
                  <a:pt x="11361" y="13808"/>
                  <a:pt x="11361" y="13866"/>
                </a:cubicBezTo>
                <a:cubicBezTo>
                  <a:pt x="11470" y="13877"/>
                  <a:pt x="11572" y="13891"/>
                  <a:pt x="11683" y="13891"/>
                </a:cubicBezTo>
                <a:cubicBezTo>
                  <a:pt x="11700" y="13891"/>
                  <a:pt x="11716" y="13891"/>
                  <a:pt x="11733" y="13891"/>
                </a:cubicBezTo>
              </a:path>
              <a:path w="3449" h="844">
                <a:moveTo>
                  <a:pt x="11633" y="13618"/>
                </a:moveTo>
                <a:cubicBezTo>
                  <a:pt x="11633" y="13748"/>
                  <a:pt x="11647" y="13864"/>
                  <a:pt x="11683" y="13990"/>
                </a:cubicBezTo>
                <a:cubicBezTo>
                  <a:pt x="11703" y="14050"/>
                  <a:pt x="11702" y="14065"/>
                  <a:pt x="11733" y="14089"/>
                </a:cubicBezTo>
              </a:path>
              <a:path w="3449" h="844">
                <a:moveTo>
                  <a:pt x="11683" y="13494"/>
                </a:moveTo>
                <a:cubicBezTo>
                  <a:pt x="11801" y="13533"/>
                  <a:pt x="11915" y="13633"/>
                  <a:pt x="11981" y="13742"/>
                </a:cubicBezTo>
                <a:cubicBezTo>
                  <a:pt x="12088" y="13920"/>
                  <a:pt x="12057" y="14044"/>
                  <a:pt x="11931" y="14188"/>
                </a:cubicBezTo>
                <a:cubicBezTo>
                  <a:pt x="11914" y="14205"/>
                  <a:pt x="11898" y="14221"/>
                  <a:pt x="11881" y="14238"/>
                </a:cubicBezTo>
              </a:path>
              <a:path w="3449" h="844">
                <a:moveTo>
                  <a:pt x="12254" y="13494"/>
                </a:moveTo>
                <a:cubicBezTo>
                  <a:pt x="12224" y="13600"/>
                  <a:pt x="12159" y="13683"/>
                  <a:pt x="12129" y="13791"/>
                </a:cubicBezTo>
                <a:cubicBezTo>
                  <a:pt x="12099" y="13898"/>
                  <a:pt x="12069" y="14065"/>
                  <a:pt x="12179" y="14139"/>
                </a:cubicBezTo>
                <a:cubicBezTo>
                  <a:pt x="12231" y="14174"/>
                  <a:pt x="12309" y="14176"/>
                  <a:pt x="12328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4840" y="5902200"/>
            <a:ext cx="750960" cy="733680"/>
          </a:xfrm>
          <a:custGeom>
            <a:avLst/>
            <a:gdLst/>
            <a:ahLst/>
            <a:rect l="l" t="t" r="r" b="b"/>
            <a:pathLst>
              <a:path w="2085" h="2035">
                <a:moveTo>
                  <a:pt x="4887" y="16495"/>
                </a:moveTo>
                <a:cubicBezTo>
                  <a:pt x="4951" y="16576"/>
                  <a:pt x="5012" y="16646"/>
                  <a:pt x="5085" y="16718"/>
                </a:cubicBezTo>
              </a:path>
              <a:path w="2085" h="2035">
                <a:moveTo>
                  <a:pt x="5035" y="16421"/>
                </a:moveTo>
                <a:cubicBezTo>
                  <a:pt x="5035" y="16541"/>
                  <a:pt x="5001" y="16655"/>
                  <a:pt x="4961" y="16768"/>
                </a:cubicBezTo>
                <a:cubicBezTo>
                  <a:pt x="4953" y="16785"/>
                  <a:pt x="4944" y="16801"/>
                  <a:pt x="4936" y="16818"/>
                </a:cubicBezTo>
              </a:path>
              <a:path w="2085" h="2035">
                <a:moveTo>
                  <a:pt x="5308" y="16446"/>
                </a:moveTo>
                <a:cubicBezTo>
                  <a:pt x="5369" y="16431"/>
                  <a:pt x="5394" y="16400"/>
                  <a:pt x="5457" y="16421"/>
                </a:cubicBezTo>
                <a:cubicBezTo>
                  <a:pt x="5485" y="16518"/>
                  <a:pt x="5423" y="16649"/>
                  <a:pt x="5358" y="16743"/>
                </a:cubicBezTo>
                <a:cubicBezTo>
                  <a:pt x="5341" y="16760"/>
                  <a:pt x="5325" y="16776"/>
                  <a:pt x="5308" y="16793"/>
                </a:cubicBezTo>
                <a:cubicBezTo>
                  <a:pt x="5433" y="16793"/>
                  <a:pt x="5533" y="16737"/>
                  <a:pt x="5655" y="16718"/>
                </a:cubicBezTo>
                <a:cubicBezTo>
                  <a:pt x="5680" y="16718"/>
                  <a:pt x="5705" y="16718"/>
                  <a:pt x="5730" y="16718"/>
                </a:cubicBezTo>
              </a:path>
              <a:path w="2085" h="2035">
                <a:moveTo>
                  <a:pt x="4713" y="17289"/>
                </a:moveTo>
                <a:cubicBezTo>
                  <a:pt x="4941" y="17198"/>
                  <a:pt x="5164" y="17093"/>
                  <a:pt x="5407" y="17041"/>
                </a:cubicBezTo>
                <a:cubicBezTo>
                  <a:pt x="5548" y="17011"/>
                  <a:pt x="5686" y="17016"/>
                  <a:pt x="5829" y="17016"/>
                </a:cubicBezTo>
              </a:path>
              <a:path w="2085" h="2035">
                <a:moveTo>
                  <a:pt x="5159" y="17512"/>
                </a:moveTo>
                <a:cubicBezTo>
                  <a:pt x="5135" y="17512"/>
                  <a:pt x="5127" y="17512"/>
                  <a:pt x="5135" y="17487"/>
                </a:cubicBezTo>
                <a:cubicBezTo>
                  <a:pt x="5135" y="17606"/>
                  <a:pt x="5168" y="17714"/>
                  <a:pt x="5159" y="17835"/>
                </a:cubicBezTo>
                <a:cubicBezTo>
                  <a:pt x="5158" y="17843"/>
                  <a:pt x="5110" y="18135"/>
                  <a:pt x="5110" y="18083"/>
                </a:cubicBezTo>
              </a:path>
              <a:path w="2085" h="2035">
                <a:moveTo>
                  <a:pt x="5507" y="17487"/>
                </a:moveTo>
                <a:cubicBezTo>
                  <a:pt x="5491" y="17569"/>
                  <a:pt x="5457" y="17665"/>
                  <a:pt x="5507" y="17711"/>
                </a:cubicBezTo>
                <a:cubicBezTo>
                  <a:pt x="5615" y="17810"/>
                  <a:pt x="5716" y="17745"/>
                  <a:pt x="5829" y="17686"/>
                </a:cubicBezTo>
                <a:cubicBezTo>
                  <a:pt x="5870" y="17666"/>
                  <a:pt x="5876" y="17657"/>
                  <a:pt x="5904" y="17661"/>
                </a:cubicBezTo>
              </a:path>
              <a:path w="2085" h="2035">
                <a:moveTo>
                  <a:pt x="5705" y="17264"/>
                </a:moveTo>
                <a:cubicBezTo>
                  <a:pt x="5685" y="17444"/>
                  <a:pt x="5727" y="17626"/>
                  <a:pt x="5705" y="17810"/>
                </a:cubicBezTo>
                <a:cubicBezTo>
                  <a:pt x="5698" y="17869"/>
                  <a:pt x="5680" y="17993"/>
                  <a:pt x="5680" y="17934"/>
                </a:cubicBezTo>
              </a:path>
              <a:path w="2085" h="2035">
                <a:moveTo>
                  <a:pt x="4192" y="18157"/>
                </a:moveTo>
                <a:cubicBezTo>
                  <a:pt x="4192" y="18056"/>
                  <a:pt x="4151" y="18041"/>
                  <a:pt x="4068" y="17983"/>
                </a:cubicBezTo>
                <a:cubicBezTo>
                  <a:pt x="3991" y="17932"/>
                  <a:pt x="3962" y="17916"/>
                  <a:pt x="3894" y="17934"/>
                </a:cubicBezTo>
                <a:cubicBezTo>
                  <a:pt x="3827" y="18070"/>
                  <a:pt x="3775" y="18227"/>
                  <a:pt x="3845" y="18380"/>
                </a:cubicBezTo>
                <a:cubicBezTo>
                  <a:pt x="3956" y="18621"/>
                  <a:pt x="4131" y="18088"/>
                  <a:pt x="4142" y="18058"/>
                </a:cubicBezTo>
              </a:path>
              <a:path w="2085" h="2035">
                <a:moveTo>
                  <a:pt x="4043" y="17636"/>
                </a:moveTo>
                <a:cubicBezTo>
                  <a:pt x="4069" y="17793"/>
                  <a:pt x="4110" y="17950"/>
                  <a:pt x="4142" y="18107"/>
                </a:cubicBezTo>
                <a:cubicBezTo>
                  <a:pt x="4175" y="18271"/>
                  <a:pt x="4138" y="18335"/>
                  <a:pt x="4242" y="18231"/>
                </a:cubicBezTo>
              </a:path>
              <a:path w="2085" h="2035">
                <a:moveTo>
                  <a:pt x="4440" y="17859"/>
                </a:moveTo>
                <a:cubicBezTo>
                  <a:pt x="4520" y="17859"/>
                  <a:pt x="4586" y="17847"/>
                  <a:pt x="4663" y="17835"/>
                </a:cubicBezTo>
              </a:path>
              <a:path w="2085" h="2035">
                <a:moveTo>
                  <a:pt x="4490" y="18207"/>
                </a:moveTo>
                <a:cubicBezTo>
                  <a:pt x="4581" y="18192"/>
                  <a:pt x="4653" y="18142"/>
                  <a:pt x="4738" y="181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14800" y="5938920"/>
            <a:ext cx="1473120" cy="411120"/>
          </a:xfrm>
          <a:custGeom>
            <a:avLst/>
            <a:gdLst/>
            <a:ahLst/>
            <a:rect l="l" t="t" r="r" b="b"/>
            <a:pathLst>
              <a:path w="4093" h="1142">
                <a:moveTo>
                  <a:pt x="9327" y="16991"/>
                </a:moveTo>
                <a:cubicBezTo>
                  <a:pt x="9391" y="17080"/>
                  <a:pt x="9324" y="16992"/>
                  <a:pt x="9277" y="16942"/>
                </a:cubicBezTo>
                <a:cubicBezTo>
                  <a:pt x="9221" y="16883"/>
                  <a:pt x="9169" y="16790"/>
                  <a:pt x="9079" y="16892"/>
                </a:cubicBezTo>
                <a:cubicBezTo>
                  <a:pt x="8962" y="17025"/>
                  <a:pt x="8880" y="17288"/>
                  <a:pt x="8930" y="17462"/>
                </a:cubicBezTo>
                <a:cubicBezTo>
                  <a:pt x="8998" y="17697"/>
                  <a:pt x="9223" y="17639"/>
                  <a:pt x="9376" y="17562"/>
                </a:cubicBezTo>
                <a:cubicBezTo>
                  <a:pt x="9491" y="17504"/>
                  <a:pt x="9561" y="17427"/>
                  <a:pt x="9649" y="17338"/>
                </a:cubicBezTo>
              </a:path>
              <a:path w="4093" h="1142">
                <a:moveTo>
                  <a:pt x="9723" y="17041"/>
                </a:moveTo>
                <a:cubicBezTo>
                  <a:pt x="9804" y="17014"/>
                  <a:pt x="9953" y="16920"/>
                  <a:pt x="9872" y="17041"/>
                </a:cubicBezTo>
              </a:path>
              <a:path w="4093" h="1142">
                <a:moveTo>
                  <a:pt x="9723" y="17314"/>
                </a:moveTo>
                <a:cubicBezTo>
                  <a:pt x="9850" y="17232"/>
                  <a:pt x="9951" y="17190"/>
                  <a:pt x="10096" y="17140"/>
                </a:cubicBezTo>
              </a:path>
              <a:path w="4093" h="1142">
                <a:moveTo>
                  <a:pt x="10344" y="16694"/>
                </a:moveTo>
                <a:cubicBezTo>
                  <a:pt x="10319" y="16816"/>
                  <a:pt x="10281" y="16964"/>
                  <a:pt x="10269" y="17090"/>
                </a:cubicBezTo>
                <a:cubicBezTo>
                  <a:pt x="10256" y="17224"/>
                  <a:pt x="10246" y="17462"/>
                  <a:pt x="10443" y="17462"/>
                </a:cubicBezTo>
                <a:cubicBezTo>
                  <a:pt x="10532" y="17440"/>
                  <a:pt x="10558" y="17440"/>
                  <a:pt x="10592" y="17388"/>
                </a:cubicBezTo>
              </a:path>
              <a:path w="4093" h="1142">
                <a:moveTo>
                  <a:pt x="10492" y="16892"/>
                </a:moveTo>
                <a:cubicBezTo>
                  <a:pt x="10540" y="16864"/>
                  <a:pt x="10688" y="16790"/>
                  <a:pt x="10740" y="16867"/>
                </a:cubicBezTo>
                <a:cubicBezTo>
                  <a:pt x="10806" y="16964"/>
                  <a:pt x="10624" y="17058"/>
                  <a:pt x="10567" y="17090"/>
                </a:cubicBezTo>
                <a:cubicBezTo>
                  <a:pt x="10619" y="17039"/>
                  <a:pt x="10786" y="16973"/>
                  <a:pt x="10864" y="17066"/>
                </a:cubicBezTo>
                <a:cubicBezTo>
                  <a:pt x="10970" y="17192"/>
                  <a:pt x="10755" y="17327"/>
                  <a:pt x="10666" y="17363"/>
                </a:cubicBezTo>
                <a:cubicBezTo>
                  <a:pt x="10528" y="17418"/>
                  <a:pt x="10532" y="17389"/>
                  <a:pt x="10542" y="17289"/>
                </a:cubicBezTo>
              </a:path>
              <a:path w="4093" h="1142">
                <a:moveTo>
                  <a:pt x="11137" y="17115"/>
                </a:moveTo>
                <a:cubicBezTo>
                  <a:pt x="11137" y="17123"/>
                  <a:pt x="11137" y="17132"/>
                  <a:pt x="11137" y="17140"/>
                </a:cubicBezTo>
              </a:path>
              <a:path w="4093" h="1142">
                <a:moveTo>
                  <a:pt x="11162" y="16842"/>
                </a:moveTo>
                <a:cubicBezTo>
                  <a:pt x="11180" y="16961"/>
                  <a:pt x="11240" y="17068"/>
                  <a:pt x="11261" y="17190"/>
                </a:cubicBezTo>
                <a:cubicBezTo>
                  <a:pt x="11261" y="17206"/>
                  <a:pt x="11261" y="17223"/>
                  <a:pt x="11261" y="17239"/>
                </a:cubicBezTo>
              </a:path>
              <a:path w="4093" h="1142">
                <a:moveTo>
                  <a:pt x="11385" y="16867"/>
                </a:moveTo>
                <a:cubicBezTo>
                  <a:pt x="11399" y="16904"/>
                  <a:pt x="11408" y="17005"/>
                  <a:pt x="11460" y="17016"/>
                </a:cubicBezTo>
                <a:cubicBezTo>
                  <a:pt x="11531" y="17031"/>
                  <a:pt x="11664" y="17000"/>
                  <a:pt x="11683" y="16917"/>
                </a:cubicBezTo>
                <a:cubicBezTo>
                  <a:pt x="11683" y="16892"/>
                  <a:pt x="11683" y="16867"/>
                  <a:pt x="11683" y="16842"/>
                </a:cubicBezTo>
              </a:path>
              <a:path w="4093" h="1142">
                <a:moveTo>
                  <a:pt x="11584" y="16793"/>
                </a:moveTo>
                <a:cubicBezTo>
                  <a:pt x="11616" y="16920"/>
                  <a:pt x="11669" y="17040"/>
                  <a:pt x="11683" y="17165"/>
                </a:cubicBezTo>
                <a:cubicBezTo>
                  <a:pt x="11683" y="17173"/>
                  <a:pt x="11683" y="17182"/>
                  <a:pt x="11683" y="17190"/>
                </a:cubicBezTo>
              </a:path>
              <a:path w="4093" h="1142">
                <a:moveTo>
                  <a:pt x="11683" y="16594"/>
                </a:moveTo>
                <a:cubicBezTo>
                  <a:pt x="11822" y="16742"/>
                  <a:pt x="11999" y="16894"/>
                  <a:pt x="12005" y="17115"/>
                </a:cubicBezTo>
                <a:cubicBezTo>
                  <a:pt x="12009" y="17256"/>
                  <a:pt x="11902" y="17300"/>
                  <a:pt x="11807" y="17363"/>
                </a:cubicBezTo>
              </a:path>
              <a:path w="4093" h="1142">
                <a:moveTo>
                  <a:pt x="12030" y="16594"/>
                </a:moveTo>
                <a:cubicBezTo>
                  <a:pt x="12009" y="16763"/>
                  <a:pt x="11962" y="16869"/>
                  <a:pt x="11981" y="17041"/>
                </a:cubicBezTo>
                <a:cubicBezTo>
                  <a:pt x="12001" y="17223"/>
                  <a:pt x="12071" y="17323"/>
                  <a:pt x="12254" y="17363"/>
                </a:cubicBezTo>
                <a:cubicBezTo>
                  <a:pt x="12306" y="17374"/>
                  <a:pt x="12334" y="17366"/>
                  <a:pt x="12353" y="17338"/>
                </a:cubicBezTo>
              </a:path>
              <a:path w="4093" h="1142">
                <a:moveTo>
                  <a:pt x="12229" y="16867"/>
                </a:moveTo>
                <a:cubicBezTo>
                  <a:pt x="12239" y="16828"/>
                  <a:pt x="12254" y="16802"/>
                  <a:pt x="12278" y="16768"/>
                </a:cubicBezTo>
                <a:cubicBezTo>
                  <a:pt x="12278" y="16896"/>
                  <a:pt x="12290" y="17015"/>
                  <a:pt x="12303" y="17140"/>
                </a:cubicBezTo>
                <a:cubicBezTo>
                  <a:pt x="12303" y="17157"/>
                  <a:pt x="12303" y="17173"/>
                  <a:pt x="12303" y="17190"/>
                </a:cubicBezTo>
              </a:path>
              <a:path w="4093" h="1142">
                <a:moveTo>
                  <a:pt x="12526" y="16768"/>
                </a:moveTo>
                <a:cubicBezTo>
                  <a:pt x="12498" y="16816"/>
                  <a:pt x="12481" y="16907"/>
                  <a:pt x="12502" y="16966"/>
                </a:cubicBezTo>
                <a:cubicBezTo>
                  <a:pt x="12526" y="17036"/>
                  <a:pt x="12646" y="17028"/>
                  <a:pt x="12700" y="17016"/>
                </a:cubicBezTo>
                <a:cubicBezTo>
                  <a:pt x="12740" y="16996"/>
                  <a:pt x="12747" y="16987"/>
                  <a:pt x="12774" y="16991"/>
                </a:cubicBezTo>
              </a:path>
              <a:path w="4093" h="1142">
                <a:moveTo>
                  <a:pt x="12675" y="16743"/>
                </a:moveTo>
                <a:cubicBezTo>
                  <a:pt x="12694" y="16858"/>
                  <a:pt x="12737" y="16973"/>
                  <a:pt x="12750" y="17090"/>
                </a:cubicBezTo>
                <a:cubicBezTo>
                  <a:pt x="12750" y="17148"/>
                  <a:pt x="12750" y="17157"/>
                  <a:pt x="12750" y="17190"/>
                </a:cubicBezTo>
              </a:path>
              <a:path w="4093" h="1142">
                <a:moveTo>
                  <a:pt x="12626" y="16495"/>
                </a:moveTo>
                <a:cubicBezTo>
                  <a:pt x="12818" y="16550"/>
                  <a:pt x="12970" y="16705"/>
                  <a:pt x="13022" y="16917"/>
                </a:cubicBezTo>
                <a:cubicBezTo>
                  <a:pt x="13064" y="17087"/>
                  <a:pt x="12983" y="17224"/>
                  <a:pt x="12849" y="17314"/>
                </a:cubicBezTo>
                <a:cubicBezTo>
                  <a:pt x="12793" y="17341"/>
                  <a:pt x="12777" y="17342"/>
                  <a:pt x="12799" y="1726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6280" y="4017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073" y="11162"/>
                </a:moveTo>
                <a:lnTo>
                  <a:pt x="16073" y="11162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760" y="6375240"/>
            <a:ext cx="1420560" cy="277920"/>
          </a:xfrm>
          <a:custGeom>
            <a:avLst/>
            <a:gdLst/>
            <a:ahLst/>
            <a:rect l="l" t="t" r="r" b="b"/>
            <a:pathLst>
              <a:path w="3945" h="769">
                <a:moveTo>
                  <a:pt x="20315" y="18107"/>
                </a:moveTo>
                <a:cubicBezTo>
                  <a:pt x="20282" y="18129"/>
                  <a:pt x="20261" y="18224"/>
                  <a:pt x="20241" y="18281"/>
                </a:cubicBezTo>
                <a:cubicBezTo>
                  <a:pt x="20382" y="18313"/>
                  <a:pt x="20454" y="18356"/>
                  <a:pt x="20613" y="18331"/>
                </a:cubicBezTo>
                <a:cubicBezTo>
                  <a:pt x="20654" y="18323"/>
                  <a:pt x="20696" y="18314"/>
                  <a:pt x="20737" y="18306"/>
                </a:cubicBezTo>
              </a:path>
              <a:path w="3945" h="769">
                <a:moveTo>
                  <a:pt x="20737" y="17835"/>
                </a:moveTo>
                <a:cubicBezTo>
                  <a:pt x="20703" y="18044"/>
                  <a:pt x="20659" y="18233"/>
                  <a:pt x="20588" y="18430"/>
                </a:cubicBezTo>
                <a:cubicBezTo>
                  <a:pt x="20568" y="18470"/>
                  <a:pt x="20549" y="18486"/>
                  <a:pt x="20588" y="18479"/>
                </a:cubicBezTo>
              </a:path>
              <a:path w="3945" h="769">
                <a:moveTo>
                  <a:pt x="20985" y="17934"/>
                </a:moveTo>
                <a:cubicBezTo>
                  <a:pt x="21061" y="17921"/>
                  <a:pt x="21131" y="17893"/>
                  <a:pt x="21208" y="17884"/>
                </a:cubicBezTo>
                <a:cubicBezTo>
                  <a:pt x="21159" y="18003"/>
                  <a:pt x="21123" y="18045"/>
                  <a:pt x="21010" y="18107"/>
                </a:cubicBezTo>
                <a:cubicBezTo>
                  <a:pt x="21100" y="18107"/>
                  <a:pt x="21220" y="18101"/>
                  <a:pt x="21282" y="18182"/>
                </a:cubicBezTo>
                <a:cubicBezTo>
                  <a:pt x="21375" y="18304"/>
                  <a:pt x="21098" y="18396"/>
                  <a:pt x="21034" y="18405"/>
                </a:cubicBezTo>
                <a:cubicBezTo>
                  <a:pt x="20941" y="18418"/>
                  <a:pt x="20885" y="18410"/>
                  <a:pt x="20886" y="18355"/>
                </a:cubicBezTo>
              </a:path>
              <a:path w="3945" h="769">
                <a:moveTo>
                  <a:pt x="21530" y="18231"/>
                </a:moveTo>
                <a:lnTo>
                  <a:pt x="21530" y="18231"/>
                </a:lnTo>
              </a:path>
              <a:path w="3945" h="769">
                <a:moveTo>
                  <a:pt x="22076" y="17835"/>
                </a:moveTo>
                <a:cubicBezTo>
                  <a:pt x="22076" y="17791"/>
                  <a:pt x="22026" y="17715"/>
                  <a:pt x="21977" y="17711"/>
                </a:cubicBezTo>
                <a:cubicBezTo>
                  <a:pt x="21832" y="17698"/>
                  <a:pt x="21706" y="17875"/>
                  <a:pt x="21654" y="17983"/>
                </a:cubicBezTo>
                <a:cubicBezTo>
                  <a:pt x="21646" y="18008"/>
                  <a:pt x="21638" y="18033"/>
                  <a:pt x="21630" y="18058"/>
                </a:cubicBezTo>
                <a:cubicBezTo>
                  <a:pt x="21756" y="18083"/>
                  <a:pt x="21831" y="18052"/>
                  <a:pt x="21903" y="17934"/>
                </a:cubicBezTo>
                <a:cubicBezTo>
                  <a:pt x="21928" y="17893"/>
                  <a:pt x="21966" y="17830"/>
                  <a:pt x="21977" y="17785"/>
                </a:cubicBezTo>
                <a:cubicBezTo>
                  <a:pt x="21977" y="17913"/>
                  <a:pt x="21983" y="18032"/>
                  <a:pt x="21952" y="18157"/>
                </a:cubicBezTo>
                <a:cubicBezTo>
                  <a:pt x="21937" y="18215"/>
                  <a:pt x="21933" y="18240"/>
                  <a:pt x="21903" y="18281"/>
                </a:cubicBezTo>
              </a:path>
              <a:path w="3945" h="769">
                <a:moveTo>
                  <a:pt x="22275" y="17711"/>
                </a:moveTo>
                <a:cubicBezTo>
                  <a:pt x="22259" y="17824"/>
                  <a:pt x="22210" y="17924"/>
                  <a:pt x="22175" y="18033"/>
                </a:cubicBezTo>
                <a:cubicBezTo>
                  <a:pt x="22143" y="18133"/>
                  <a:pt x="22162" y="18224"/>
                  <a:pt x="22250" y="18281"/>
                </a:cubicBezTo>
                <a:cubicBezTo>
                  <a:pt x="22355" y="18350"/>
                  <a:pt x="22442" y="18260"/>
                  <a:pt x="22498" y="18182"/>
                </a:cubicBezTo>
                <a:cubicBezTo>
                  <a:pt x="22544" y="18111"/>
                  <a:pt x="22560" y="18092"/>
                  <a:pt x="22547" y="18033"/>
                </a:cubicBezTo>
                <a:cubicBezTo>
                  <a:pt x="22513" y="17981"/>
                  <a:pt x="22405" y="18009"/>
                  <a:pt x="22349" y="18058"/>
                </a:cubicBezTo>
                <a:cubicBezTo>
                  <a:pt x="22293" y="18107"/>
                  <a:pt x="22283" y="18166"/>
                  <a:pt x="22275" y="18231"/>
                </a:cubicBezTo>
              </a:path>
              <a:path w="3945" h="769">
                <a:moveTo>
                  <a:pt x="23143" y="17859"/>
                </a:moveTo>
                <a:cubicBezTo>
                  <a:pt x="23161" y="17909"/>
                  <a:pt x="23182" y="17958"/>
                  <a:pt x="23192" y="18008"/>
                </a:cubicBezTo>
                <a:cubicBezTo>
                  <a:pt x="23142" y="17927"/>
                  <a:pt x="23096" y="17857"/>
                  <a:pt x="22994" y="17909"/>
                </a:cubicBezTo>
                <a:cubicBezTo>
                  <a:pt x="22879" y="17967"/>
                  <a:pt x="22788" y="18178"/>
                  <a:pt x="22895" y="18281"/>
                </a:cubicBezTo>
                <a:cubicBezTo>
                  <a:pt x="23048" y="18428"/>
                  <a:pt x="23221" y="18227"/>
                  <a:pt x="23316" y="18132"/>
                </a:cubicBezTo>
              </a:path>
              <a:path w="3945" h="769">
                <a:moveTo>
                  <a:pt x="23465" y="17909"/>
                </a:moveTo>
                <a:cubicBezTo>
                  <a:pt x="23427" y="18023"/>
                  <a:pt x="23416" y="18110"/>
                  <a:pt x="23416" y="18231"/>
                </a:cubicBezTo>
                <a:cubicBezTo>
                  <a:pt x="23416" y="18223"/>
                  <a:pt x="23416" y="18215"/>
                  <a:pt x="23416" y="18207"/>
                </a:cubicBezTo>
                <a:cubicBezTo>
                  <a:pt x="23479" y="18088"/>
                  <a:pt x="23516" y="17962"/>
                  <a:pt x="23639" y="17884"/>
                </a:cubicBezTo>
                <a:cubicBezTo>
                  <a:pt x="23795" y="17785"/>
                  <a:pt x="23825" y="18062"/>
                  <a:pt x="23837" y="18157"/>
                </a:cubicBezTo>
                <a:cubicBezTo>
                  <a:pt x="23837" y="18182"/>
                  <a:pt x="23837" y="18206"/>
                  <a:pt x="23837" y="18231"/>
                </a:cubicBezTo>
                <a:cubicBezTo>
                  <a:pt x="23856" y="18139"/>
                  <a:pt x="23891" y="18043"/>
                  <a:pt x="23937" y="17959"/>
                </a:cubicBezTo>
                <a:cubicBezTo>
                  <a:pt x="23953" y="17934"/>
                  <a:pt x="23970" y="17909"/>
                  <a:pt x="23986" y="17884"/>
                </a:cubicBezTo>
                <a:cubicBezTo>
                  <a:pt x="24115" y="17919"/>
                  <a:pt x="24157" y="18011"/>
                  <a:pt x="24185" y="18157"/>
                </a:cubicBezTo>
                <a:cubicBezTo>
                  <a:pt x="24185" y="18174"/>
                  <a:pt x="24185" y="18190"/>
                  <a:pt x="24185" y="182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81320" y="2178000"/>
            <a:ext cx="142920" cy="260280"/>
          </a:xfrm>
          <a:custGeom>
            <a:avLst/>
            <a:gdLst/>
            <a:ahLst/>
            <a:rect l="l" t="t" r="r" b="b"/>
            <a:pathLst>
              <a:path w="398" h="721">
                <a:moveTo>
                  <a:pt x="11385" y="6176"/>
                </a:moveTo>
                <a:cubicBezTo>
                  <a:pt x="11466" y="6097"/>
                  <a:pt x="11516" y="6038"/>
                  <a:pt x="11633" y="6077"/>
                </a:cubicBezTo>
                <a:cubicBezTo>
                  <a:pt x="11770" y="6123"/>
                  <a:pt x="11628" y="6354"/>
                  <a:pt x="11584" y="6400"/>
                </a:cubicBezTo>
                <a:cubicBezTo>
                  <a:pt x="11559" y="6416"/>
                  <a:pt x="11534" y="6433"/>
                  <a:pt x="11509" y="6449"/>
                </a:cubicBezTo>
                <a:cubicBezTo>
                  <a:pt x="11473" y="6486"/>
                  <a:pt x="11600" y="6419"/>
                  <a:pt x="11683" y="6474"/>
                </a:cubicBezTo>
                <a:cubicBezTo>
                  <a:pt x="11804" y="6554"/>
                  <a:pt x="11698" y="6701"/>
                  <a:pt x="11609" y="6747"/>
                </a:cubicBezTo>
                <a:cubicBezTo>
                  <a:pt x="11492" y="6808"/>
                  <a:pt x="11343" y="6807"/>
                  <a:pt x="11361" y="66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40160" y="2384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055" y="6623"/>
                </a:moveTo>
                <a:lnTo>
                  <a:pt x="12055" y="6623"/>
                </a:lnTo>
                <a:lnTo>
                  <a:pt x="12055" y="6623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64000" y="2224080"/>
            <a:ext cx="28800" cy="150840"/>
          </a:xfrm>
          <a:custGeom>
            <a:avLst/>
            <a:gdLst/>
            <a:ahLst/>
            <a:rect l="l" t="t" r="r" b="b"/>
            <a:pathLst>
              <a:path w="76" h="423">
                <a:moveTo>
                  <a:pt x="12402" y="6176"/>
                </a:moveTo>
                <a:cubicBezTo>
                  <a:pt x="12421" y="6290"/>
                  <a:pt x="12432" y="6411"/>
                  <a:pt x="12452" y="6524"/>
                </a:cubicBezTo>
                <a:cubicBezTo>
                  <a:pt x="12471" y="6581"/>
                  <a:pt x="12480" y="6624"/>
                  <a:pt x="12477" y="65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1360" y="2160720"/>
            <a:ext cx="125640" cy="107640"/>
          </a:xfrm>
          <a:custGeom>
            <a:avLst/>
            <a:gdLst/>
            <a:ahLst/>
            <a:rect l="l" t="t" r="r" b="b"/>
            <a:pathLst>
              <a:path w="348" h="298">
                <a:moveTo>
                  <a:pt x="12725" y="6003"/>
                </a:moveTo>
                <a:cubicBezTo>
                  <a:pt x="12739" y="6087"/>
                  <a:pt x="12768" y="6165"/>
                  <a:pt x="12774" y="6251"/>
                </a:cubicBezTo>
                <a:cubicBezTo>
                  <a:pt x="12774" y="6259"/>
                  <a:pt x="12774" y="6268"/>
                  <a:pt x="12774" y="6276"/>
                </a:cubicBezTo>
                <a:cubicBezTo>
                  <a:pt x="12890" y="6288"/>
                  <a:pt x="12956" y="6287"/>
                  <a:pt x="13072" y="62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05200" y="2089080"/>
            <a:ext cx="9720" cy="250920"/>
          </a:xfrm>
          <a:custGeom>
            <a:avLst/>
            <a:gdLst/>
            <a:ahLst/>
            <a:rect l="l" t="t" r="r" b="b"/>
            <a:pathLst>
              <a:path w="26" h="696">
                <a:moveTo>
                  <a:pt x="13072" y="5804"/>
                </a:moveTo>
                <a:cubicBezTo>
                  <a:pt x="13072" y="5986"/>
                  <a:pt x="13110" y="6169"/>
                  <a:pt x="13097" y="6350"/>
                </a:cubicBezTo>
                <a:cubicBezTo>
                  <a:pt x="13089" y="6400"/>
                  <a:pt x="13080" y="6449"/>
                  <a:pt x="13072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4760" y="2544840"/>
            <a:ext cx="71280" cy="117360"/>
          </a:xfrm>
          <a:custGeom>
            <a:avLst/>
            <a:gdLst/>
            <a:ahLst/>
            <a:rect l="l" t="t" r="r" b="b"/>
            <a:pathLst>
              <a:path w="199" h="324">
                <a:moveTo>
                  <a:pt x="10790" y="7069"/>
                </a:moveTo>
                <a:cubicBezTo>
                  <a:pt x="10838" y="7177"/>
                  <a:pt x="10890" y="7271"/>
                  <a:pt x="10964" y="7367"/>
                </a:cubicBezTo>
                <a:cubicBezTo>
                  <a:pt x="10972" y="7375"/>
                  <a:pt x="10980" y="7384"/>
                  <a:pt x="10988" y="73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02040" y="2527200"/>
            <a:ext cx="90360" cy="1350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11088" y="7020"/>
                </a:moveTo>
                <a:cubicBezTo>
                  <a:pt x="11028" y="7079"/>
                  <a:pt x="10945" y="7251"/>
                  <a:pt x="10889" y="7342"/>
                </a:cubicBezTo>
                <a:cubicBezTo>
                  <a:pt x="10869" y="7382"/>
                  <a:pt x="10871" y="7399"/>
                  <a:pt x="10840" y="73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73720" y="2527200"/>
            <a:ext cx="190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2452" y="7020"/>
                </a:moveTo>
                <a:cubicBezTo>
                  <a:pt x="12465" y="7159"/>
                  <a:pt x="12457" y="7233"/>
                  <a:pt x="12427" y="7367"/>
                </a:cubicBezTo>
                <a:cubicBezTo>
                  <a:pt x="12427" y="7375"/>
                  <a:pt x="12427" y="7384"/>
                  <a:pt x="12427" y="73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06920" y="2509920"/>
            <a:ext cx="125280" cy="1332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12898" y="6970"/>
                </a:moveTo>
                <a:cubicBezTo>
                  <a:pt x="12839" y="7080"/>
                  <a:pt x="12756" y="7205"/>
                  <a:pt x="12849" y="7317"/>
                </a:cubicBezTo>
                <a:cubicBezTo>
                  <a:pt x="12937" y="7424"/>
                  <a:pt x="13098" y="7247"/>
                  <a:pt x="13146" y="7193"/>
                </a:cubicBezTo>
                <a:cubicBezTo>
                  <a:pt x="13044" y="7032"/>
                  <a:pt x="13037" y="7086"/>
                  <a:pt x="12824" y="70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46680" y="2705040"/>
            <a:ext cx="795240" cy="100080"/>
          </a:xfrm>
          <a:custGeom>
            <a:avLst/>
            <a:gdLst/>
            <a:ahLst/>
            <a:rect l="l" t="t" r="r" b="b"/>
            <a:pathLst>
              <a:path w="2208" h="274">
                <a:moveTo>
                  <a:pt x="10964" y="7789"/>
                </a:moveTo>
                <a:cubicBezTo>
                  <a:pt x="11280" y="7709"/>
                  <a:pt x="11582" y="7676"/>
                  <a:pt x="11906" y="7640"/>
                </a:cubicBezTo>
                <a:cubicBezTo>
                  <a:pt x="12293" y="7597"/>
                  <a:pt x="12686" y="7538"/>
                  <a:pt x="13072" y="7516"/>
                </a:cubicBezTo>
                <a:cubicBezTo>
                  <a:pt x="13105" y="7514"/>
                  <a:pt x="13138" y="7516"/>
                  <a:pt x="13171" y="75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2786040"/>
            <a:ext cx="125640" cy="142920"/>
          </a:xfrm>
          <a:custGeom>
            <a:avLst/>
            <a:gdLst/>
            <a:ahLst/>
            <a:rect l="l" t="t" r="r" b="b"/>
            <a:pathLst>
              <a:path w="349" h="398">
                <a:moveTo>
                  <a:pt x="13047" y="7739"/>
                </a:moveTo>
                <a:cubicBezTo>
                  <a:pt x="12945" y="7869"/>
                  <a:pt x="12898" y="7948"/>
                  <a:pt x="12923" y="8111"/>
                </a:cubicBezTo>
                <a:cubicBezTo>
                  <a:pt x="13033" y="8128"/>
                  <a:pt x="13217" y="8118"/>
                  <a:pt x="13246" y="7962"/>
                </a:cubicBezTo>
                <a:cubicBezTo>
                  <a:pt x="13218" y="7878"/>
                  <a:pt x="13199" y="7848"/>
                  <a:pt x="13122" y="78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2080" y="2884320"/>
            <a:ext cx="142920" cy="12564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12402" y="8012"/>
                </a:moveTo>
                <a:cubicBezTo>
                  <a:pt x="12307" y="8051"/>
                  <a:pt x="12270" y="8157"/>
                  <a:pt x="12254" y="8260"/>
                </a:cubicBezTo>
                <a:cubicBezTo>
                  <a:pt x="12254" y="8285"/>
                  <a:pt x="12254" y="8309"/>
                  <a:pt x="12254" y="8334"/>
                </a:cubicBezTo>
                <a:cubicBezTo>
                  <a:pt x="12388" y="8348"/>
                  <a:pt x="12557" y="8253"/>
                  <a:pt x="12626" y="8111"/>
                </a:cubicBezTo>
                <a:cubicBezTo>
                  <a:pt x="12713" y="7933"/>
                  <a:pt x="12282" y="8053"/>
                  <a:pt x="12229" y="806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43240" y="292896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1683" y="8186"/>
                </a:moveTo>
                <a:cubicBezTo>
                  <a:pt x="11648" y="8172"/>
                  <a:pt x="11619" y="8150"/>
                  <a:pt x="11584" y="8136"/>
                </a:cubicBezTo>
                <a:cubicBezTo>
                  <a:pt x="11539" y="8220"/>
                  <a:pt x="11428" y="8428"/>
                  <a:pt x="11559" y="8508"/>
                </a:cubicBezTo>
                <a:cubicBezTo>
                  <a:pt x="11674" y="8578"/>
                  <a:pt x="11906" y="8368"/>
                  <a:pt x="11906" y="8260"/>
                </a:cubicBezTo>
                <a:cubicBezTo>
                  <a:pt x="11906" y="8095"/>
                  <a:pt x="11745" y="8150"/>
                  <a:pt x="11658" y="81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06920" y="3017880"/>
            <a:ext cx="125280" cy="14436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2923" y="8434"/>
                </a:moveTo>
                <a:cubicBezTo>
                  <a:pt x="12923" y="8349"/>
                  <a:pt x="12849" y="8477"/>
                  <a:pt x="12824" y="8558"/>
                </a:cubicBezTo>
                <a:cubicBezTo>
                  <a:pt x="12802" y="8666"/>
                  <a:pt x="12789" y="8692"/>
                  <a:pt x="12824" y="8756"/>
                </a:cubicBezTo>
                <a:cubicBezTo>
                  <a:pt x="13027" y="8769"/>
                  <a:pt x="13074" y="8719"/>
                  <a:pt x="13146" y="8533"/>
                </a:cubicBezTo>
                <a:cubicBezTo>
                  <a:pt x="13010" y="8445"/>
                  <a:pt x="12995" y="8457"/>
                  <a:pt x="12824" y="84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46720" y="3098880"/>
            <a:ext cx="125280" cy="6336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12353" y="8607"/>
                </a:moveTo>
                <a:cubicBezTo>
                  <a:pt x="12353" y="8657"/>
                  <a:pt x="12330" y="8748"/>
                  <a:pt x="12378" y="8781"/>
                </a:cubicBezTo>
                <a:cubicBezTo>
                  <a:pt x="12454" y="8834"/>
                  <a:pt x="12647" y="8763"/>
                  <a:pt x="12700" y="8706"/>
                </a:cubicBezTo>
                <a:cubicBezTo>
                  <a:pt x="12700" y="8698"/>
                  <a:pt x="12700" y="8690"/>
                  <a:pt x="12700" y="86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1000" y="3062160"/>
            <a:ext cx="27000" cy="1890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2551" y="8508"/>
                </a:moveTo>
                <a:cubicBezTo>
                  <a:pt x="12537" y="8663"/>
                  <a:pt x="12540" y="8827"/>
                  <a:pt x="12502" y="8979"/>
                </a:cubicBezTo>
                <a:cubicBezTo>
                  <a:pt x="12494" y="8996"/>
                  <a:pt x="12485" y="9012"/>
                  <a:pt x="12477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32160" y="3152880"/>
            <a:ext cx="19080" cy="142920"/>
          </a:xfrm>
          <a:custGeom>
            <a:avLst/>
            <a:gdLst/>
            <a:ahLst/>
            <a:rect l="l" t="t" r="r" b="b"/>
            <a:pathLst>
              <a:path w="51" h="398">
                <a:moveTo>
                  <a:pt x="11757" y="8756"/>
                </a:moveTo>
                <a:cubicBezTo>
                  <a:pt x="11776" y="8870"/>
                  <a:pt x="11794" y="8987"/>
                  <a:pt x="11807" y="9103"/>
                </a:cubicBezTo>
                <a:cubicBezTo>
                  <a:pt x="11807" y="9148"/>
                  <a:pt x="11810" y="9168"/>
                  <a:pt x="11782" y="91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38760" y="3106800"/>
            <a:ext cx="160200" cy="19836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10988" y="8682"/>
                </a:moveTo>
                <a:cubicBezTo>
                  <a:pt x="11062" y="8626"/>
                  <a:pt x="11145" y="8632"/>
                  <a:pt x="11237" y="8657"/>
                </a:cubicBezTo>
                <a:cubicBezTo>
                  <a:pt x="11373" y="8694"/>
                  <a:pt x="11184" y="8848"/>
                  <a:pt x="11137" y="8880"/>
                </a:cubicBezTo>
                <a:cubicBezTo>
                  <a:pt x="11121" y="8888"/>
                  <a:pt x="11104" y="8897"/>
                  <a:pt x="11088" y="8905"/>
                </a:cubicBezTo>
                <a:cubicBezTo>
                  <a:pt x="11181" y="8889"/>
                  <a:pt x="11312" y="8800"/>
                  <a:pt x="11385" y="8905"/>
                </a:cubicBezTo>
                <a:cubicBezTo>
                  <a:pt x="11480" y="9040"/>
                  <a:pt x="11152" y="9167"/>
                  <a:pt x="11088" y="9178"/>
                </a:cubicBezTo>
                <a:cubicBezTo>
                  <a:pt x="11038" y="9178"/>
                  <a:pt x="10989" y="9178"/>
                  <a:pt x="10939" y="917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48040" y="3259080"/>
            <a:ext cx="903240" cy="115920"/>
          </a:xfrm>
          <a:custGeom>
            <a:avLst/>
            <a:gdLst/>
            <a:ahLst/>
            <a:rect l="l" t="t" r="r" b="b"/>
            <a:pathLst>
              <a:path w="2506" h="323">
                <a:moveTo>
                  <a:pt x="10691" y="9376"/>
                </a:moveTo>
                <a:cubicBezTo>
                  <a:pt x="11363" y="9294"/>
                  <a:pt x="12029" y="9165"/>
                  <a:pt x="12700" y="9079"/>
                </a:cubicBezTo>
                <a:cubicBezTo>
                  <a:pt x="12868" y="9058"/>
                  <a:pt x="13029" y="9054"/>
                  <a:pt x="13196" y="90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0880" y="4330800"/>
            <a:ext cx="187200" cy="18720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4858" y="12129"/>
                </a:moveTo>
                <a:cubicBezTo>
                  <a:pt x="14947" y="12108"/>
                  <a:pt x="14996" y="12045"/>
                  <a:pt x="15106" y="12030"/>
                </a:cubicBezTo>
                <a:cubicBezTo>
                  <a:pt x="15196" y="12030"/>
                  <a:pt x="15222" y="12023"/>
                  <a:pt x="15255" y="12080"/>
                </a:cubicBezTo>
                <a:cubicBezTo>
                  <a:pt x="15231" y="12188"/>
                  <a:pt x="15177" y="12256"/>
                  <a:pt x="15056" y="12278"/>
                </a:cubicBezTo>
                <a:cubicBezTo>
                  <a:pt x="14998" y="12278"/>
                  <a:pt x="14990" y="12278"/>
                  <a:pt x="14957" y="12278"/>
                </a:cubicBezTo>
                <a:cubicBezTo>
                  <a:pt x="15055" y="12230"/>
                  <a:pt x="15178" y="12247"/>
                  <a:pt x="15280" y="12303"/>
                </a:cubicBezTo>
                <a:cubicBezTo>
                  <a:pt x="15418" y="12379"/>
                  <a:pt x="15277" y="12529"/>
                  <a:pt x="15180" y="12551"/>
                </a:cubicBezTo>
                <a:cubicBezTo>
                  <a:pt x="15062" y="12578"/>
                  <a:pt x="14905" y="12541"/>
                  <a:pt x="14808" y="124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9720" y="443880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5528" y="12328"/>
                </a:moveTo>
                <a:cubicBezTo>
                  <a:pt x="15536" y="12328"/>
                  <a:pt x="15545" y="12328"/>
                  <a:pt x="15553" y="123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3080" y="4321080"/>
            <a:ext cx="61920" cy="1447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15701" y="12005"/>
                </a:moveTo>
                <a:cubicBezTo>
                  <a:pt x="15782" y="12070"/>
                  <a:pt x="15815" y="12195"/>
                  <a:pt x="15850" y="12303"/>
                </a:cubicBezTo>
                <a:cubicBezTo>
                  <a:pt x="15869" y="12361"/>
                  <a:pt x="15878" y="12367"/>
                  <a:pt x="15875" y="124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23000" y="4340160"/>
            <a:ext cx="133200" cy="71640"/>
          </a:xfrm>
          <a:custGeom>
            <a:avLst/>
            <a:gdLst/>
            <a:ahLst/>
            <a:rect l="l" t="t" r="r" b="b"/>
            <a:pathLst>
              <a:path w="373" h="200">
                <a:moveTo>
                  <a:pt x="16173" y="12055"/>
                </a:moveTo>
                <a:cubicBezTo>
                  <a:pt x="16173" y="12107"/>
                  <a:pt x="16167" y="12173"/>
                  <a:pt x="16222" y="12204"/>
                </a:cubicBezTo>
                <a:cubicBezTo>
                  <a:pt x="16301" y="12248"/>
                  <a:pt x="16398" y="12275"/>
                  <a:pt x="16495" y="12254"/>
                </a:cubicBezTo>
                <a:cubicBezTo>
                  <a:pt x="16536" y="12234"/>
                  <a:pt x="16552" y="12236"/>
                  <a:pt x="16545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84920" y="4259160"/>
            <a:ext cx="71280" cy="223920"/>
          </a:xfrm>
          <a:custGeom>
            <a:avLst/>
            <a:gdLst/>
            <a:ahLst/>
            <a:rect l="l" t="t" r="r" b="b"/>
            <a:pathLst>
              <a:path w="200" h="621">
                <a:moveTo>
                  <a:pt x="16346" y="11832"/>
                </a:moveTo>
                <a:cubicBezTo>
                  <a:pt x="16375" y="11990"/>
                  <a:pt x="16449" y="12146"/>
                  <a:pt x="16495" y="12303"/>
                </a:cubicBezTo>
                <a:cubicBezTo>
                  <a:pt x="16516" y="12387"/>
                  <a:pt x="16518" y="12406"/>
                  <a:pt x="16545" y="124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41960" y="4626000"/>
            <a:ext cx="125280" cy="106200"/>
          </a:xfrm>
          <a:custGeom>
            <a:avLst/>
            <a:gdLst/>
            <a:ahLst/>
            <a:rect l="l" t="t" r="r" b="b"/>
            <a:pathLst>
              <a:path w="349" h="298">
                <a:moveTo>
                  <a:pt x="14560" y="12874"/>
                </a:moveTo>
                <a:cubicBezTo>
                  <a:pt x="14668" y="12874"/>
                  <a:pt x="14797" y="12995"/>
                  <a:pt x="14883" y="13097"/>
                </a:cubicBezTo>
                <a:cubicBezTo>
                  <a:pt x="14891" y="13113"/>
                  <a:pt x="14900" y="13130"/>
                  <a:pt x="14908" y="131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86240" y="4606920"/>
            <a:ext cx="44640" cy="14436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14808" y="12799"/>
                </a:moveTo>
                <a:cubicBezTo>
                  <a:pt x="14794" y="12835"/>
                  <a:pt x="14646" y="13177"/>
                  <a:pt x="14684" y="13196"/>
                </a:cubicBezTo>
                <a:cubicBezTo>
                  <a:pt x="14692" y="13188"/>
                  <a:pt x="14701" y="13179"/>
                  <a:pt x="14709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4572000"/>
            <a:ext cx="13500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5875" y="12725"/>
                </a:moveTo>
                <a:cubicBezTo>
                  <a:pt x="15961" y="12713"/>
                  <a:pt x="16035" y="12700"/>
                  <a:pt x="16123" y="12700"/>
                </a:cubicBezTo>
                <a:cubicBezTo>
                  <a:pt x="16104" y="12815"/>
                  <a:pt x="16046" y="12861"/>
                  <a:pt x="15949" y="12923"/>
                </a:cubicBezTo>
                <a:cubicBezTo>
                  <a:pt x="15909" y="12943"/>
                  <a:pt x="15903" y="12952"/>
                  <a:pt x="15875" y="12948"/>
                </a:cubicBezTo>
                <a:cubicBezTo>
                  <a:pt x="15983" y="12995"/>
                  <a:pt x="16088" y="12939"/>
                  <a:pt x="16197" y="12948"/>
                </a:cubicBezTo>
                <a:cubicBezTo>
                  <a:pt x="16214" y="12956"/>
                  <a:pt x="16230" y="12965"/>
                  <a:pt x="16247" y="129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11920" y="4562640"/>
            <a:ext cx="115920" cy="90360"/>
          </a:xfrm>
          <a:custGeom>
            <a:avLst/>
            <a:gdLst/>
            <a:ahLst/>
            <a:rect l="l" t="t" r="r" b="b"/>
            <a:pathLst>
              <a:path w="323" h="249">
                <a:moveTo>
                  <a:pt x="16545" y="12675"/>
                </a:moveTo>
                <a:cubicBezTo>
                  <a:pt x="16488" y="12766"/>
                  <a:pt x="16447" y="12791"/>
                  <a:pt x="16470" y="12898"/>
                </a:cubicBezTo>
                <a:cubicBezTo>
                  <a:pt x="16591" y="12917"/>
                  <a:pt x="16663" y="12917"/>
                  <a:pt x="16743" y="12824"/>
                </a:cubicBezTo>
                <a:cubicBezTo>
                  <a:pt x="16642" y="12753"/>
                  <a:pt x="16549" y="12737"/>
                  <a:pt x="16421" y="127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70320" y="4724280"/>
            <a:ext cx="946440" cy="88920"/>
          </a:xfrm>
          <a:custGeom>
            <a:avLst/>
            <a:gdLst/>
            <a:ahLst/>
            <a:rect l="l" t="t" r="r" b="b"/>
            <a:pathLst>
              <a:path w="2630" h="249">
                <a:moveTo>
                  <a:pt x="14362" y="13370"/>
                </a:moveTo>
                <a:cubicBezTo>
                  <a:pt x="14578" y="13334"/>
                  <a:pt x="14782" y="13291"/>
                  <a:pt x="15007" y="13271"/>
                </a:cubicBezTo>
                <a:cubicBezTo>
                  <a:pt x="15431" y="13233"/>
                  <a:pt x="15849" y="13217"/>
                  <a:pt x="16272" y="13171"/>
                </a:cubicBezTo>
                <a:cubicBezTo>
                  <a:pt x="16502" y="13146"/>
                  <a:pt x="16734" y="13122"/>
                  <a:pt x="16966" y="13122"/>
                </a:cubicBezTo>
                <a:cubicBezTo>
                  <a:pt x="16974" y="13122"/>
                  <a:pt x="16983" y="13122"/>
                  <a:pt x="16991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00840" y="4795920"/>
            <a:ext cx="108000" cy="115920"/>
          </a:xfrm>
          <a:custGeom>
            <a:avLst/>
            <a:gdLst/>
            <a:ahLst/>
            <a:rect l="l" t="t" r="r" b="b"/>
            <a:pathLst>
              <a:path w="298" h="324">
                <a:moveTo>
                  <a:pt x="16892" y="13320"/>
                </a:moveTo>
                <a:cubicBezTo>
                  <a:pt x="16809" y="13339"/>
                  <a:pt x="16680" y="13413"/>
                  <a:pt x="16669" y="13519"/>
                </a:cubicBezTo>
                <a:cubicBezTo>
                  <a:pt x="16654" y="13656"/>
                  <a:pt x="16862" y="13676"/>
                  <a:pt x="16942" y="13618"/>
                </a:cubicBezTo>
                <a:cubicBezTo>
                  <a:pt x="17014" y="13565"/>
                  <a:pt x="16945" y="13429"/>
                  <a:pt x="16892" y="13395"/>
                </a:cubicBezTo>
                <a:cubicBezTo>
                  <a:pt x="16867" y="13387"/>
                  <a:pt x="16843" y="13378"/>
                  <a:pt x="16818" y="133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03920" y="4840200"/>
            <a:ext cx="117360" cy="125640"/>
          </a:xfrm>
          <a:custGeom>
            <a:avLst/>
            <a:gdLst/>
            <a:ahLst/>
            <a:rect l="l" t="t" r="r" b="b"/>
            <a:pathLst>
              <a:path w="324" h="348">
                <a:moveTo>
                  <a:pt x="16247" y="13444"/>
                </a:moveTo>
                <a:cubicBezTo>
                  <a:pt x="16228" y="13522"/>
                  <a:pt x="16126" y="13548"/>
                  <a:pt x="16123" y="13643"/>
                </a:cubicBezTo>
                <a:cubicBezTo>
                  <a:pt x="16118" y="13802"/>
                  <a:pt x="16300" y="13804"/>
                  <a:pt x="16396" y="13742"/>
                </a:cubicBezTo>
                <a:cubicBezTo>
                  <a:pt x="16515" y="13665"/>
                  <a:pt x="16443" y="13551"/>
                  <a:pt x="16346" y="13519"/>
                </a:cubicBezTo>
                <a:cubicBezTo>
                  <a:pt x="16313" y="13511"/>
                  <a:pt x="16280" y="13502"/>
                  <a:pt x="16247" y="1349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18080" y="488484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15503" y="13618"/>
                </a:moveTo>
                <a:cubicBezTo>
                  <a:pt x="15511" y="13610"/>
                  <a:pt x="15520" y="13601"/>
                  <a:pt x="15528" y="13593"/>
                </a:cubicBezTo>
                <a:cubicBezTo>
                  <a:pt x="15521" y="13571"/>
                  <a:pt x="15466" y="13542"/>
                  <a:pt x="15429" y="13568"/>
                </a:cubicBezTo>
                <a:cubicBezTo>
                  <a:pt x="15361" y="13614"/>
                  <a:pt x="15249" y="13806"/>
                  <a:pt x="15379" y="13866"/>
                </a:cubicBezTo>
                <a:cubicBezTo>
                  <a:pt x="15484" y="13915"/>
                  <a:pt x="15635" y="13824"/>
                  <a:pt x="15627" y="13717"/>
                </a:cubicBezTo>
                <a:cubicBezTo>
                  <a:pt x="15619" y="13617"/>
                  <a:pt x="15552" y="13557"/>
                  <a:pt x="15453" y="13593"/>
                </a:cubicBezTo>
                <a:cubicBezTo>
                  <a:pt x="15445" y="13601"/>
                  <a:pt x="15437" y="13610"/>
                  <a:pt x="15429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ccps</cp:lastModifiedBy>
  <dcterms:modified xsi:type="dcterms:W3CDTF">2010-02-23T18:41:23Z</dcterms:modified>
  <cp:revision>23</cp:revision>
  <dc:subject/>
  <dc:title>Unit 6: Geometry</dc:title>
</cp:coreProperties>
</file>